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NGLESA%20-%20Sarah%20Brightman%20-%20LA%20CALIFFA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BB2-0A2B-4F23-8D19-3360F7B7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175-17A2-4BE4-86E8-5A92269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0E8-D574-403D-87D2-A24B5C1A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653-7F28-4DF4-8C49-4E1FFCFD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65A-3872-467E-AED0-FD2C26A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18F-A3A5-4FBC-AFB2-DE203477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6F0-1BAF-49CF-8A05-127CE1BB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8A4-B6F1-4224-A50B-B41A41CC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CC4-B17F-40A9-A30D-033A766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072-9651-4797-89C2-5151FA7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1EB-95B9-4ADD-BD4B-C2F199D6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D90-06D1-43F0-A7D8-7CB31F1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84B2-1B1C-45D6-BE13-091803DC0D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INGLESA%20-%20Sarah%20Brightman%20-%20LA%20CALIFF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5909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ntsyPants"/>
              </a:rPr>
              <a:t>Amizade??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1219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tsyPants"/>
              </a:rPr>
              <a:t>Você sabe o valor de u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49816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5029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67080" y="5334120"/>
            <a:ext cx="5335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80880" y="533520"/>
            <a:ext cx="4419720" cy="5867280"/>
            <a:chOff x="380880" y="533520"/>
            <a:chExt cx="4419720" cy="5867280"/>
          </a:xfrm>
        </p:grpSpPr>
        <p:sp>
          <p:nvSpPr>
            <p:cNvPr id="171" name=""/>
            <p:cNvSpPr/>
            <p:nvPr/>
          </p:nvSpPr>
          <p:spPr>
            <a:xfrm>
              <a:off x="380880" y="5335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533520"/>
              <a:ext cx="4419720" cy="58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Como imaginei, a sala de espera estava repleta de familiares que os consolavam. Entrei sem fazer ruído e fiquei junto à porta pensando o que deveria fazer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Não demorou muito e surgiu um médico que se aproximou do casal e, em voz baixa, comunica o falecimento do bebê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248520" y="20098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94360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7816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553080" y="23623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7162920" y="1828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620120" y="1828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8001000" y="2133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8077320" y="2514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8001000" y="2895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7772400" y="3276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7543800" y="35812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6858000" y="4114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51814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5105520" y="2467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5257800" y="2924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5486400" y="3352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5791320" y="37339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>
            <a:off x="6172200" y="4067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6477120" y="44197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"/>
          <a:stretch/>
        </p:blipFill>
        <p:spPr>
          <a:xfrm>
            <a:off x="548640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7238880" y="388620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2f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09480" y="152280"/>
            <a:ext cx="4343400" cy="3505320"/>
            <a:chOff x="609480" y="152280"/>
            <a:chExt cx="4343400" cy="3505320"/>
          </a:xfrm>
        </p:grpSpPr>
        <p:sp>
          <p:nvSpPr>
            <p:cNvPr id="195" name=""/>
            <p:cNvSpPr/>
            <p:nvPr/>
          </p:nvSpPr>
          <p:spPr>
            <a:xfrm>
              <a:off x="609480" y="152280"/>
              <a:ext cx="4343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480" y="152280"/>
              <a:ext cx="434340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Durante os instantes que ficaram abraçados, a mim pareceu uma eternidade, choravam, enquanto todos os demais ficaram ao redor daquele silêncio de dor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09480" y="510552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 médico lhes perguntou se desejariam ficar alguns instantes com a crianç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553080" y="377208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400800" y="4856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0958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9343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705720" y="8380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731520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777240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8153280" y="609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8229600" y="990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8153280" y="1371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792468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76960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7010280" y="2590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53341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5"/>
          <a:stretch/>
        </p:blipFill>
        <p:spPr>
          <a:xfrm>
            <a:off x="5257800" y="9428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6"/>
          <a:stretch/>
        </p:blipFill>
        <p:spPr>
          <a:xfrm>
            <a:off x="5410080" y="14000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7"/>
          <a:stretch/>
        </p:blipFill>
        <p:spPr>
          <a:xfrm>
            <a:off x="5638680" y="1828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8"/>
          <a:stretch/>
        </p:blipFill>
        <p:spPr>
          <a:xfrm>
            <a:off x="5943600" y="2209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9"/>
          <a:stretch/>
        </p:blipFill>
        <p:spPr>
          <a:xfrm>
            <a:off x="6324480" y="25430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0"/>
          <a:stretch/>
        </p:blipFill>
        <p:spPr>
          <a:xfrm>
            <a:off x="6629400" y="2895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1"/>
          <a:stretch/>
        </p:blipFill>
        <p:spPr>
          <a:xfrm>
            <a:off x="56386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2"/>
          <a:stretch/>
        </p:blipFill>
        <p:spPr>
          <a:xfrm>
            <a:off x="7391520" y="236232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809880" y="304920"/>
            <a:ext cx="5105520" cy="6400800"/>
            <a:chOff x="3809880" y="304920"/>
            <a:chExt cx="5105520" cy="6400800"/>
          </a:xfrm>
        </p:grpSpPr>
        <p:sp>
          <p:nvSpPr>
            <p:cNvPr id="221" name=""/>
            <p:cNvSpPr/>
            <p:nvPr/>
          </p:nvSpPr>
          <p:spPr>
            <a:xfrm>
              <a:off x="3809880" y="30492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304920"/>
              <a:ext cx="5105520" cy="64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Meus amigos ficaram de pé e encaminharam-se resignadamente até a porta.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Ao me ver ali, aquela mãe me abraçou e começou a chorar. Também meu amigo se refugiou em meus braços e me disse: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"Muito Obrigado por estar aqui!"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00200" y="3691080"/>
            <a:ext cx="609480" cy="57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3880" y="4608360"/>
            <a:ext cx="685800" cy="649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066680" y="200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1905120" y="50472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1676520" y="80964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2286000" y="2761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2743200" y="2761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3124080" y="5810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3200400" y="9619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3124080" y="1343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895480" y="17240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2666880" y="20289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1981080" y="25621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304920" y="50472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228600" y="914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7"/>
          <a:stretch/>
        </p:blipFill>
        <p:spPr>
          <a:xfrm>
            <a:off x="380880" y="1371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8"/>
          <a:stretch/>
        </p:blipFill>
        <p:spPr>
          <a:xfrm>
            <a:off x="609480" y="18003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9"/>
          <a:stretch/>
        </p:blipFill>
        <p:spPr>
          <a:xfrm>
            <a:off x="914400" y="21812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0"/>
          <a:stretch/>
        </p:blipFill>
        <p:spPr>
          <a:xfrm>
            <a:off x="1295280" y="2514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1"/>
          <a:stretch/>
        </p:blipFill>
        <p:spPr>
          <a:xfrm>
            <a:off x="1600200" y="28670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2"/>
          <a:stretch/>
        </p:blipFill>
        <p:spPr>
          <a:xfrm>
            <a:off x="609480" y="200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3"/>
          <a:stretch/>
        </p:blipFill>
        <p:spPr>
          <a:xfrm>
            <a:off x="2362320" y="2333520"/>
            <a:ext cx="5331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533520" y="152280"/>
            <a:ext cx="5181480" cy="6477120"/>
            <a:chOff x="533520" y="152280"/>
            <a:chExt cx="5181480" cy="6477120"/>
          </a:xfrm>
        </p:grpSpPr>
        <p:sp>
          <p:nvSpPr>
            <p:cNvPr id="247" name=""/>
            <p:cNvSpPr/>
            <p:nvPr/>
          </p:nvSpPr>
          <p:spPr>
            <a:xfrm>
              <a:off x="533520" y="15228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152280"/>
              <a:ext cx="5181480" cy="64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Durante o resto da manhã fiquei sentado na sala de emergências do hospital, vendo meu amigo e sua esposa segurar nos braços seu bebê, despedindo-se dele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Isso foi o mais importante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que já fiz na minha vida!!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Aquela experiência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me deixou três liçõ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553080" y="3614760"/>
            <a:ext cx="60984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553080" y="53341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324480" y="4856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6019920" y="228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6858000" y="5335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6629400" y="8380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723888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769608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8077320" y="6094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8153280" y="990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8077320" y="1371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7848720" y="17524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4"/>
          <a:stretch/>
        </p:blipFill>
        <p:spPr>
          <a:xfrm>
            <a:off x="7620120" y="20574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5"/>
          <a:stretch/>
        </p:blipFill>
        <p:spPr>
          <a:xfrm>
            <a:off x="6934320" y="25909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6"/>
          <a:stretch/>
        </p:blipFill>
        <p:spPr>
          <a:xfrm>
            <a:off x="5257800" y="5335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7"/>
          <a:stretch/>
        </p:blipFill>
        <p:spPr>
          <a:xfrm>
            <a:off x="5181480" y="9428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8"/>
          <a:stretch/>
        </p:blipFill>
        <p:spPr>
          <a:xfrm>
            <a:off x="5334120" y="140004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9"/>
          <a:stretch/>
        </p:blipFill>
        <p:spPr>
          <a:xfrm>
            <a:off x="5562720" y="1828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0"/>
          <a:stretch/>
        </p:blipFill>
        <p:spPr>
          <a:xfrm>
            <a:off x="5867280" y="2209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1"/>
          <a:stretch/>
        </p:blipFill>
        <p:spPr>
          <a:xfrm>
            <a:off x="6248520" y="254304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2"/>
          <a:stretch/>
        </p:blipFill>
        <p:spPr>
          <a:xfrm>
            <a:off x="6553080" y="2895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3"/>
          <a:stretch/>
        </p:blipFill>
        <p:spPr>
          <a:xfrm>
            <a:off x="5562720" y="228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4"/>
          <a:stretch/>
        </p:blipFill>
        <p:spPr>
          <a:xfrm>
            <a:off x="7315200" y="236232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57200" y="228600"/>
            <a:ext cx="6477120" cy="6400800"/>
            <a:chOff x="457200" y="228600"/>
            <a:chExt cx="6477120" cy="6400800"/>
          </a:xfrm>
        </p:grpSpPr>
        <p:sp>
          <p:nvSpPr>
            <p:cNvPr id="274" name=""/>
            <p:cNvSpPr/>
            <p:nvPr/>
          </p:nvSpPr>
          <p:spPr>
            <a:xfrm>
              <a:off x="457200" y="2286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228600"/>
              <a:ext cx="6477120" cy="64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Primeira:</a:t>
              </a: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 o mai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importante que fiz n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vida, ocorreu quando não havi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absolutamente nada, nada qu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eu pudesse fazer. Nada daquilo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que aprendi na universidade,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nem nos anos em que exerci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a minha profissão, nem todo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o racional que utilizei par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analisar a situação e decidir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o que eu deveria fazer, me serviu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para aquela circunstância: dua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pessoas receberem uma desgraç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e nada eu poderia fazer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para remediar.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629400" y="3691080"/>
            <a:ext cx="609480" cy="576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685800" cy="650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629400" y="560088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09480" y="5335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400800" y="4856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60958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9343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705720" y="8380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731520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777240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8153280" y="609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8229600" y="990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8153280" y="1371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4"/>
          <a:stretch/>
        </p:blipFill>
        <p:spPr>
          <a:xfrm>
            <a:off x="792468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5"/>
          <a:stretch/>
        </p:blipFill>
        <p:spPr>
          <a:xfrm>
            <a:off x="76960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7010280" y="2590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53341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8"/>
          <a:stretch/>
        </p:blipFill>
        <p:spPr>
          <a:xfrm>
            <a:off x="5257800" y="9428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9"/>
          <a:stretch/>
        </p:blipFill>
        <p:spPr>
          <a:xfrm>
            <a:off x="5410080" y="14000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0"/>
          <a:stretch/>
        </p:blipFill>
        <p:spPr>
          <a:xfrm>
            <a:off x="5638680" y="1828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1"/>
          <a:stretch/>
        </p:blipFill>
        <p:spPr>
          <a:xfrm>
            <a:off x="5943600" y="2209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2"/>
          <a:stretch/>
        </p:blipFill>
        <p:spPr>
          <a:xfrm>
            <a:off x="6324480" y="25430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3"/>
          <a:stretch/>
        </p:blipFill>
        <p:spPr>
          <a:xfrm>
            <a:off x="6629400" y="2895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4"/>
          <a:stretch/>
        </p:blipFill>
        <p:spPr>
          <a:xfrm>
            <a:off x="56386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5"/>
          <a:stretch/>
        </p:blipFill>
        <p:spPr>
          <a:xfrm>
            <a:off x="7391520" y="236232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3352680" y="457200"/>
            <a:ext cx="5410440" cy="5943600"/>
            <a:chOff x="3352680" y="457200"/>
            <a:chExt cx="5410440" cy="5943600"/>
          </a:xfrm>
        </p:grpSpPr>
        <p:sp>
          <p:nvSpPr>
            <p:cNvPr id="302" name=""/>
            <p:cNvSpPr/>
            <p:nvPr/>
          </p:nvSpPr>
          <p:spPr>
            <a:xfrm>
              <a:off x="3352680" y="457200"/>
              <a:ext cx="541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457200"/>
              <a:ext cx="541044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A única coisa que poderi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fazer era esperar e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acompanhá-los. Isto era 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principal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1" lang="pt-BR" sz="3000" spc="-1" strike="noStrike">
                  <a:solidFill>
                    <a:srgbClr val="ffffff"/>
                  </a:solidFill>
                  <a:latin typeface="Tahoma"/>
                </a:rPr>
                <a:t>Segunda: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esto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convencido que o mais importante que já fiz na minha vida, esteve a ponto de não ocorrer, devido às coisas que aprendi na universidade, aos conceitos do racional que aplicava na minh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vida pessoal, assim com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faço  na profissional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3880" y="3614760"/>
            <a:ext cx="609840" cy="576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447920" y="4605480"/>
            <a:ext cx="609480" cy="576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371600" y="5446800"/>
            <a:ext cx="685800" cy="649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3657600" y="2209680"/>
            <a:ext cx="762120" cy="720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129528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990720" y="2001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1828800" y="5047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1600200" y="8096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9"/>
          <a:stretch/>
        </p:blipFill>
        <p:spPr>
          <a:xfrm>
            <a:off x="2209680" y="2761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0"/>
          <a:stretch/>
        </p:blipFill>
        <p:spPr>
          <a:xfrm>
            <a:off x="2666880" y="2761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3048120" y="58104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2"/>
          <a:stretch/>
        </p:blipFill>
        <p:spPr>
          <a:xfrm>
            <a:off x="3124080" y="9619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3"/>
          <a:stretch/>
        </p:blipFill>
        <p:spPr>
          <a:xfrm>
            <a:off x="3048120" y="13431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4"/>
          <a:stretch/>
        </p:blipFill>
        <p:spPr>
          <a:xfrm>
            <a:off x="2819520" y="172404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5"/>
          <a:stretch/>
        </p:blipFill>
        <p:spPr>
          <a:xfrm>
            <a:off x="2590920" y="20289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6"/>
          <a:stretch/>
        </p:blipFill>
        <p:spPr>
          <a:xfrm>
            <a:off x="1905120" y="256212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7"/>
          <a:stretch/>
        </p:blipFill>
        <p:spPr>
          <a:xfrm>
            <a:off x="228600" y="5047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8"/>
          <a:stretch/>
        </p:blipFill>
        <p:spPr>
          <a:xfrm>
            <a:off x="152280" y="914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9"/>
          <a:stretch/>
        </p:blipFill>
        <p:spPr>
          <a:xfrm>
            <a:off x="304920" y="1371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0"/>
          <a:stretch/>
        </p:blipFill>
        <p:spPr>
          <a:xfrm>
            <a:off x="533520" y="18003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1"/>
          <a:stretch/>
        </p:blipFill>
        <p:spPr>
          <a:xfrm>
            <a:off x="838080" y="21812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2"/>
          <a:stretch/>
        </p:blipFill>
        <p:spPr>
          <a:xfrm>
            <a:off x="1219320" y="2514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3"/>
          <a:stretch/>
        </p:blipFill>
        <p:spPr>
          <a:xfrm>
            <a:off x="1523880" y="28670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4"/>
          <a:stretch/>
        </p:blipFill>
        <p:spPr>
          <a:xfrm>
            <a:off x="533520" y="2001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5"/>
          <a:stretch/>
        </p:blipFill>
        <p:spPr>
          <a:xfrm>
            <a:off x="2286000" y="2333520"/>
            <a:ext cx="5335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905120" y="838080"/>
            <a:ext cx="7238520" cy="3810240"/>
            <a:chOff x="1905120" y="838080"/>
            <a:chExt cx="7238520" cy="3810240"/>
          </a:xfrm>
        </p:grpSpPr>
        <p:sp>
          <p:nvSpPr>
            <p:cNvPr id="330" name=""/>
            <p:cNvSpPr/>
            <p:nvPr/>
          </p:nvSpPr>
          <p:spPr>
            <a:xfrm>
              <a:off x="1905120" y="838080"/>
              <a:ext cx="7238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5120" y="838080"/>
              <a:ext cx="723852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Tahoma"/>
                </a:rPr>
                <a:t>             </a:t>
              </a: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Ao aprender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           </a:t>
              </a: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a pensar,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quase me esqueci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pt-BR" sz="4400" spc="-1" strike="noStrike">
                  <a:solidFill>
                    <a:srgbClr val="ffffff"/>
                  </a:solidFill>
                  <a:latin typeface="Tahoma"/>
                </a:rPr>
                <a:t>de sentir.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743200" y="472428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je, não tenho dúvida alguma de que devia ter subido naquele carro sem vacilar e acompanhar meu amigo ao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600200" y="353844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523880" y="453384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447920" y="5451480"/>
            <a:ext cx="76176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371600" y="4856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10666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19051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1676520" y="8380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228600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274320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0"/>
          <a:stretch/>
        </p:blipFill>
        <p:spPr>
          <a:xfrm>
            <a:off x="3124080" y="609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1"/>
          <a:stretch/>
        </p:blipFill>
        <p:spPr>
          <a:xfrm>
            <a:off x="3200400" y="990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3124080" y="1371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289548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4"/>
          <a:stretch/>
        </p:blipFill>
        <p:spPr>
          <a:xfrm>
            <a:off x="26668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5"/>
          <a:stretch/>
        </p:blipFill>
        <p:spPr>
          <a:xfrm>
            <a:off x="1981080" y="2590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6"/>
          <a:stretch/>
        </p:blipFill>
        <p:spPr>
          <a:xfrm>
            <a:off x="3049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7"/>
          <a:stretch/>
        </p:blipFill>
        <p:spPr>
          <a:xfrm>
            <a:off x="228600" y="9428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8"/>
          <a:stretch/>
        </p:blipFill>
        <p:spPr>
          <a:xfrm>
            <a:off x="380880" y="14000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9"/>
          <a:stretch/>
        </p:blipFill>
        <p:spPr>
          <a:xfrm>
            <a:off x="609480" y="1828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0"/>
          <a:stretch/>
        </p:blipFill>
        <p:spPr>
          <a:xfrm>
            <a:off x="914400" y="2209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1"/>
          <a:stretch/>
        </p:blipFill>
        <p:spPr>
          <a:xfrm>
            <a:off x="1295280" y="25430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2"/>
          <a:stretch/>
        </p:blipFill>
        <p:spPr>
          <a:xfrm>
            <a:off x="1600200" y="2895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3"/>
          <a:stretch/>
        </p:blipFill>
        <p:spPr>
          <a:xfrm>
            <a:off x="6094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4"/>
          <a:stretch/>
        </p:blipFill>
        <p:spPr>
          <a:xfrm>
            <a:off x="2362320" y="236232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457200" y="3505320"/>
            <a:ext cx="5334120" cy="3047760"/>
            <a:chOff x="457200" y="3505320"/>
            <a:chExt cx="5334120" cy="3047760"/>
          </a:xfrm>
        </p:grpSpPr>
        <p:sp>
          <p:nvSpPr>
            <p:cNvPr id="358" name=""/>
            <p:cNvSpPr/>
            <p:nvPr/>
          </p:nvSpPr>
          <p:spPr>
            <a:xfrm>
              <a:off x="457200" y="3505320"/>
              <a:ext cx="5334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" y="3505320"/>
              <a:ext cx="533412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ssim, fazemos nossos planos e imaginamos nosso futuro como algo tão real, como se não houvesse espaços para outras ocorrências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7200" y="45720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erceira: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aprendi qu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vida pode mudar em um instante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telectualmente todos nós sabemos disso, mas acreditamos que os infortúnios acontecem com os out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58000" y="384336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781680" y="5756400"/>
            <a:ext cx="762120" cy="720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76212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6629400" y="5619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632448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7162920" y="6094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6934320" y="9144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7543800" y="380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0"/>
          <a:stretch/>
        </p:blipFill>
        <p:spPr>
          <a:xfrm>
            <a:off x="8001000" y="380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1"/>
          <a:stretch/>
        </p:blipFill>
        <p:spPr>
          <a:xfrm>
            <a:off x="8381880" y="685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2"/>
          <a:stretch/>
        </p:blipFill>
        <p:spPr>
          <a:xfrm>
            <a:off x="8458200" y="1066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3"/>
          <a:stretch/>
        </p:blipFill>
        <p:spPr>
          <a:xfrm>
            <a:off x="8381880" y="1447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4"/>
          <a:stretch/>
        </p:blipFill>
        <p:spPr>
          <a:xfrm>
            <a:off x="8153280" y="1828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5"/>
          <a:stretch/>
        </p:blipFill>
        <p:spPr>
          <a:xfrm>
            <a:off x="7924680" y="2133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6"/>
          <a:stretch/>
        </p:blipFill>
        <p:spPr>
          <a:xfrm>
            <a:off x="7238880" y="2666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7"/>
          <a:stretch/>
        </p:blipFill>
        <p:spPr>
          <a:xfrm>
            <a:off x="5562720" y="6094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8"/>
          <a:stretch/>
        </p:blipFill>
        <p:spPr>
          <a:xfrm>
            <a:off x="5486400" y="1019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9"/>
          <a:stretch/>
        </p:blipFill>
        <p:spPr>
          <a:xfrm>
            <a:off x="5638680" y="14763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0"/>
          <a:stretch/>
        </p:blipFill>
        <p:spPr>
          <a:xfrm>
            <a:off x="5867280" y="19051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1"/>
          <a:stretch/>
        </p:blipFill>
        <p:spPr>
          <a:xfrm>
            <a:off x="6172200" y="22860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2"/>
          <a:stretch/>
        </p:blipFill>
        <p:spPr>
          <a:xfrm>
            <a:off x="6553080" y="26193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3"/>
          <a:stretch/>
        </p:blipFill>
        <p:spPr>
          <a:xfrm>
            <a:off x="6858000" y="29718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4"/>
          <a:stretch/>
        </p:blipFill>
        <p:spPr>
          <a:xfrm>
            <a:off x="5867280" y="3049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5"/>
          <a:stretch/>
        </p:blipFill>
        <p:spPr>
          <a:xfrm>
            <a:off x="7620120" y="2438280"/>
            <a:ext cx="5331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809880" y="762120"/>
            <a:ext cx="4724640" cy="3581280"/>
            <a:chOff x="3809880" y="762120"/>
            <a:chExt cx="4724640" cy="3581280"/>
          </a:xfrm>
        </p:grpSpPr>
        <p:sp>
          <p:nvSpPr>
            <p:cNvPr id="387" name=""/>
            <p:cNvSpPr/>
            <p:nvPr/>
          </p:nvSpPr>
          <p:spPr>
            <a:xfrm>
              <a:off x="3809880" y="762120"/>
              <a:ext cx="4724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9880" y="762120"/>
              <a:ext cx="472464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as ao acordarmos de manhã, esquecemos que perder o emprego, sofrer uma doença, ou cruzar com um motorista embriagado e outras mil coisas, podem alterar este futuro e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um piscar de olhos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733920" y="4495680"/>
            <a:ext cx="487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alguns, é necessário viver uma tragédia, para recolocar as coisas em perspec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600200" y="3689280"/>
            <a:ext cx="609480" cy="57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523880" y="461016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1447920" y="560088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1066680" y="1238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905120" y="4287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1676520" y="73332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2286000" y="200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2743200" y="200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0"/>
          <a:stretch/>
        </p:blipFill>
        <p:spPr>
          <a:xfrm>
            <a:off x="3124080" y="5047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1"/>
          <a:stretch/>
        </p:blipFill>
        <p:spPr>
          <a:xfrm>
            <a:off x="3200400" y="8859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3124080" y="12668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3"/>
          <a:stretch/>
        </p:blipFill>
        <p:spPr>
          <a:xfrm>
            <a:off x="2895480" y="16477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4"/>
          <a:stretch/>
        </p:blipFill>
        <p:spPr>
          <a:xfrm>
            <a:off x="2666880" y="19526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5"/>
          <a:stretch/>
        </p:blipFill>
        <p:spPr>
          <a:xfrm>
            <a:off x="1981080" y="2486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304920" y="4287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228600" y="8380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380880" y="12952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609480" y="17240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0"/>
          <a:stretch/>
        </p:blipFill>
        <p:spPr>
          <a:xfrm>
            <a:off x="914400" y="21049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1"/>
          <a:stretch/>
        </p:blipFill>
        <p:spPr>
          <a:xfrm>
            <a:off x="1295280" y="24382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2"/>
          <a:stretch/>
        </p:blipFill>
        <p:spPr>
          <a:xfrm>
            <a:off x="1600200" y="279072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3"/>
          <a:stretch/>
        </p:blipFill>
        <p:spPr>
          <a:xfrm>
            <a:off x="609480" y="1238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4"/>
          <a:stretch/>
        </p:blipFill>
        <p:spPr>
          <a:xfrm>
            <a:off x="2362320" y="225756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304920" y="1752480"/>
            <a:ext cx="5486400" cy="4953240"/>
            <a:chOff x="304920" y="1752480"/>
            <a:chExt cx="5486400" cy="4953240"/>
          </a:xfrm>
        </p:grpSpPr>
        <p:sp>
          <p:nvSpPr>
            <p:cNvPr id="415" name=""/>
            <p:cNvSpPr/>
            <p:nvPr/>
          </p:nvSpPr>
          <p:spPr>
            <a:xfrm>
              <a:off x="304920" y="1752480"/>
              <a:ext cx="5486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920" y="1752480"/>
              <a:ext cx="54864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prendi que nenhum emprego, por mais gratificante que seja, compensa perder umas férias, romper um casamento ou passar um dia festivo longe da família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 aprendi que, o mais importante da vida, não é ganhar dinheiro, nem ascender socialmente, nem receber honr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04920" y="22860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de aquele dia busquei um equilíbrio entre o trabalho e a minh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553080" y="3691080"/>
            <a:ext cx="609840" cy="576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553080" y="4648320"/>
            <a:ext cx="685800" cy="6508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6553080" y="5681520"/>
            <a:ext cx="762120" cy="719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6324480" y="4096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6019920" y="1522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68580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6629400" y="7621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72388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76960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80773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8153280" y="914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8077320" y="12952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7848720" y="1676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620120" y="19810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6934320" y="2514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52578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7"/>
          <a:stretch/>
        </p:blipFill>
        <p:spPr>
          <a:xfrm>
            <a:off x="5181480" y="8668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8"/>
          <a:stretch/>
        </p:blipFill>
        <p:spPr>
          <a:xfrm>
            <a:off x="5334120" y="1324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9"/>
          <a:stretch/>
        </p:blipFill>
        <p:spPr>
          <a:xfrm>
            <a:off x="5562720" y="17524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0"/>
          <a:stretch/>
        </p:blipFill>
        <p:spPr>
          <a:xfrm>
            <a:off x="5867280" y="2133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1"/>
          <a:stretch/>
        </p:blipFill>
        <p:spPr>
          <a:xfrm>
            <a:off x="6248520" y="2467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2"/>
          <a:stretch/>
        </p:blipFill>
        <p:spPr>
          <a:xfrm>
            <a:off x="6553080" y="28195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3"/>
          <a:stretch/>
        </p:blipFill>
        <p:spPr>
          <a:xfrm>
            <a:off x="5562720" y="1522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4"/>
          <a:stretch/>
        </p:blipFill>
        <p:spPr>
          <a:xfrm>
            <a:off x="7315200" y="228600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85800" y="2438280"/>
            <a:ext cx="7695720" cy="3962520"/>
            <a:chOff x="685800" y="2438280"/>
            <a:chExt cx="7695720" cy="3962520"/>
          </a:xfrm>
        </p:grpSpPr>
        <p:sp>
          <p:nvSpPr>
            <p:cNvPr id="47" name=""/>
            <p:cNvSpPr/>
            <p:nvPr/>
          </p:nvSpPr>
          <p:spPr>
            <a:xfrm>
              <a:off x="685800" y="2438280"/>
              <a:ext cx="769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769572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Um dia, durante uma conversa entre advogados, me fizeram uma pergunta: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- "O que, de mais importante, você já fez na sua vida"?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 A resposta me veio na hora, mas não foi a que respondi, pois as circunstâncias não eram apropriadas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104760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81280" y="7905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10954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91120" y="140004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800600" y="86688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971800" y="914400"/>
            <a:ext cx="6172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O ma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mportante da vid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é ter tempo pa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ultivar uma amizade".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4267080"/>
            <a:ext cx="58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Não deixe seus amigos sem s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iss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5715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 não me esqueci de você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523880" y="3767040"/>
            <a:ext cx="609840" cy="576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447920" y="4684680"/>
            <a:ext cx="685800" cy="649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1371600" y="5603760"/>
            <a:ext cx="762120" cy="720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1295280" y="4096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990720" y="1522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18288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1600200" y="7621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22096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2666880" y="228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3048120" y="533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3124080" y="914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3048120" y="12952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tretch/>
        </p:blipFill>
        <p:spPr>
          <a:xfrm>
            <a:off x="2819520" y="16765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2590920" y="19810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5"/>
          <a:stretch/>
        </p:blipFill>
        <p:spPr>
          <a:xfrm>
            <a:off x="1905120" y="2514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6"/>
          <a:stretch/>
        </p:blipFill>
        <p:spPr>
          <a:xfrm>
            <a:off x="2286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7"/>
          <a:stretch/>
        </p:blipFill>
        <p:spPr>
          <a:xfrm>
            <a:off x="152280" y="8668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8"/>
          <a:stretch/>
        </p:blipFill>
        <p:spPr>
          <a:xfrm>
            <a:off x="304920" y="1324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533520" y="17524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0"/>
          <a:stretch/>
        </p:blipFill>
        <p:spPr>
          <a:xfrm>
            <a:off x="838080" y="2133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1"/>
          <a:stretch/>
        </p:blipFill>
        <p:spPr>
          <a:xfrm>
            <a:off x="1219320" y="2467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2"/>
          <a:stretch/>
        </p:blipFill>
        <p:spPr>
          <a:xfrm>
            <a:off x="1523880" y="28195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3"/>
          <a:stretch/>
        </p:blipFill>
        <p:spPr>
          <a:xfrm>
            <a:off x="533520" y="15228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4"/>
          <a:stretch/>
        </p:blipFill>
        <p:spPr>
          <a:xfrm>
            <a:off x="2286000" y="228600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85800" y="304920"/>
            <a:ext cx="7848360" cy="2057400"/>
            <a:chOff x="685800" y="304920"/>
            <a:chExt cx="7848360" cy="2057400"/>
          </a:xfrm>
        </p:grpSpPr>
        <p:sp>
          <p:nvSpPr>
            <p:cNvPr id="55" name=""/>
            <p:cNvSpPr/>
            <p:nvPr/>
          </p:nvSpPr>
          <p:spPr>
            <a:xfrm>
              <a:off x="685800" y="30492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304920"/>
              <a:ext cx="78483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No papel de advogado da indústria do espetáculo, sabia que os assistentes queriam escutar anedotas sobre meu trabalho com as celebridades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85800" y="4952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s aqui vai a verdadeira, a que surgiu das profundezas das minhas recordaçõ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2952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26956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343400" y="30002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114800" y="3305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724280" y="27716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81480" y="27716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048120" y="269568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457200" y="228600"/>
            <a:ext cx="8381520" cy="2438280"/>
            <a:chOff x="457200" y="228600"/>
            <a:chExt cx="8381520" cy="2438280"/>
          </a:xfrm>
        </p:grpSpPr>
        <p:sp>
          <p:nvSpPr>
            <p:cNvPr id="66" name=""/>
            <p:cNvSpPr/>
            <p:nvPr/>
          </p:nvSpPr>
          <p:spPr>
            <a:xfrm>
              <a:off x="457200" y="228600"/>
              <a:ext cx="8381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228600"/>
              <a:ext cx="83815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O mais importante que já fiz na minha vida, ocorreu em 08 de outubro de 1990. Comecei o dia jogando golfe com um ex-colega e amigo meu, que há muito não via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3124080"/>
            <a:ext cx="403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tre uma jogada e outra, conversávamos a respeito do que acontecia na vida de cada um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28800" y="325764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523880" y="30002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62320" y="33051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133720" y="3610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743200" y="30765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200400" y="30765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581280" y="33814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62120" y="33051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066680" y="3000240"/>
            <a:ext cx="5335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09480" y="533520"/>
            <a:ext cx="4572000" cy="5562360"/>
            <a:chOff x="609480" y="533520"/>
            <a:chExt cx="4572000" cy="5562360"/>
          </a:xfrm>
        </p:grpSpPr>
        <p:sp>
          <p:nvSpPr>
            <p:cNvPr id="79" name=""/>
            <p:cNvSpPr/>
            <p:nvPr/>
          </p:nvSpPr>
          <p:spPr>
            <a:xfrm>
              <a:off x="609480" y="53352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480" y="533520"/>
              <a:ext cx="4572000" cy="55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Ele me contava que sua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esposa e eles acabavam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de ter um bebê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Enquanto jogávamos,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chegou o pai do meu amigo, e consternado, lhe diz que seu bebê parou de respirar e que foi levado para o hospital com urgência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248520" y="20098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553080" y="23623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162920" y="1828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620120" y="1828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8001000" y="21337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8077320" y="25146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18148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5105520" y="246708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5486400" y="1752480"/>
            <a:ext cx="5335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85800" y="2895480"/>
            <a:ext cx="4572000" cy="3733920"/>
            <a:chOff x="685800" y="2895480"/>
            <a:chExt cx="4572000" cy="3733920"/>
          </a:xfrm>
        </p:grpSpPr>
        <p:sp>
          <p:nvSpPr>
            <p:cNvPr id="93" name=""/>
            <p:cNvSpPr/>
            <p:nvPr/>
          </p:nvSpPr>
          <p:spPr>
            <a:xfrm>
              <a:off x="685800" y="289548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2895480"/>
              <a:ext cx="4572000" cy="37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Por um momento fiquei onde estava, sem pensar nem mover-me, mas logo tratei de pensar no que deveria fazer: Seguir meu amigo ao hospital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380880"/>
            <a:ext cx="3809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 mesmo instante, meu amigo subiu no carro de seu pai e se fo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5880" y="17049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400800" y="20574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010280" y="1523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467480" y="1523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48720" y="1828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924680" y="2209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848720" y="25909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029200" y="17524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4952880" y="2162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105520" y="26193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5334120" y="144792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914400" y="304920"/>
            <a:ext cx="7924320" cy="5410080"/>
            <a:chOff x="914400" y="304920"/>
            <a:chExt cx="7924320" cy="5410080"/>
          </a:xfrm>
        </p:grpSpPr>
        <p:sp>
          <p:nvSpPr>
            <p:cNvPr id="110" name=""/>
            <p:cNvSpPr/>
            <p:nvPr/>
          </p:nvSpPr>
          <p:spPr>
            <a:xfrm>
              <a:off x="914400" y="304920"/>
              <a:ext cx="79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304920"/>
              <a:ext cx="792432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Minha presença, disse a mim mesmo, não serviria de nada, pois a criança certamente está sob cuidados de médicos, enfermeiras,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e nada havia que eu pudesse fazer para mudar a situação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200" spc="-1" strike="noStrike">
                  <a:solidFill>
                    <a:srgbClr val="ffffff"/>
                  </a:solidFill>
                  <a:latin typeface="Tahoma"/>
                </a:rPr>
                <a:t>Oferecer meu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200" spc="-1" strike="noStrike">
                  <a:solidFill>
                    <a:srgbClr val="ffffff"/>
                  </a:solidFill>
                  <a:latin typeface="Tahoma"/>
                </a:rPr>
                <a:t>apoio moral?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310500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562720" y="28479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400800" y="31528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172200" y="345744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781680" y="2924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7238880" y="2924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620120" y="322884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696080" y="36100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7620120" y="39909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7391520" y="437184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2"/>
          <a:stretch/>
        </p:blipFill>
        <p:spPr>
          <a:xfrm>
            <a:off x="4800600" y="31528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>
            <a:off x="4724280" y="356220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>
            <a:off x="4876920" y="4019400"/>
            <a:ext cx="533160" cy="5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5105520" y="44481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6"/>
          <a:stretch/>
        </p:blipFill>
        <p:spPr>
          <a:xfrm>
            <a:off x="5105520" y="284796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5800" y="0"/>
            <a:ext cx="7772040" cy="2971800"/>
            <a:chOff x="685800" y="0"/>
            <a:chExt cx="7772040" cy="2971800"/>
          </a:xfrm>
        </p:grpSpPr>
        <p:sp>
          <p:nvSpPr>
            <p:cNvPr id="128" name=""/>
            <p:cNvSpPr/>
            <p:nvPr/>
          </p:nvSpPr>
          <p:spPr>
            <a:xfrm>
              <a:off x="685800" y="0"/>
              <a:ext cx="7772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0"/>
              <a:ext cx="7772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Talvez, mas tanto ele quanto sua esposa vinham de famílias numerosas e sem dúvida estariam rodeados de amigos e familiares que lhes ofereceriam apoio e conforto necessários, acontecesse o que acontecesse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19720" y="3657600"/>
            <a:ext cx="4343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única coisa qu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u faria indo até lá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ra atrapalh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33051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57400" y="36576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66880" y="31240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124080" y="31240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505320" y="34290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3581280" y="3809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505320" y="41911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3276720" y="45720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8120" y="48769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685800" y="3352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3"/>
          <a:stretch/>
        </p:blipFill>
        <p:spPr>
          <a:xfrm>
            <a:off x="609480" y="376236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762120" y="421956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990720" y="46483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295280" y="5029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990720" y="304812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505320" y="0"/>
            <a:ext cx="5105160" cy="6324480"/>
            <a:chOff x="3505320" y="0"/>
            <a:chExt cx="5105160" cy="6324480"/>
          </a:xfrm>
        </p:grpSpPr>
        <p:sp>
          <p:nvSpPr>
            <p:cNvPr id="149" name=""/>
            <p:cNvSpPr/>
            <p:nvPr/>
          </p:nvSpPr>
          <p:spPr>
            <a:xfrm>
              <a:off x="3505320" y="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0"/>
              <a:ext cx="510516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Decidi que mais tarde iri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ver o meu amigo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Quando dei a partida n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pt-BR" sz="3000" spc="-1" strike="noStrike">
                  <a:solidFill>
                    <a:srgbClr val="ffffff"/>
                  </a:solidFill>
                  <a:latin typeface="Tahoma"/>
                </a:rPr>
                <a:t>meu carro, percebi que o meu amigo havia deixado o seu carro, aberto e com as chaves na ignição, estacionado junto às quadras de tênis. Decidi, então, fechar o carro e ir até o hospital entregar-lhe as chaves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371600" y="638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905120" y="685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76520" y="99072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2860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743200" y="4572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124080" y="7621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3200400" y="114300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124080" y="1523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2895480" y="19051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2666880" y="22096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304920" y="685800"/>
            <a:ext cx="533160" cy="50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228600" y="10954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380880" y="15526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609480" y="19810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914400" y="236232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"/>
          <a:stretch/>
        </p:blipFill>
        <p:spPr>
          <a:xfrm>
            <a:off x="1295280" y="26956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9"/>
          <a:stretch/>
        </p:blipFill>
        <p:spPr>
          <a:xfrm>
            <a:off x="609480" y="380880"/>
            <a:ext cx="533520" cy="5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0"/>
          <a:stretch/>
        </p:blipFill>
        <p:spPr>
          <a:xfrm>
            <a:off x="2362320" y="2514600"/>
            <a:ext cx="533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23:36:48Z</dcterms:created>
  <dc:creator>.</dc:creator>
  <dc:description/>
  <dc:language>en-US</dc:language>
  <cp:lastModifiedBy>.</cp:lastModifiedBy>
  <dcterms:modified xsi:type="dcterms:W3CDTF">2005-08-23T22:54:03Z</dcterms:modified>
  <cp:revision>19</cp:revision>
  <dc:subject/>
  <dc:title>Apresentação do PowerPoint</dc:title>
</cp:coreProperties>
</file>