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CAB-6496-4362-8D65-B7C43763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91A-9DC1-4267-95B7-B270C849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2F6-1284-48AA-A28E-BAB9AF90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CC3-F9D9-4A05-A267-F8B4D55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DFA-C15E-4463-900E-31644624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57B-51CB-4A9E-9D53-D27D47FB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CF4-46F1-47DA-B0AE-BA0F7331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54B-A49D-4415-80BD-802B822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69F-E19C-44E3-964B-CAF168F4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BC9-1C30-4E61-A5CB-7AD9986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71C-1E34-44D2-AF2C-23220BE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7AF-4D14-4951-A130-AE170A0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96F-597C-4EF1-86BA-3FAEE1E0C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2600" y="6504120"/>
            <a:ext cx="1177920" cy="368280"/>
            <a:chOff x="642600" y="6504120"/>
            <a:chExt cx="1177920" cy="368280"/>
          </a:xfrm>
        </p:grpSpPr>
        <p:sp>
          <p:nvSpPr>
            <p:cNvPr id="42" name=""/>
            <p:cNvSpPr/>
            <p:nvPr/>
          </p:nvSpPr>
          <p:spPr>
            <a:xfrm flipH="1">
              <a:off x="642600" y="6700680"/>
              <a:ext cx="685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58920" y="65041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" name="ShockwaveFlash1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4:12:36Z</dcterms:created>
  <dc:creator>Dr. Hendro Heryanto</dc:creator>
  <dc:description/>
  <dc:language>en-US</dc:language>
  <cp:lastModifiedBy>Dr. Hendro Heryanto</cp:lastModifiedBy>
  <dcterms:modified xsi:type="dcterms:W3CDTF">2002-09-09T04:13:49Z</dcterms:modified>
  <cp:revision>1</cp:revision>
  <dc:subject/>
  <dc:title>Slide 1</dc:title>
</cp:coreProperties>
</file>