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jpeg" ContentType="image/jpeg"/>
  <Override PartName="/ppt/media/image27.png" ContentType="image/png"/>
  <Override PartName="/ppt/media/image24.gif" ContentType="image/gif"/>
  <Override PartName="/ppt/media/image39.png" ContentType="image/png"/>
  <Override PartName="/ppt/media/image22.jpeg" ContentType="image/jpeg"/>
  <Override PartName="/ppt/media/NEW%20EMAIL.wav" ContentType="audio/x-wav"/>
  <Override PartName="/ppt/media/image47.png" ContentType="image/png"/>
  <Override PartName="/ppt/media/voltage.wav" ContentType="audio/x-wav"/>
  <Override PartName="/ppt/media/image30.png" ContentType="image/png"/>
  <Override PartName="/ppt/media/type.wav" ContentType="audio/x-wav"/>
  <Override PartName="/ppt/media/image1.jpeg" ContentType="image/jpeg"/>
  <Override PartName="/ppt/media/image21.png" ContentType="image/png"/>
  <Override PartName="/ppt/media/image53.gif" ContentType="image/gif"/>
  <Override PartName="/ppt/media/image18.jpeg" ContentType="image/jpeg"/>
  <Override PartName="/ppt/media/image12.png" ContentType="image/png"/>
  <Override PartName="/ppt/media/image49.png" ContentType="image/png"/>
  <Override PartName="/ppt/media/image15.gif" ContentType="image/gif"/>
  <Override PartName="/ppt/media/image6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13.jpeg" ContentType="image/jpeg"/>
  <Override PartName="/ppt/media/image44.png" ContentType="image/png"/>
  <Override PartName="/ppt/media/image23.png" ContentType="image/png"/>
  <Override PartName="/ppt/media/EN%20LINEA.wav" ContentType="audio/x-wav"/>
  <Override PartName="/ppt/media/image10.jpeg" ContentType="image/jpeg"/>
  <Override PartName="/ppt/media/image14.png" ContentType="image/png"/>
  <Override PartName="/ppt/media/image11.gif" ContentType="image/gif"/>
  <Override PartName="/ppt/media/image4.gif" ContentType="image/gif"/>
  <Override PartName="/ppt/media/image19.png" ContentType="image/png"/>
  <Override PartName="/ppt/media/image7.png" ContentType="image/png"/>
  <Override PartName="/ppt/media/image37.png" ContentType="image/png"/>
  <Override PartName="/ppt/media/VIBRAR.wav" ContentType="audio/x-wav"/>
  <Override PartName="/ppt/media/image50.jpeg" ContentType="image/jpeg"/>
  <Override PartName="/ppt/media/image36.png" ContentType="image/png"/>
  <Override PartName="/ppt/media/image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8.png" ContentType="image/png"/>
  <Override PartName="/ppt/media/image25.jpeg" ContentType="image/jpeg"/>
  <Override PartName="/ppt/media/image32.png" ContentType="image/png"/>
  <Override PartName="/ppt/media/image8.jpeg" ContentType="image/jpeg"/>
  <Override PartName="/ppt/media/image26.png" ContentType="image/png"/>
  <Override PartName="/ppt/media/image28.png" ContentType="image/png"/>
  <Override PartName="/ppt/media/image2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20.jpeg" ContentType="image/jpeg"/>
  <Override PartName="/ppt/media/image52.gif" ContentType="image/gif"/>
  <Override PartName="/ppt/media/image46.png" ContentType="image/png"/>
  <Override PartName="/ppt/media/TYPE.wav" ContentType="audio/x-wav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8E7-69CE-4F5A-9B84-2DEEA767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7A5-8588-457B-925F-472C3ED0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A61-FDB7-4B8F-89FE-47232A23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907-09BC-491F-AC69-81B6E831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FAD-9E45-47AF-93B9-A3D4102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DE5-24A6-42C1-8AEE-E5B3B348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B9E-6CB8-499A-AA86-64C868D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600-8872-4DEE-AED0-1125F7C7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10D-6765-44F6-8691-9BEC923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531-6F0A-4A9E-AADB-B913F77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4EC-A60B-4127-8FCA-57B27F2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937-7283-4FAB-8D13-8D212A2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FD7-6731-41E9-804C-71B691683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NEW%20EMAIL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VIBRAR.wav"/><Relationship Id="rId3" Type="http://schemas.openxmlformats.org/officeDocument/2006/relationships/audio" Target="../media/VIBRA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audio" Target="../media/NEW%20EMAIL.wav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6.png"/><Relationship Id="rId22" Type="http://schemas.openxmlformats.org/officeDocument/2006/relationships/image" Target="../media/image47.png"/><Relationship Id="rId23" Type="http://schemas.openxmlformats.org/officeDocument/2006/relationships/image" Target="../media/image48.jpeg"/><Relationship Id="rId24" Type="http://schemas.openxmlformats.org/officeDocument/2006/relationships/audio" Target="../media/EN%20LINEA.wav"/><Relationship Id="rId25" Type="http://schemas.openxmlformats.org/officeDocument/2006/relationships/audio" Target="../media/EN%20LINEA.wav"/><Relationship Id="rId26" Type="http://schemas.openxmlformats.org/officeDocument/2006/relationships/audio" Target="../media/EN%20LINEA.wav"/><Relationship Id="rId27" Type="http://schemas.openxmlformats.org/officeDocument/2006/relationships/audio" Target="../media/EN%20LINEA.wav"/><Relationship Id="rId28" Type="http://schemas.openxmlformats.org/officeDocument/2006/relationships/audio" Target="../media/EN%20LINEA.wav"/><Relationship Id="rId29" Type="http://schemas.openxmlformats.org/officeDocument/2006/relationships/audio" Target="../media/EN%20LINEA.wav"/><Relationship Id="rId30" Type="http://schemas.openxmlformats.org/officeDocument/2006/relationships/audio" Target="../media/voltage.wav"/><Relationship Id="rId3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EN%20LINEA.wav"/><Relationship Id="rId6" Type="http://schemas.openxmlformats.org/officeDocument/2006/relationships/audio" Target="../media/EN%20LINEA.wav"/><Relationship Id="rId7" Type="http://schemas.openxmlformats.org/officeDocument/2006/relationships/audio" Target="../media/EN%20LINEA.wav"/><Relationship Id="rId8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9973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33640" y="95400"/>
            <a:ext cx="327672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620640"/>
            <a:ext cx="97128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299736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REMIAS 33: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5589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OMAT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EW%20EMAI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92360" y="2924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que mas hijo,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35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HAM di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6600"/>
                </a:solidFill>
                <a:latin typeface="Berlin Sans FB Demi"/>
              </a:rPr>
              <a:t>Muy bien señor, recordando todas tus promesas hechas real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492360" y="2924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y cuéntame, ¿como anda la familia? Creciendo? jajá jaj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35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HAM di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6600"/>
                </a:solidFill>
                <a:latin typeface="Berlin Sans FB Demi"/>
              </a:rPr>
              <a:t>Claro Señor hasta ya perdí la cuenta de cuantos hijos tengo. jajajajaj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364500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sab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 yo también te iba a preguntar por el. Tengo rato que no se nada de 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924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HAM di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6600"/>
                </a:solidFill>
                <a:latin typeface="Berlin Sans FB Demi"/>
              </a:rPr>
              <a:t>Señor hablando de hijos ¿que me cuentas de Pepi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05680" y="5516640"/>
            <a:ext cx="203832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360" y="364500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¿que raro? Después de darle el empleo no volvió mas, ¿será que le hice al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2924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HAM di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6600"/>
                </a:solidFill>
                <a:latin typeface="Berlin Sans FB Demi"/>
              </a:rPr>
              <a:t>Lo ultimo que recuerdo es que le ayudaste a encontrar un nuevo empleo, y desde ese día no lo he vuelto a 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IBRA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4" dur="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5" dur="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IBRA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5" dur="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6" dur="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7" dur="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360" y="292428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bueno, seguiremos hablando dentro de un rato, porque POR AQUÌ TENGO A Noe …. ANDA INTENSO …Tus sabes la eda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jajá jaj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5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HAM di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6600"/>
                </a:solidFill>
                <a:latin typeface="Berlin Sans FB Demi"/>
              </a:rPr>
              <a:t>Esta bien mi señor, seguiremos </a:t>
            </a:r>
            <a:br>
              <a:rPr sz="1200"/>
            </a:br>
            <a:r>
              <a:rPr b="0" lang="en-US" sz="1200" spc="-1" strike="noStrike">
                <a:solidFill>
                  <a:srgbClr val="ff6600"/>
                </a:solidFill>
                <a:latin typeface="Berlin Sans FB Demi"/>
              </a:rPr>
              <a:t>en contacto. Nos vemos.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3446640"/>
            <a:ext cx="1214640" cy="9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2924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hola Noé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364500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E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uy agradecido con usted y aunque ha pasado muchos años,  no se puede olvidar un buen am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2924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claro que si Noé, los viejos amigos nunca se olvid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645000"/>
            <a:ext cx="37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E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Aun recuerdo que  me decían viejo loco, jajaja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pero solo mi familia y yo te creímos y jamás me avergonzare de ti señ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48000" y="2924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gracias Noé por creer en mi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 desearía que todos creyeran como tu lo hiciste, antes que sea demasiado ta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3645000"/>
            <a:ext cx="37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E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eñor me imagino que ya falta poco para volver a la tierra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48000" y="285264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claro que si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me preocupa que cuando vuelva 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angie y pepito no me estén esper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3645000"/>
            <a:ext cx="37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E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i Señor seria muy triste que después de tantas veces que los has ayudado, no pudieran disfrutar de la gran fiesta con tu Padre y de tu amistad e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43120" y="1547640"/>
            <a:ext cx="5657760" cy="376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48000" y="285264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espero que si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Bueno Noé tengo muchos mas amigos que quieren hablar conmigo, seguimos conect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645000"/>
            <a:ext cx="37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E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isto señor, fue un placer compartir conti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48120" y="2828880"/>
            <a:ext cx="304776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33640" y="95400"/>
            <a:ext cx="3276720" cy="666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3860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ctan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067280" y="620640"/>
            <a:ext cx="97128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85880" y="1490760"/>
            <a:ext cx="5772240" cy="387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3828960" cy="599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335772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HOLA ANGIE, COMO ESTAS SOLO QUERIA SABER DE TI, Y DECIRTE QUE TE QUIERO MUCHO, EXTRAÑO TU RISA Y LOS RATOS QUE PASABAMOS HABLANDO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NUNCA OLVIDES QUE SOY TU MEJOR AMIGO Y QUE PUEDES HABLAR CONMIGO CUANDO QUIERAS. BUENO, DIOS TE BEND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00280" y="1528920"/>
            <a:ext cx="5743440" cy="380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3838320" cy="628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48000" y="321300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HOLA PEPITO, QUE MAS? COMO TE HA IDO CON TU NUEVO EMPLEO? ME IMAGINO QUE BI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QUE HA PASADO MI HERMANO QUE NO HE SABIDO NADA DE TI NI DE LOS PARTIDOS DE FUTBOL. NO OLVIDES QUE CUENTAS CONMIG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PA’ LAS QUE SEA. LLAMAME O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DIOS TE BENDI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87200"/>
            <a:ext cx="9144000" cy="6670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04000" y="4653000"/>
            <a:ext cx="207648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96360" y="4221000"/>
            <a:ext cx="333360" cy="34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435800" y="393372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W%20EMAI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712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177336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HOLA soy Jesú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2637000"/>
            <a:ext cx="69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te escribo para decirte que te extraño y que  me hace mucha falta tu compañí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3645000"/>
            <a:ext cx="69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no olvides que estaré conectado las 24 horas, los 365 Días al año Y que siempre  estaré esperando para que me cuentes todo lo que quiera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4724280"/>
            <a:ext cx="69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No importa si estas triste o con problemas, yo siempre estaré conti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19280" y="2924280"/>
            <a:ext cx="684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“nadie tiene mayor amor que este, que uno ponga su vida por sus amigos.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(Lucas 15: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712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2133720"/>
            <a:ext cx="69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recuerda 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29264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y yo entregue mi vida por amor a ti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501336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Bueno … NO TE QUITO MAS TIEMPO… espero que podamos conectar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1933560" cy="95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52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7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907920"/>
            <a:ext cx="7128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HAS VECES NOS VEMO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ANGIE O PEPITO, Y SOLO LO BUSCAMOS CUANDO ESTAMOS EN PROBLEMA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3429000"/>
            <a:ext cx="63374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CHEVERE SERIA QUE ESTUVIERAMOS CONECTADOS CON EL DISFRUTARAMOS DE SU AMISTA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 LOS DIA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VIENDO AGRADECIDOS CON TODO LO QUE EL NOS DA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238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05680" y="4508640"/>
            <a:ext cx="203832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4360" y="5695920"/>
            <a:ext cx="1979640" cy="1162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164360" y="3429000"/>
            <a:ext cx="197964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77240" y="1125360"/>
            <a:ext cx="2066760" cy="120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484360" y="2205000"/>
            <a:ext cx="2095560" cy="1266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484360" y="112536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789440" y="2205000"/>
            <a:ext cx="203832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4716360" y="1052640"/>
            <a:ext cx="209556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4716360" y="5591160"/>
            <a:ext cx="2171880" cy="1266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0" y="1125360"/>
            <a:ext cx="201600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2556000" y="4508640"/>
            <a:ext cx="2000160" cy="119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2556000" y="5667480"/>
            <a:ext cx="2009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2484360" y="0"/>
            <a:ext cx="2028960" cy="12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2556000" y="3429000"/>
            <a:ext cx="197172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4789440" y="3429000"/>
            <a:ext cx="2019240" cy="1190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7"/>
          <a:stretch/>
        </p:blipFill>
        <p:spPr>
          <a:xfrm>
            <a:off x="4788000" y="0"/>
            <a:ext cx="1990800" cy="1181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2000160" cy="1228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9"/>
          <a:stretch/>
        </p:blipFill>
        <p:spPr>
          <a:xfrm>
            <a:off x="4789440" y="4508640"/>
            <a:ext cx="2038320" cy="1209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0"/>
          <a:stretch/>
        </p:blipFill>
        <p:spPr>
          <a:xfrm>
            <a:off x="0" y="2276640"/>
            <a:ext cx="2019240" cy="115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1"/>
          <a:stretch/>
        </p:blipFill>
        <p:spPr>
          <a:xfrm>
            <a:off x="0" y="3357720"/>
            <a:ext cx="202896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2"/>
          <a:stretch/>
        </p:blipFill>
        <p:spPr>
          <a:xfrm>
            <a:off x="0" y="4508640"/>
            <a:ext cx="2028960" cy="118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5805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TU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3"/>
          <a:stretch/>
        </p:blipFill>
        <p:spPr>
          <a:xfrm>
            <a:off x="7169040" y="2276640"/>
            <a:ext cx="1974960" cy="118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2560" y="2708280"/>
            <a:ext cx="777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YA SE ESTAN CONECTAN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291456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619280" y="4076640"/>
            <a:ext cx="585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¿A QUE HORA NOS CONECTAMOS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6000" y="1722600"/>
            <a:ext cx="8710560" cy="34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0720" y="1434960"/>
            <a:ext cx="8242560" cy="39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9973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299736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REMIAS 33: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2852640"/>
            <a:ext cx="2057400" cy="1247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77080" y="4076640"/>
            <a:ext cx="2076480" cy="1238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48360" y="5373720"/>
            <a:ext cx="20574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935440" y="93600"/>
            <a:ext cx="3273120" cy="66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%20LIN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2476440" cy="194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912960" y="901800"/>
            <a:ext cx="72594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Que tengas un lindo día !!!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n mucha luz en tu camino.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365720" y="6087960"/>
            <a:ext cx="7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760" y="4221000"/>
            <a:ext cx="810864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ff"/>
                </a:solidFill>
                <a:latin typeface="Arial"/>
                <a:ea typeface="Arial"/>
              </a:rPr>
              <a:t>¡¡¡Y n</a:t>
            </a:r>
            <a:r>
              <a:rPr b="0" lang="es-ES" sz="3600" spc="-1" strike="noStrike">
                <a:solidFill>
                  <a:srgbClr val="99ffff"/>
                </a:solidFill>
                <a:latin typeface="Arial"/>
              </a:rPr>
              <a:t>o te sueltes de la mano de Dio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-5437080" y="6235200"/>
            <a:ext cx="13177800" cy="1800"/>
          </a:xfrm>
          <a:prstGeom prst="line">
            <a:avLst/>
          </a:prstGeom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101080" y="5732640"/>
            <a:ext cx="620640" cy="838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900000" y="5877000"/>
            <a:ext cx="6848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33"/>
                </a:solidFill>
                <a:latin typeface="Arial Black"/>
              </a:rPr>
              <a:t>A la hora de amar y hacer el bien...NO TE DETENGAS!!!</a:t>
            </a:r>
            <a:endParaRPr b="0" lang="en-US" sz="1800" spc="1" strike="noStrike">
              <a:ln w="0">
                <a:noFill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6767640" y="57340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33"/>
                </a:solidFill>
                <a:latin typeface="Edwardian Script ITC"/>
                <a:ea typeface="Arial"/>
              </a:rPr>
              <a:t>Cèsar B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7381800" y="-603360"/>
            <a:ext cx="19802520" cy="10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2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3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6000"/>
                            </p:stCondLst>
                            <p:childTnLst>
                              <p:par>
                                <p:cTn id="945" nodeType="after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0" dur="3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3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7" presetSubtype="8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7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8" dur="5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77080" y="2852640"/>
            <a:ext cx="2057400" cy="124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77080" y="4076640"/>
            <a:ext cx="2076480" cy="123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948360" y="5373720"/>
            <a:ext cx="205740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946240" y="90360"/>
            <a:ext cx="3249720" cy="667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47800" y="1547640"/>
            <a:ext cx="5648400" cy="3762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360" y="2852640"/>
            <a:ext cx="3322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hola moisés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342900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isé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uy bien Seño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aciendo un poquito de ejercicio con las tablas. jijijiji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47800" y="1547640"/>
            <a:ext cx="5648400" cy="3762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360" y="2852640"/>
            <a:ext cx="332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TU SIEMPRE TAN GRACIOSO JAJAJAJ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342900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Y CUENTAME QUE HAS SABIDO DE ANG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47800" y="1547640"/>
            <a:ext cx="5648400" cy="37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285264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isé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o único que sé, es que la semana pasada estuvo hablando contigo, antes de ir para cl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5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isé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 imagino, como ya terminaron los parciales, estará ocupada en otras t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47800" y="1547640"/>
            <a:ext cx="5648400" cy="3762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360" y="2852640"/>
            <a:ext cx="332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que rar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La he estado llamando y no me conte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35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Bueno, de todos modos muchas gracias moisés, será espera otra vez que me l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47800" y="1547640"/>
            <a:ext cx="5648400" cy="3762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360" y="3500280"/>
            <a:ext cx="3322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U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OK.  sigue ejercitándote, jajá jajá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seguimos habl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285264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isés d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isto señor!!! es un placer hablar conti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90800" y="3043080"/>
            <a:ext cx="1562400" cy="771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124760" y="5445000"/>
            <a:ext cx="20192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1:28:18Z</dcterms:created>
  <dc:creator>CESAR BALLY</dc:creator>
  <dc:description/>
  <dc:language>en-US</dc:language>
  <cp:lastModifiedBy>Cesar</cp:lastModifiedBy>
  <dcterms:modified xsi:type="dcterms:W3CDTF">2009-05-17T21:32:58Z</dcterms:modified>
  <cp:revision>1</cp:revision>
  <dc:subject/>
  <dc:title>UN CONTACTO ESPECIAL</dc:title>
</cp:coreProperties>
</file>