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C382-DDA3-43C6-9AF2-A80CCEFAD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4C1B-018D-4CE6-9062-3557FA4E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894C-22DD-4453-B2D6-97F55ECC4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0FFB-4D5F-434F-9395-3728EBA64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8135-20E7-48F8-A4BA-7246292A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1DF2-A9BC-4F1E-9D99-74CB099E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2D44-61AC-4F9D-BAC2-A9633BE6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8F3B-28BC-4B8E-B8E0-03854D2F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45AE-BCA3-47BB-9332-9AC4E432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F173-3B9C-4914-B86B-72983629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96B9-9FDF-4806-B412-F4ABB145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555D-1055-4E6C-9BF1-D3CD70B0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C927-E191-4141-8A73-44360CC73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0" y="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SHANXI, 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CITY BUILT IN THE MOUNTAINS OF S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This is amaz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and we have to wonder how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why and when did they do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From where &amp; how do they get water...power....sewer.....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How did they build all this?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And why..way.."up there"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46530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okerman"/>
              </a:rPr>
              <a:t>My best guess is that this is a Buddhist Monestary – They are noted for building in the most extreme, inacessible, but scenicly speaking, some of the most beautiful places there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okerman"/>
              </a:rPr>
              <a:t>Bobby 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508720" y="6381720"/>
            <a:ext cx="36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Jokerman"/>
              </a:rPr>
              <a:t>Click  to  advance 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DSC_24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7836840" y="620640"/>
            <a:ext cx="6069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空谷幽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DSC_26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DSC_25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DSC_29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c2bce2039fc27daad43f7c8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DSC_2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46080" y="476280"/>
            <a:ext cx="1033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峭岩陡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Rectangle 4"/>
          <p:cNvGrpSpPr/>
          <p:nvPr/>
        </p:nvGrpSpPr>
        <p:grpSpPr>
          <a:xfrm>
            <a:off x="-12600" y="-12600"/>
            <a:ext cx="9169200" cy="6883200"/>
            <a:chOff x="-12600" y="-12600"/>
            <a:chExt cx="9169200" cy="6883200"/>
          </a:xfrm>
        </p:grpSpPr>
        <p:pic>
          <p:nvPicPr>
            <p:cNvPr id="67" name="Rectangle 4" descr=""/>
            <p:cNvPicPr/>
            <p:nvPr/>
          </p:nvPicPr>
          <p:blipFill>
            <a:blip r:embed="rId1"/>
            <a:stretch/>
          </p:blipFill>
          <p:spPr>
            <a:xfrm>
              <a:off x="-12600" y="-12600"/>
              <a:ext cx="916920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DSC_25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DSC_25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DSC_25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6"/>
          <p:cNvSpPr/>
          <p:nvPr/>
        </p:nvSpPr>
        <p:spPr>
          <a:xfrm>
            <a:off x="7920000" y="765000"/>
            <a:ext cx="12240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全长三百余米四百多级台阶通往正果寺</a:t>
            </a:r>
            <a:r>
              <a:rPr b="0" lang="zh-CN" sz="2000" spc="-1" strike="noStrike">
                <a:solidFill>
                  <a:srgbClr val="c0c0c0"/>
                </a:solidFill>
                <a:latin typeface="hakuyokaishu7000"/>
                <a:ea typeface="hakuyokaishu7000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DSC_25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0" y="836640"/>
            <a:ext cx="9144000" cy="5627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DSC_28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DSC_22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DSC_20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8068680" y="765000"/>
            <a:ext cx="60696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漫步崖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DSC_20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DSC_22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DSC_22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DSC_2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DSC_25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DSCF2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5435640" y="1268280"/>
            <a:ext cx="27367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hanxi China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2009.8.18~19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Fly_sil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2484360" y="609300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YF 09-12-2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简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DSC_25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DSC_27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DSC_26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DSC_28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04:40:15Z</dcterms:created>
  <dc:creator>huang yifan</dc:creator>
  <dc:description/>
  <dc:language>en-US</dc:language>
  <cp:lastModifiedBy>HP Authorized Customer</cp:lastModifiedBy>
  <dcterms:modified xsi:type="dcterms:W3CDTF">2010-06-16T01:58:56Z</dcterms:modified>
  <cp:revision>16</cp:revision>
  <dc:subject/>
  <dc:title>幻灯片 1</dc:title>
</cp:coreProperties>
</file>