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E87-61C8-42FE-A478-A3B8BCA3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284-90E6-46F7-9341-079A3B74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429-D7AF-43A0-97B6-881C7E77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4D6-DBB2-448A-936D-57513FB5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85D-42CF-4E9E-83B8-54DEC752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2B69-05FE-4E16-AEBB-53FA2ADA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9AF-369D-45AD-A8FB-FCA6205E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297-F77C-4A02-9DE4-06D80097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3D8-2805-4A4B-84CE-4A03F6E3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5B2-7A57-42A5-8828-32A7E55B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C4C-0384-420E-B07B-286991B8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F67-0294-4EB2-874A-77768B09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0A65-43B6-4948-BE52-AED8BF00E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SHANXI,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CITY BUILT IN THE MOUNTAINS OF S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This is ama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and we have to wonder h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why and when did they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From where &amp; how do they get water...power....sewer.....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How did they build all this?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And why..way.."up there"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4653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My best guess is that this is a Buddhist Monestary – They are noted for building in the most extreme, inacessible, but scenicly speaking, some of the most beautiful places ther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Bobby 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08720" y="638172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okerman"/>
              </a:rPr>
              <a:t>Click  to  advance 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SC_24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836840" y="62064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空谷幽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DSC_26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SC_25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SC_29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2bce2039fc27daad43f7c8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SC_2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6080" y="476280"/>
            <a:ext cx="10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峭岩陡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67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SC_2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SC_25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SC_25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7920000" y="765000"/>
            <a:ext cx="1224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长三百余米四百多级台阶通往正果寺</a:t>
            </a:r>
            <a:r>
              <a:rPr b="0" lang="zh-CN" sz="2000" spc="-1" strike="noStrike">
                <a:solidFill>
                  <a:srgbClr val="c0c0c0"/>
                </a:solidFill>
                <a:latin typeface="hakuyokaishu7000"/>
                <a:ea typeface="hakuyokaishu7000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SC_25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836640"/>
            <a:ext cx="9144000" cy="56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SC_28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DSC_22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DSC_2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8068680" y="765000"/>
            <a:ext cx="6069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漫步崖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DSC_2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SC_22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SC_22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DSC_2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SC_25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DSCF2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5435640" y="1268280"/>
            <a:ext cx="2736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hanxi China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009.8.18~19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ly_si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484360" y="6093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F 09-12-2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简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SC_2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DSC_27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SC_2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DSC_28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4:40:15Z</dcterms:created>
  <dc:creator>huang yifan</dc:creator>
  <dc:description/>
  <dc:language>en-US</dc:language>
  <cp:lastModifiedBy>HP Authorized Customer</cp:lastModifiedBy>
  <dcterms:modified xsi:type="dcterms:W3CDTF">2010-06-16T01:58:56Z</dcterms:modified>
  <cp:revision>16</cp:revision>
  <dc:subject/>
  <dc:title>幻灯片 1</dc:title>
</cp:coreProperties>
</file>