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4.jpeg" ContentType="image/jpeg"/>
  <Override PartName="/ppt/media/image22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02C8-6430-48A2-B55D-5E926546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D25B-AE74-4D11-8F98-1921D98D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8E2A-EE28-46A3-AFAE-3C3B68FF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F5ED-7028-4FDF-A211-1F243807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0724-28D0-4E3E-80F8-2BDF29D6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BE36-B1EB-4B6A-B7B2-5762F0CD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1384-A5A4-48E0-BB89-D3264F5E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BA63-7599-407B-8FCC-7ABDDA10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D5F3-0CB3-4CAC-B317-AA1D022F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521F-9489-488F-A282-FD103FEA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831D-F522-4A63-BB95-F7A93DEE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9AE1-3F8A-4245-B301-B37806F1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BD31-690B-4879-A323-EC9693CDA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1.jpeg"/><Relationship Id="rId12" Type="http://schemas.openxmlformats.org/officeDocument/2006/relationships/image" Target="../media/image13.jpe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1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1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9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1.jpeg"/><Relationship Id="rId12" Type="http://schemas.openxmlformats.org/officeDocument/2006/relationships/image" Target="../media/image8.jpe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14.jpe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9.jpe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1.jpeg"/><Relationship Id="rId12" Type="http://schemas.openxmlformats.org/officeDocument/2006/relationships/image" Target="../media/image14.jpeg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228600"/>
            <a:ext cx="8686800" cy="6400800"/>
            <a:chOff x="228600" y="228600"/>
            <a:chExt cx="8686800" cy="6400800"/>
          </a:xfrm>
        </p:grpSpPr>
        <p:sp>
          <p:nvSpPr>
            <p:cNvPr id="42" name=""/>
            <p:cNvSpPr/>
            <p:nvPr/>
          </p:nvSpPr>
          <p:spPr>
            <a:xfrm>
              <a:off x="228600" y="228600"/>
              <a:ext cx="4343400" cy="609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5029200" y="1371600"/>
              <a:ext cx="342900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5410080" y="1752480"/>
              <a:ext cx="2664000" cy="33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572000" y="5867280"/>
              <a:ext cx="434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368b6"/>
                  </a:solidFill>
                  <a:latin typeface="Jokerman LET"/>
                </a:rPr>
                <a:t>Mariscos &amp; Cª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8600" y="304920"/>
              <a:ext cx="434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ffffff"/>
                  </a:solidFill>
                  <a:latin typeface="Jokerman LET"/>
                </a:rPr>
                <a:t>Algumas indicações sobre maris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880" y="990720"/>
              <a:ext cx="4038840" cy="51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Mexilhão, só o coma de Setembro a Dezembro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 Marisco, só em mês com “r” 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Para cozer a  lagosta , o lagostim , o camarão ou o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  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percebe , mergulhe-os em água a ferver 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 O caranguejo , a santola devem ser mergulhados em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   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água fria 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368b6"/>
                  </a:solidFill>
                  <a:latin typeface="Jokerman LET"/>
                </a:rPr>
                <a:t>Tempo de cozedura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Lagosta e lagostim: 15 a 17 minut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Caranguejo, santola e burro: 20 a 27 minut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Camarão e percebe: 5 minut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000" spc="-1" strike="noStrike">
                  <a:solidFill>
                    <a:srgbClr val="0368b6"/>
                  </a:solidFill>
                  <a:latin typeface="Verdana"/>
                </a:rPr>
                <a:t>Nota: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 O tempo depende da corpulência do marisco  e só começa a contar-se quando a água entrar em  ebulição 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368b6"/>
                  </a:solidFill>
                  <a:latin typeface="Jokerman LET"/>
                </a:rPr>
                <a:t>Quantidade de sal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Lapas , búzios e mexilhões: cozem-se sem s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Lagosta: 200 gr  por 2,5 L de águ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Camarão ou percebe: 180 gr  por 2,5 L de águ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368b6"/>
                  </a:solidFill>
                  <a:latin typeface="Jokerman LET"/>
                </a:rPr>
                <a:t>º </a:t>
              </a:r>
              <a:r>
                <a:rPr b="0" lang="pt-PT" sz="1000" spc="-1" strike="noStrike">
                  <a:solidFill>
                    <a:srgbClr val="0368b6"/>
                  </a:solidFill>
                  <a:latin typeface="Verdana"/>
                </a:rPr>
                <a:t>Caranguejo ou santola: 200 gr  por 2,5 L de águ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181800" y="228600"/>
            <a:ext cx="8780760" cy="6474600"/>
            <a:chOff x="181800" y="228600"/>
            <a:chExt cx="8780760" cy="647460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22860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8600" y="30492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ffffff"/>
                  </a:solidFill>
                  <a:latin typeface="Jokerman LET"/>
                </a:rPr>
                <a:t>Cataplana de amêijo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86400" y="1219320"/>
              <a:ext cx="30481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400 g miolo de camarão; 1 cebola; 6 dente(s) de alho; 2 tomate(s); 300 g cogumelos laminados: 1 dl vinho branco; 1 dl caldo de cubo de peixe; 2 c. sopa farinha; azeite q.b.; salsa picada q.b.; puré de bata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8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3"/>
            <a:stretch/>
          </p:blipFill>
          <p:spPr>
            <a:xfrm>
              <a:off x="3808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5486400" y="2160720"/>
              <a:ext cx="32004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Aloura-se a cebola e o alho picados no azeit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Adiciona-se o tomate pelado, os cogumelos fatiados e o camarã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Rega-se com o vinho e o caldo de peixe e polvilha-se com a farinha. Deixa-se cozinhar mexendo frequentement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Depois, divide-se por frigideiras individuais em pirex, à volta dispõe-se puré de batata utilizando um saco de pasteleir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Vai ao forno bem quente por 10 minutos. Serve-se polvilhado com salsa picad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86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19320" y="4572000"/>
              <a:ext cx="31240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4 ostras (já abertas); 50 g manteiga; 150 g espinafres cozidos e picados; 1 c. sopa cebola picada; 1 c. sopa salsa picada; sal c. chá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pitada pimenta-de-caiena; 30 g pão ralado; 2 fatias bacon cortado em cubos; queijo parmesão ralado ; 1 folha de louro; 3 limã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4"/>
            <a:stretch/>
          </p:blipFill>
          <p:spPr>
            <a:xfrm>
              <a:off x="38088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5"/>
            <a:stretch/>
          </p:blipFill>
          <p:spPr>
            <a:xfrm>
              <a:off x="3808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22860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6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860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600" y="3581280"/>
              <a:ext cx="4343400" cy="533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6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Ostras no forn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72000" y="304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Camarão gratin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19320" y="1219320"/>
              <a:ext cx="3124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amêijoa, 1 cebola; 100 g presunto; 100 g chouriço; 1 c. sopa farinha de trigo; 1 dl vinho branco; 50 g banha; 1 c. sopa pimentão do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malagueta; sal q.b.; pimenta branca moíd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1" name="" descr=""/>
            <p:cNvPicPr/>
            <p:nvPr/>
          </p:nvPicPr>
          <p:blipFill>
            <a:blip r:embed="rId7"/>
            <a:stretch/>
          </p:blipFill>
          <p:spPr>
            <a:xfrm>
              <a:off x="47242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8"/>
            <a:stretch/>
          </p:blipFill>
          <p:spPr>
            <a:xfrm>
              <a:off x="47242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1219320" y="2209680"/>
              <a:ext cx="320040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Derreta a manteiga na cataplana e refogue a cebola picada com um pouco de malaguet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Junte o sal, pimenta, farinha e o pimentão e misture muito bem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Regue com o vinho e adicione o presunto e o chouriço picados aos bocadinh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Finalmente junte as amêijoas e com a cataplana fechada deixe cozinhar durante 15 a 20 minutos. Sirva ainda quente.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720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5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562720" y="4556160"/>
              <a:ext cx="3276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 peitos de peru; natas azedas; 1 pimento verde cortado em quadradinhos; 1 pimento vermelho cortado em quadradinhos; 200 g camarão descasc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6" name="" descr=""/>
            <p:cNvPicPr/>
            <p:nvPr/>
          </p:nvPicPr>
          <p:blipFill>
            <a:blip r:embed="rId9"/>
            <a:stretch/>
          </p:blipFill>
          <p:spPr>
            <a:xfrm>
              <a:off x="4724280" y="457200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" descr=""/>
            <p:cNvPicPr/>
            <p:nvPr/>
          </p:nvPicPr>
          <p:blipFill>
            <a:blip r:embed="rId10"/>
            <a:stretch/>
          </p:blipFill>
          <p:spPr>
            <a:xfrm>
              <a:off x="47242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5410080" y="5529240"/>
              <a:ext cx="335304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locar o peru, os pimentos e os camarões num prato não muito fundo. Regar com a marinada de nata azeda e deixar em repouso durante uma hor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Enfiar no espeto alternadamente o peru, os pimentos e os camarões, pincelar com a marinada e grelhar em fogo moderado, virando e untando de vez em quando com a marinad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Servir com arroz e salada de alface.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72000" y="411480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1H2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 rot="10800000">
              <a:off x="4570920" y="3581280"/>
              <a:ext cx="4343400" cy="533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72000" y="365760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Espetada de peru e camar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19320" y="5635800"/>
              <a:ext cx="32004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Pré-aqueça o forno a 220ºc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Em lume médio, salteie com margarina os espinafres, a cebola, a salsa, o louro, sal e pimenta. Junte pão ralado e retire do lum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Coloque as ostras num tabuleiro. Cubra-as com o preparado de espinafres. Polvilhe com bacon e queij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Leve ao forno durante cerca de 10 minutos, até fritar o bacon. Antes de servir, decore com gomos de limã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180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63856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5" name="" descr=""/>
            <p:cNvPicPr/>
            <p:nvPr/>
          </p:nvPicPr>
          <p:blipFill>
            <a:blip r:embed="rId12"/>
            <a:stretch/>
          </p:blipFill>
          <p:spPr>
            <a:xfrm>
              <a:off x="228600" y="228600"/>
              <a:ext cx="685800" cy="5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13"/>
            <a:stretch/>
          </p:blipFill>
          <p:spPr>
            <a:xfrm>
              <a:off x="228600" y="3581280"/>
              <a:ext cx="52236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181800" y="228600"/>
            <a:ext cx="8780040" cy="6409800"/>
            <a:chOff x="181800" y="228600"/>
            <a:chExt cx="8780040" cy="6409800"/>
          </a:xfrm>
        </p:grpSpPr>
        <p:pic>
          <p:nvPicPr>
            <p:cNvPr id="368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22860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28600" y="304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Tortilha de Gamb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486400" y="1219320"/>
              <a:ext cx="3048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amêijoa; 200 g presunto; 200 g farinha de milho; 1 chouriço de carne; 1 dl vinho bran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Pimen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3"/>
            <a:stretch/>
          </p:blipFill>
          <p:spPr>
            <a:xfrm>
              <a:off x="3808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5486400" y="1981080"/>
              <a:ext cx="3200400" cy="14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1. Colocam-se as amêijoas de molho em água e sal ou águas salgadas a fim de lhes retirar todas as areias que ainda possam ter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2. Entretanto, corta-se o chouriço em rodelas e o presunto em tiras finas, e frita-se tudo numa frigideira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3. Retiram-se as amêijoas da água e levam-se ao lume a cozer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4. Retiram-se do lume e escorre-se a água da cozedura, passando-a por um passador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5. Retira-se o miolo das amêijoas e coloca-se num tacho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6. Junta-se a água da cozedura, adiciona-se o vinho e leva-se tudo ao lume a ferver um pouco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Retira-se do lume e junta-se a farinha em forma de chuva, mexendo sempre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7. Leva-se novamente ao lume para acabar de cozer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8. Juntam-se as carnes e serve-se bem quente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86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2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19320" y="4572000"/>
              <a:ext cx="3124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polvo; 2 cebolas;1 ramo salsa; 2 ovos cozidos; 4 c. sopa azeite; 1 c. sopa vinagre; 4 tomates; Pimenta q.b.; sal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9" name="" descr=""/>
            <p:cNvPicPr/>
            <p:nvPr/>
          </p:nvPicPr>
          <p:blipFill>
            <a:blip r:embed="rId4"/>
            <a:stretch/>
          </p:blipFill>
          <p:spPr>
            <a:xfrm>
              <a:off x="38088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5"/>
            <a:stretch/>
          </p:blipFill>
          <p:spPr>
            <a:xfrm>
              <a:off x="3808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2860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60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28600" y="3581280"/>
              <a:ext cx="4343400" cy="533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86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Salada de Polv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72000" y="304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Xaré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19320" y="1219320"/>
              <a:ext cx="3124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4 ovos; 16 azeitonas recheadas com pim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pimenta preta moída q.b.; 120 g gambas cozidas e descascadas; 3 c. sopa aze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7" name="" descr=""/>
            <p:cNvPicPr/>
            <p:nvPr/>
          </p:nvPicPr>
          <p:blipFill>
            <a:blip r:embed="rId7"/>
            <a:stretch/>
          </p:blipFill>
          <p:spPr>
            <a:xfrm>
              <a:off x="47242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" descr=""/>
            <p:cNvPicPr/>
            <p:nvPr/>
          </p:nvPicPr>
          <p:blipFill>
            <a:blip r:embed="rId8"/>
            <a:stretch/>
          </p:blipFill>
          <p:spPr>
            <a:xfrm>
              <a:off x="47242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1219320" y="2209680"/>
              <a:ext cx="3200400" cy="14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rte as azeitonas em rodela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Bata os ovos com sal, pimenta, pimentão e noz-moscad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Misture as azeitonas cortadas e as gambas escorridas com os ov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Aqueça o azeite numa frigideira adequada para o efeito. Deite os ovos batidos e deixe-os cozer em lume brando. Logo que a tortilha estiver cozida de um lado, vire-a com a ajuda de uma espátula. Deixe cozer durante cerca de 2 minutos do outro lad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Sirva a tortilha acompanhada de uma boa salada e de pão. Ou então, deixe arrefecer e sirva como aperitiv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5720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5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86400" y="4572000"/>
              <a:ext cx="32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2 gambas; 200 g manteiga; 3 dentes alho esmagado; 3 malaguetas; 1 c. sopa sumo de limã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Pimen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2" name="" descr=""/>
            <p:cNvPicPr/>
            <p:nvPr/>
          </p:nvPicPr>
          <p:blipFill>
            <a:blip r:embed="rId9"/>
            <a:stretch/>
          </p:blipFill>
          <p:spPr>
            <a:xfrm>
              <a:off x="4724280" y="457200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10"/>
            <a:stretch/>
          </p:blipFill>
          <p:spPr>
            <a:xfrm>
              <a:off x="47242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5410080" y="5410080"/>
              <a:ext cx="33530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Abra as gambas ao meio no sentido do comprimento, sem separar a cauda e a cabeç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Tempere com sal e pimenta e aloure-as em 150 g de manteiga, juntamente com os dentes de alho esmagados e as malagueta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Quando as gambas estiverem bem louras, retire do lume e regue-as com o sumo de limã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Entretanto, coza o arroz em abudante água com sal. Depois de cozido, escorra-o e junte-lhe a manteiga restant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Sirva as gambas com o arroz e o molh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72000" y="411480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flipV="1" rot="10800000">
              <a:off x="4570920" y="3581280"/>
              <a:ext cx="4343400" cy="533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720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Gambas pican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19320" y="5334120"/>
              <a:ext cx="32004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Prepare e lave o polvo e introduza-o na panela de pressão com 1 copo de água e 1 cebola sem ser descascad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Leve a panela a lume forte e quando levantar pressão, reduza o lume para o mínimo. Deixe cozer 20 minut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Quando a pressão tiver evaporado, escorra o polvo e corte-o em bocadinhos. Coloque-o na saladeir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Pique 1 cebola e 1 ramo de salsa e junte ao polvo. Regue a salada com o azeite e vinagre. Tempere com sal e pimenta e acompanhe com ovo cozido e tomate cortado em bocad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180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63784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1" name="" descr=""/>
            <p:cNvPicPr/>
            <p:nvPr/>
          </p:nvPicPr>
          <p:blipFill>
            <a:blip r:embed="rId12"/>
            <a:stretch/>
          </p:blipFill>
          <p:spPr>
            <a:xfrm>
              <a:off x="228600" y="228600"/>
              <a:ext cx="439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13"/>
            <a:stretch/>
          </p:blipFill>
          <p:spPr>
            <a:xfrm>
              <a:off x="228600" y="3581280"/>
              <a:ext cx="45720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181080" y="228600"/>
            <a:ext cx="8780400" cy="6409800"/>
            <a:chOff x="181080" y="228600"/>
            <a:chExt cx="8780400" cy="6409800"/>
          </a:xfrm>
        </p:grpSpPr>
        <p:pic>
          <p:nvPicPr>
            <p:cNvPr id="404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22860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860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00200" y="990720"/>
              <a:ext cx="2895480" cy="554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VIEI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miolo de vieira contém 13.3 g de proteínas, 0.9 g de gordura, 0.7 g de hidratos de carbono e 64 Kcal. São ricas em vitaminas B12, niacina, selénio, potássio e zinc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LAVAGAN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carne de lavagante contém 22.6 g de proteínas, 0.8 g de gordura, 0.5 g de hidratos de carbono e 99 Kcal. É rico em sais minerais, nomeadamente fósforo e cálcio e vitaminas do grupo B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SAPATEIRA E  SANTOL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carne contém aproximadamente 16 g de proteínas, 1 g de gordura, 0.9 g de hidratos de carbono e 77 Kcal. São uma boa fonte de minerais como o potássio, magnésio e zinco, vitaminas B6, ácido pantogénico e riboflavin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CAMARÃO, GAMBA E LAGOSTI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carne cozida deste crustáceos contém cerca de 20 g de proteínas, 1 g de gordura e 0.3 g de hidratos de carbono. O seu valor calórico varia entre as 89 e 95 Kcal. Todos eles fornecem quantidades razoáveis de sais minerais, vitamina B12 e niacin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LAGOS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lagosta cozida contém cerca de 20.6 g de proteínas, 0.8 g de gordura, 0.2 g de hidratos de carbono e 90 Kcal. Fornece também alguns minerais como fósforo, ferro e cálcio e vitaminas B1, B2 e PP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0" name="" descr=""/>
            <p:cNvPicPr/>
            <p:nvPr/>
          </p:nvPicPr>
          <p:blipFill>
            <a:blip r:embed="rId2"/>
            <a:stretch/>
          </p:blipFill>
          <p:spPr>
            <a:xfrm>
              <a:off x="5029200" y="990720"/>
              <a:ext cx="7621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" descr=""/>
            <p:cNvPicPr/>
            <p:nvPr/>
          </p:nvPicPr>
          <p:blipFill>
            <a:blip r:embed="rId3"/>
            <a:stretch/>
          </p:blipFill>
          <p:spPr>
            <a:xfrm>
              <a:off x="5029200" y="205740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4"/>
            <a:stretch/>
          </p:blipFill>
          <p:spPr>
            <a:xfrm>
              <a:off x="5029200" y="31240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5"/>
            <a:stretch/>
          </p:blipFill>
          <p:spPr>
            <a:xfrm>
              <a:off x="533520" y="9907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6"/>
            <a:stretch/>
          </p:blipFill>
          <p:spPr>
            <a:xfrm>
              <a:off x="533520" y="205740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7"/>
            <a:stretch/>
          </p:blipFill>
          <p:spPr>
            <a:xfrm>
              <a:off x="533520" y="320040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8"/>
            <a:stretch/>
          </p:blipFill>
          <p:spPr>
            <a:xfrm>
              <a:off x="533520" y="434340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9"/>
            <a:stretch/>
          </p:blipFill>
          <p:spPr>
            <a:xfrm>
              <a:off x="533520" y="55627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228600" y="304920"/>
              <a:ext cx="868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Jokerman LET"/>
                </a:rPr>
                <a:t>VALOR NUTRICIO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108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63748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19920" y="990720"/>
              <a:ext cx="2895480" cy="44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OSTRA</a:t>
              </a:r>
              <a:r>
                <a:rPr b="1" lang="pt-PT" sz="900" spc="-1" strike="noStrike">
                  <a:solidFill>
                    <a:srgbClr val="fcab03"/>
                  </a:solidFill>
                  <a:latin typeface="Gill Sans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carne contém 8.6 g de proteínas, 1.7 g de gordura, 3.9 g de hidratos de carbono e 65 Kcal. Constitui uma excelente fonte de vitamina B12, vitamina E e niacina. Fornece sais minerais, entre os quais zinco, cobre, ferro, potássio, selénio e iod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MEXILHÃ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miolo contém 12 g de proteínas, 1.5 g de gordura, 2 g de hidratos de carbono e 70 Kcal. Fornece vitamina B12, vitamina E, riboflavina e ácido fólico. Ricos em ferro, iodo e seléni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AMÊIJO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miolo contém 13.2 g de proteínas, 1.3 g de gordura, 1.6 g de hidratos de carbono e 71 Kcal. Por serem ricas em colesterol, convém consumí-las com moderação, no caso de ser propenso para níveis altos desta gordur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fcab03"/>
                  </a:solidFill>
                  <a:latin typeface="Jokerman LET"/>
                </a:rPr>
                <a:t>BÚZI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44"/>
                  </a:solidFill>
                  <a:latin typeface="Gill Sans"/>
                </a:rPr>
                <a:t>Cada 100 g de búzios frescos contém cerca de 20.8 g de proteínas, 1.4 g de gordura, 2.5 g de hidratos de carbono e 206 Kcal. São também muito ricos em fósforo, cálcio, ferro e cobre, fornecendo ainda vitaminas B1, B2 e PP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2" name="" descr=""/>
            <p:cNvPicPr/>
            <p:nvPr/>
          </p:nvPicPr>
          <p:blipFill>
            <a:blip r:embed="rId10"/>
            <a:stretch/>
          </p:blipFill>
          <p:spPr>
            <a:xfrm>
              <a:off x="5029200" y="4343400"/>
              <a:ext cx="787320" cy="838080"/>
            </a:xfrm>
            <a:prstGeom prst="rect">
              <a:avLst/>
            </a:prstGeom>
            <a:ln w="9360">
              <a:solidFill>
                <a:srgbClr val="bd7648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216720" y="228600"/>
            <a:ext cx="8709120" cy="6409800"/>
            <a:chOff x="216720" y="228600"/>
            <a:chExt cx="8709120" cy="6409800"/>
          </a:xfrm>
        </p:grpSpPr>
        <p:sp>
          <p:nvSpPr>
            <p:cNvPr id="52" name=""/>
            <p:cNvSpPr/>
            <p:nvPr/>
          </p:nvSpPr>
          <p:spPr>
            <a:xfrm>
              <a:off x="5105520" y="5410080"/>
              <a:ext cx="32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99"/>
                  </a:solidFill>
                  <a:latin typeface="Jokerman LET"/>
                </a:rPr>
                <a:t>Mariscos &amp; Cª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2860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600" y="30492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Marisco &amp; Cª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28800" y="1050840"/>
              <a:ext cx="2514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368b6"/>
                  </a:solidFill>
                  <a:latin typeface="Arial"/>
                </a:rPr>
                <a:t>A palavra marisco engloba dois grupos distintos de animais marinhos comestíveis: os moluscos e os crustáceos. Os primeiros seres de corpo mole, protegidos por uma concha, com uma ou duas valvas, denominados por univalves ou bivalves, respectivamente. Os crustáceos incluem todos aqueles cujo corpo é coberto por uma carapaça, que renovam várias vezes ao longo das suas vidas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380880" y="1066680"/>
              <a:ext cx="143208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80880" y="2895480"/>
              <a:ext cx="3810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368b6"/>
                  </a:solidFill>
                  <a:latin typeface="Arial"/>
                </a:rPr>
                <a:t>Com um elevado teor de proteínas, vitaminas e sais minerais e com poucas calorias, os mariscos são autênticos concentrados de nutrientes, sendo por isso um alimento excelente, para além de muito apreciado. O maior inconveniente dos mariscos é a probabilidade de desencadearem reacções alérgicas em pessoas propensas para tal e o perigo de intoxicações alimentares, quando estes não são frescos. Daí a necessidade de certificar-se sempre da sua frescura antes de consumir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76520" y="4267080"/>
              <a:ext cx="2819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368b6"/>
                  </a:solidFill>
                  <a:latin typeface="Arial"/>
                </a:rPr>
                <a:t>Antes de cozinhar os bivalves, lave-os muito bem e deixe-os de molho em água com sal durante 2 horas, para que soltem toda a areia e outras impurezas. Pode também juntar farinha à água, em vez de utilizar sal. Depois, lave-os novamente antes de os levar ao lume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457200" y="4267080"/>
              <a:ext cx="11206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57200" y="541008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368b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368b6"/>
                  </a:solidFill>
                  <a:latin typeface="Arial"/>
                </a:rPr>
                <a:t>Durante a cozedura, todos os bivalves devem abrir as suas conchas. Se isso não acontecer e estas permanecerem fechadas, não os coma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368b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368b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368b6"/>
                  </a:solidFill>
                  <a:latin typeface="Arial"/>
                </a:rPr>
                <a:t>Nunca coma moluscos crus, caso contrário corre o risco de se expor a contaminações de germes que apenas são destruídos após uma cozedura de, pelo menos, seis minutos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368b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368b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672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67348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86400" y="1219320"/>
              <a:ext cx="3048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amêijoa; 200 g presunto; 200 g farinha de milho; 1 chouriço de carne; 1 dl vinho bran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Pimen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86400" y="1981080"/>
              <a:ext cx="3200400" cy="14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1. Colocam-se as amêijoas de molho em água e sal ou águas salgadas a fim de lhes retirar todas as areias que ainda possam ter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2. Entretanto, corta-se o chouriço em rodelas e o presunto em tiras finas, e frita-se tudo numa frigideira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3. Retiram-se as amêijoas da água e levam-se ao lume a cozer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4. Retiram-se do lume e escorre-se a água da cozedura, passando-a por um passador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5. Retira-se o miolo das amêijoas e coloca-se num tacho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6. Junta-se a água da cozedura, adiciona-se o vinho e leva-se tudo ao lume a ferver um pouco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Retira-se do lume e junta-se a farinha em forma de chuva, mexendo sempre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7. Leva-se novamente ao lume para acabar de cozer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8. Juntam-se as carnes e serve-se bem quente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304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Jokerman LET"/>
                </a:rPr>
                <a:t>Xaré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47242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47242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486400" y="4572000"/>
              <a:ext cx="32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2 gambas; 200 g manteiga; 3 dentes alho esmagado; 3 malaguetas; 1 c. sopa sumo de limã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Pimen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6"/>
            <a:stretch/>
          </p:blipFill>
          <p:spPr>
            <a:xfrm>
              <a:off x="4724280" y="457200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7"/>
            <a:stretch/>
          </p:blipFill>
          <p:spPr>
            <a:xfrm>
              <a:off x="47242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5410080" y="5410080"/>
              <a:ext cx="33530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Abra as gambas ao meio no sentido do comprimento, sem separar a cauda e a cabeç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Tempere com sal e pimenta e aloure-as em 150 g de manteiga, juntamente com os dentes de alho esmagados e as malagueta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Quando as gambas estiverem bem louras, retire do lume e regue-as com o sumo de limã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Entretanto, coza o arroz em abundante água com sal. Depois de cozido, escorra-o e junte-lhe a manteiga restant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Sirva as gambas com o arroz e o molh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 rot="10800000">
              <a:off x="4570920" y="3581280"/>
              <a:ext cx="4343400" cy="5335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Gambas pican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707320" y="6392880"/>
              <a:ext cx="184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81080" y="228600"/>
            <a:ext cx="8744400" cy="6409800"/>
            <a:chOff x="181080" y="228600"/>
            <a:chExt cx="8744400" cy="640980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28600" y="3314880"/>
              <a:ext cx="8686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0492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Creme de Maris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62720" y="1219320"/>
              <a:ext cx="25905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50 g farinha torrada; santolas q.b.; gambas q.b.; pão torrado ; 2 Lt água;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 cebolas; 1 c. sopa polpa de; tomate; alho-francês q.b.; cenouras ; sal q.b; piripiri em pó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47242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47242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562720" y="2209680"/>
              <a:ext cx="320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Refogue a cebola, alho francês e cenour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Junte a água e o tomate. Tempere com sal  e picante q.b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Ligue com a farinha torrada, junte a carne passada da santol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e algumas gamba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No fim obtém-se um creme meio espess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Sirva com cubos de pão fri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62720" y="4648320"/>
              <a:ext cx="25905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300 g camarã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300 g cogumelos laminad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 dl natas; 2 c. sopa ketchup; sal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Pimen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472428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47242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562720" y="5638680"/>
              <a:ext cx="320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Numa frigideira, coloque os camarões descascados e os   cogumelos a fritarem com um pouco de margarin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Junte as natas e o ketchup. Continua em lume brando até engrossar um pouco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Se necessário pode-se retocar a quantidade de ketchup. Tempere a gost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200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60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3581280"/>
              <a:ext cx="8686800" cy="533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Delícia de camarõ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08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7312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7"/>
            <a:stretch/>
          </p:blipFill>
          <p:spPr>
            <a:xfrm>
              <a:off x="4572000" y="228600"/>
              <a:ext cx="4017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8"/>
            <a:stretch/>
          </p:blipFill>
          <p:spPr>
            <a:xfrm>
              <a:off x="4572000" y="3581280"/>
              <a:ext cx="4287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28600" y="304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Tortilha de Gamb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9"/>
            <a:stretch/>
          </p:blipFill>
          <p:spPr>
            <a:xfrm>
              <a:off x="3808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10"/>
            <a:stretch/>
          </p:blipFill>
          <p:spPr>
            <a:xfrm>
              <a:off x="3808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86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2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9320" y="4572000"/>
              <a:ext cx="3124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polvo; 2 cebolas;1 ramo salsa; 2 ovos cozidos; 4 c. sopa azeite; 1 c. sopa vinagre; 4 tomates; Pimenta q.b.; sal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11"/>
            <a:stretch/>
          </p:blipFill>
          <p:spPr>
            <a:xfrm>
              <a:off x="38088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12"/>
            <a:stretch/>
          </p:blipFill>
          <p:spPr>
            <a:xfrm>
              <a:off x="3808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860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86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Salada de Polv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1219320"/>
              <a:ext cx="3124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4 ovos; 16 azeitonas recheadas com pim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pimenta preta moída q.b.; 120 g gambas cozidas e descascadas; 3 c. sopa aze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19320" y="2209680"/>
              <a:ext cx="3200400" cy="14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rte as azeitonas em rodela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Bata os ovos com sal, pimenta, pimentão e noz-moscad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Misture as azeitonas cortadas e as gambas escorridas com os ov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Aqueça o azeite numa frigideira adequada para o efeito. Deite os ovos batidos e deixe-os cozer em lume brando. Logo que a tortilha estiver cozida de um lado, vire-a com a ajuda de uma espátula. Deixe cozer durante cerca de 2 minutos do outro lad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Sirva a tortilha acompanhada de uma boa salada e de pão. Ou então, deixe arrefecer e sirva como aperitiv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19320" y="5334120"/>
              <a:ext cx="32004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Prepare e lave o polvo e introduza-o na panela de pressão com 1 copo de água e 1 cebola sem ser descascad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Leve a panela a lume forte e quando levantar pressão, reduza o lume para o mínimo. Deixe cozer 20 minut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Quando a pressão tiver evaporado, escorra o polvo e corte-o em bocadinhos. Coloque-o na saladeir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Pique 1 cebola e 1 ramo de salsa e junte ao polvo. Regue a salada com o azeite e vinagre. Tempere com sal e pimenta e acompanhe com ovo cozido e tomate cortado em bocad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13"/>
            <a:stretch/>
          </p:blipFill>
          <p:spPr>
            <a:xfrm>
              <a:off x="228600" y="228600"/>
              <a:ext cx="439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14"/>
            <a:stretch/>
          </p:blipFill>
          <p:spPr>
            <a:xfrm>
              <a:off x="228600" y="3581280"/>
              <a:ext cx="45720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217440" y="228600"/>
            <a:ext cx="8744040" cy="6409800"/>
            <a:chOff x="217440" y="228600"/>
            <a:chExt cx="8744040" cy="640980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2860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600" y="304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Salada de carangue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19320" y="1219320"/>
              <a:ext cx="2590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500 g carne de carangue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alface; 4 tomate; 1 abacate; pepino em fatias; azeitonas pretas s/caroç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3"/>
            <a:stretch/>
          </p:blipFill>
          <p:spPr>
            <a:xfrm>
              <a:off x="3808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1219320" y="2209680"/>
              <a:ext cx="3200400" cy="14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Tenha pré-preparado para acompanhamento o Molho Rémoulade fresquinh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Parte-se o caranguejo cozido e retira-se-lhe a carne, que se corta em pedaç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Arranjam-se as folhas de alface numa saladeira larg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Coloca-se a carne de caranguejo no centro da travessa e enfeita-se com os tomates, o abacate (sem casca, sem caroço, cortado em fatias e esfregado com sumo de limão), o pepino e as azeitonas em volta do caranguej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Acompanhe com Molho Rémoulade</a:t>
              </a:r>
              <a:r>
                <a:rPr b="0" lang="pt-PT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86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19320" y="4648320"/>
              <a:ext cx="2590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sapateira; 1 ovo cozido; 1 c. chá mostarda; maiones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coentros ; queijo ral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4"/>
            <a:stretch/>
          </p:blipFill>
          <p:spPr>
            <a:xfrm>
              <a:off x="38088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5"/>
            <a:stretch/>
          </p:blipFill>
          <p:spPr>
            <a:xfrm>
              <a:off x="3808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2860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860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8600" y="3581280"/>
              <a:ext cx="4343400" cy="533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86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Jokerman LET"/>
                </a:rPr>
                <a:t>   </a:t>
              </a: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Sapateira à Escoce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30492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Santola Rechead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62720" y="1219320"/>
              <a:ext cx="3276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santola; 3 dl maionese; 1 c. sopa pão ralado: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c. sopa ketchup; 1 c. chá cebolinho picado; sal q.b.; Pimenta q.b.; queijo parmesão ralado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7"/>
            <a:stretch/>
          </p:blipFill>
          <p:spPr>
            <a:xfrm>
              <a:off x="47242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8"/>
            <a:stretch/>
          </p:blipFill>
          <p:spPr>
            <a:xfrm>
              <a:off x="47242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562720" y="2133720"/>
              <a:ext cx="3352680" cy="14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za a santola durante cerca de 15 minutos. Retire e deixe arrefecer um pouc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Separe a carapaça das patas e extraia-lhe tudo o que for comestível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Junte à carne que retirou, a maionese, o pão ralado, o cebolinho e o ketchup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Misture tudo muito bem e tempere com sal e pimenta a gost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Recheie a carapaça com o creme, polvilhe com um pouco de queijo parmesão ralado e leve ao forno a gratinar, por cerca de 5 minut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6. Sirva decorando o prato com as patas e folhas de alfac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1H1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62720" y="4556160"/>
              <a:ext cx="3200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alface; 4 gemas de ovo; pepino salsa ;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425 g mexilhões enlatados; cebolinho; 5 dentes de alho; sal q.b.; 1 c. chá sumo de limão; 1 dl aze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9"/>
            <a:stretch/>
          </p:blipFill>
          <p:spPr>
            <a:xfrm>
              <a:off x="4724280" y="457200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10"/>
            <a:stretch/>
          </p:blipFill>
          <p:spPr>
            <a:xfrm>
              <a:off x="47242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410080" y="5334120"/>
              <a:ext cx="33530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meçar com o “aioli”: num almofariz pisar o alho e o sal. Juntar o sumo de limão e as gemas. Acrescentar o azeite, à temperatura ambiente, gota a gota, mexendo sempr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Dispor os mexilhões num “cama” de alface cortada fina, salsa e cebolinho picado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Cortar o pepino em palitos e pôr à volt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Deitar o molho ou parte dele sobre a salada, servindo o resto à part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0" y="411480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 rot="10800000">
              <a:off x="4570920" y="3581280"/>
              <a:ext cx="4343400" cy="533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72000" y="3657600"/>
              <a:ext cx="4343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Salada de mexilhões com aiol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19320" y="5638680"/>
              <a:ext cx="320040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Abra a sapateira cozida reservando as perna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Aproveite toda a carne da sapateira e desfaça-a para uma tijel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Junte o ovo cozido picado, a mostarda e os coentr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Envolva tudo com a maionese e recheie a casca da sapateir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Polvilhe com queijo ralado e leve ao forno a gratinar por 15 minut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744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3748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12"/>
            <a:stretch/>
          </p:blipFill>
          <p:spPr>
            <a:xfrm>
              <a:off x="228600" y="2286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13"/>
            <a:stretch/>
          </p:blipFill>
          <p:spPr>
            <a:xfrm>
              <a:off x="228600" y="3581280"/>
              <a:ext cx="6094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181800" y="228600"/>
            <a:ext cx="8743320" cy="6409800"/>
            <a:chOff x="181800" y="228600"/>
            <a:chExt cx="8743320" cy="640980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2860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19320" y="4648320"/>
              <a:ext cx="3124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gamba; 1 cabeça de alho; 1 dl azeite 3 malaguetas; 1 dl óleo; sal e pimenta ; 1 c. chá molho inglês; 2 c. sopa sumo de limã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38088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3808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2860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0H35</a:t>
              </a: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860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600" y="3581280"/>
              <a:ext cx="4343400" cy="5335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86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Gambas à alhinh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4556160"/>
              <a:ext cx="3200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percebes; 3 dentes alh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6 folha louro; 3 Lt água do m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5"/>
            <a:stretch/>
          </p:blipFill>
          <p:spPr>
            <a:xfrm>
              <a:off x="4724280" y="457200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6"/>
            <a:stretch/>
          </p:blipFill>
          <p:spPr>
            <a:xfrm>
              <a:off x="47242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5410080" y="5334120"/>
              <a:ext cx="33530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De preferência apanhe os percebes na maré vazia. Os melhores são os gordos, escuros e de lábio vermelho – não apanhe os castanh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Passe-os depois por água corrente para perderem arei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Ferva na água do mar os alhos e o louro.Quando começar a ferver, introduza os percebes e deixe levantar outra vez a fervura (sempre o lume forte) e tire-os de imediato e sirva-os com uma cerveja bem geladinh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72000" y="411480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 rot="10800000">
              <a:off x="4570920" y="3581280"/>
              <a:ext cx="43434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0" y="365760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Percebes à moda do Chef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19320" y="5410080"/>
              <a:ext cx="3200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1. Pegue nas gambas e corte as barbas e a parte da cabeça onde estão os olhos. Abra-as com uma tesoura pelo ventre e retire as carapaças, deixando as cabeças agarradas ao corpo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2. Pique finamente a cabeça de alho e abra ao meio as malaguetas de piripiri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3. Numa frigideira, deixe azeite e óleo e leve ao lume a aquecer e introduza os dentes de alho e o piripiri. Quando a gordura estiver bem quente, coloque as gambas e deixe fritar durante 6 a 10 minutos. Tempere com sal e pimenta, molho inglês e sumo de limão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4. Sirva com pão mole ou torrado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180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67276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8600" y="304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Petisco de Amêijo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19320" y="1219320"/>
              <a:ext cx="312408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amêijoa-preta; 1 dl vinho branco; 2 cebolas; 3 c. sopa margarina; salsa q.b.; coentros q.b.; 1 fatia presunto; pimenta branca moída q.b.; piripiri em pó q.b.; sal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8"/>
            <a:stretch/>
          </p:blipFill>
          <p:spPr>
            <a:xfrm>
              <a:off x="3808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9"/>
            <a:stretch/>
          </p:blipFill>
          <p:spPr>
            <a:xfrm>
              <a:off x="3808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219320" y="2133720"/>
              <a:ext cx="33526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1. Lave as amêijoas e deixe-as de molho em água com sal durante 2 horas, para perderem a areia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2. Depois de escorridas, ponha-as num tacho, junte o vinho e leve ao lume até abrirem. Com uma escumadeira, retire as amêijoas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3. Através de um pano fino, coe o líquido que largaram e reserve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4. Descasque as cebolas, e corte-as em meias-luas e leve ao lume com a margarina. Refogue em lume brando, até a cebola ficar translúcida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5. Polvilhe com salsa e coentros picados, e junte o presunto sem couratos cortado em tirinhas. Refogue de novo e, aos poucos adicione o líquido que reservou e um pouco de água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6. Adicione as amêijoas, tempere com pimenta ou piripiri e aqueça bem, e sirva polvilhadas com mais um pouco de coentros picados frescos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72000" y="318960"/>
              <a:ext cx="4343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Gambas com molho requeij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62720" y="1219320"/>
              <a:ext cx="30477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400 g gambas descascadas e cozid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50 g requeijão; 1 dl natas; queijo ralad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cálice conhaque; sal e pimen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sa picada ; folhas de alface ; rabane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10"/>
            <a:stretch/>
          </p:blipFill>
          <p:spPr>
            <a:xfrm>
              <a:off x="47242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11"/>
            <a:stretch/>
          </p:blipFill>
          <p:spPr>
            <a:xfrm>
              <a:off x="47242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562720" y="2209680"/>
              <a:ext cx="3200400" cy="12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1. Depois de cozidas e descascadas, enxugue as gambas espalhando-as num pano de cozinha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2. Desfaça o requeijão (que deve ser muito fresco) com a varinha mágica ou um passador, de forma a que fique macio e homogéneo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3. Junte o conhaque ou, em alternativa, a aguardente, o queijo ralado (aproximadamente 4 colheres), sal e pimenta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4. Incorpore as natas batidas e junte cuidadosamente as gambas, reservando algumas para decorar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5. Sirva em tacinhas guarnecidas com folhas de alface muito fresca, salsa fresca picada, rabanetes cortados em flor e as gambas que reservou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6. Guardar no frigorífico, mas nunca mais de uma hora antes de servir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1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Bási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12"/>
            <a:stretch/>
          </p:blipFill>
          <p:spPr>
            <a:xfrm>
              <a:off x="228600" y="3581280"/>
              <a:ext cx="439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3"/>
            <a:stretch/>
          </p:blipFill>
          <p:spPr>
            <a:xfrm>
              <a:off x="228600" y="228600"/>
              <a:ext cx="609480" cy="53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216720" y="228600"/>
            <a:ext cx="8745840" cy="6409800"/>
            <a:chOff x="216720" y="228600"/>
            <a:chExt cx="8745840" cy="640980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2860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8600" y="30492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Paté de maris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19320" y="1219320"/>
              <a:ext cx="3047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iolo de camarão; delícias do mar; salsa picada ; piripiri em pó ; maionese ; tostas de cente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3808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219320" y="2209680"/>
              <a:ext cx="32004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Picar salsa e delícias do mar na picador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Colocar numa taça e, adicionar maionese (caseira)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Temperar, a gosto, com gotas de piripiri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Levar ao fri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Servir com pão tostado (tostas), vinho branco verde ou cervej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86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8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19320" y="4648320"/>
              <a:ext cx="3124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50 g camarão descascado; 3 gemas de ov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 c. sopa queijo ralado; 2 dl molho becham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 pitada pimenta-de-caiena; 2 c. chá ketchu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38088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5"/>
            <a:stretch/>
          </p:blipFill>
          <p:spPr>
            <a:xfrm>
              <a:off x="3808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22860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8600" y="3581280"/>
              <a:ext cx="4343400" cy="533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86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Flans de camarã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72000" y="30492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Gambas carna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62720" y="1219320"/>
              <a:ext cx="3124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750 g gamba fresca descascada; 2 folhas de lou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3 dentes de alho esmagados; azeite co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pimenta preta moída q.b.; 1 copo vinagre de vinho branco; 1 c. café sal; 1 c. sopa especiarias (a gost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7"/>
            <a:stretch/>
          </p:blipFill>
          <p:spPr>
            <a:xfrm>
              <a:off x="47242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8"/>
            <a:stretch/>
          </p:blipFill>
          <p:spPr>
            <a:xfrm>
              <a:off x="47242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562720" y="2133720"/>
              <a:ext cx="335268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Ferver todos os ingredientes, excepto as gambas, durante            +/- 2 minut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Juntar as gambas e deixar cozer durante 3 minut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Tirar as gambas em seguida com uma escumadeira para que fiquem frias e não muito passada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Pôr as gambas e o molho em frascos quentes previamente esterilizados, levar ao frigorífico durante 48 horas. Servir fri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720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2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62720" y="4556160"/>
              <a:ext cx="3200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lagosta; 1 folha de louro; 2 cebolas; 4 c. sopa azeite; 1 ramo salsa; vinho branco ; vinho do Port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pimentão q.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9"/>
            <a:stretch/>
          </p:blipFill>
          <p:spPr>
            <a:xfrm>
              <a:off x="4724280" y="457200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0"/>
            <a:stretch/>
          </p:blipFill>
          <p:spPr>
            <a:xfrm>
              <a:off x="47242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410080" y="5334120"/>
              <a:ext cx="33530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Escolha uma lagosta viva e extraia-lhe a tripa com a ajuda de uma das antena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Depois de cortar a lagosta em pedaços, coloque-a num tacho com a cebola, a salsa, os alhos , o louro, tudo muito bem picado e ainda o sal e o azeite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Regue com partes iguais de vinho branco e do Porto de forma a cobrir completamente a lagost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Coza em lume brando, não mex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Logo que termine a cozedura sirva de imedia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0" y="411480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 rot="10800000">
              <a:off x="4570920" y="3581280"/>
              <a:ext cx="4343400" cy="533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720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Lagosta à minha mod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19320" y="5410080"/>
              <a:ext cx="32004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Faz-se o bechamel, retira-se do lume e bate-se com o ketchup, as gemas de ovos e piment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Juntam-se os camarões, reservando de parte alguns dos maiore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Distribui-se por covilhetes de pirex untados que se polvilham com o queijo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Põem-se em cima de cada um 2 camarões , enterrando-os levemente, e cozem-se no forn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672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63856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12"/>
            <a:stretch/>
          </p:blipFill>
          <p:spPr>
            <a:xfrm>
              <a:off x="228600" y="3581280"/>
              <a:ext cx="4302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13"/>
            <a:stretch/>
          </p:blipFill>
          <p:spPr>
            <a:xfrm>
              <a:off x="228600" y="228600"/>
              <a:ext cx="45576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153360" y="228600"/>
            <a:ext cx="8818200" cy="6409800"/>
            <a:chOff x="153360" y="228600"/>
            <a:chExt cx="8818200" cy="6409800"/>
          </a:xfrm>
        </p:grpSpPr>
        <p:pic>
          <p:nvPicPr>
            <p:cNvPr id="224" name="" descr=""/>
            <p:cNvPicPr/>
            <p:nvPr/>
          </p:nvPicPr>
          <p:blipFill>
            <a:blip r:embed="rId1"/>
            <a:stretch/>
          </p:blipFill>
          <p:spPr>
            <a:xfrm>
              <a:off x="200160" y="228600"/>
              <a:ext cx="87624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200160" y="762120"/>
              <a:ext cx="87624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0160" y="228600"/>
              <a:ext cx="87624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8136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0160" y="3276720"/>
              <a:ext cx="43812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0160" y="3581280"/>
              <a:ext cx="4381200" cy="533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0160" y="304920"/>
              <a:ext cx="43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Mexilhões Gratin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99520" y="1066680"/>
              <a:ext cx="3151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mexilhões; 1 cebola; 5 c. sopa aze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vinho branco seco Lt; 1 emb. Salsa; 4 dentes de alho; 80 g queijo parmesão ralado; 5 c. sopa pão ralado; sal q.b.; pimenta preta moíd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3"/>
            <a:stretch/>
          </p:blipFill>
          <p:spPr>
            <a:xfrm>
              <a:off x="353520" y="1219320"/>
              <a:ext cx="654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4"/>
            <a:stretch/>
          </p:blipFill>
          <p:spPr>
            <a:xfrm>
              <a:off x="353520" y="2209680"/>
              <a:ext cx="6868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1199520" y="1817640"/>
              <a:ext cx="3381840" cy="16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1. Limpe bem os mexilhões. Os que estiverem abertos ou concha partida, não os seleccione. 2. Descasque e pique a cebola. Deite uma colher de sopa de azeite numa caçarola grande e deixe fritar a cebola até alourar. Deite para dentro os mexilhões e borrife com o vinho. Deixe-os abrir, com a caçarola tapada durante 5 a 7 minutos, mexendo a caçarola de vez em quando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3. Escorra os mexilhões e não aproveite os que não abriram, pois não estão certamente em boas condições. Retire as conchas vazias e aproveite as que conservam o molusco. Disponha-os num prato de ir ao forno, ou em dois, se preferir. 4. Aqueça previamente o forno a 250ºc. 5. Lave a salsa à torneira e seque-a bem. Pique-a muito finamente, juntamente com os alhos descascados. Misture o queijo e o pão ralado numa tigela e deite por cima o azeite restante. Tempere com sal e pimenta a gosto. Distribua esta mistura por cima dos mexilhões. 6. Coloque o prato com os mexilhões no centro do forno. Em 5 a 8 minutos ficarão com um apetitoso tom dourado. 7. Sirva-os quentes e acompanhe-os com uma salada com rabanetes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0160" y="762120"/>
              <a:ext cx="43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5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99520" y="4556160"/>
              <a:ext cx="3304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amêijoa; azeite dl; 2 dentes alho; 1 ramo coen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3 c. sopa vinho branco; sal q.b.; Pimenta q.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5"/>
            <a:stretch/>
          </p:blipFill>
          <p:spPr>
            <a:xfrm>
              <a:off x="353520" y="4572000"/>
              <a:ext cx="654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6"/>
            <a:stretch/>
          </p:blipFill>
          <p:spPr>
            <a:xfrm>
              <a:off x="353520" y="5638680"/>
              <a:ext cx="6868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045440" y="5529240"/>
              <a:ext cx="338220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Lave muito bem as amêijoas. Leve ao lume o azeite e frite nele os dentes de alho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Em seguida, adicione os coentros picados e as amêijoas e tempere com sal e piment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Vá sacudindo a frigideira até que as amêijoas estejam todas abertas e depois regue-as com o vinho. Deixe evaporar um pouco e sirva de segu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0160" y="4114800"/>
              <a:ext cx="43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 rot="10800000">
              <a:off x="4581360" y="3581280"/>
              <a:ext cx="4381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0160" y="3657600"/>
              <a:ext cx="43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Amêijoas à Bulhão P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336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71920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81360" y="304920"/>
              <a:ext cx="438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ffffff"/>
                  </a:solidFill>
                  <a:latin typeface="Jokerman LET"/>
                </a:rPr>
                <a:t>Folhados de marisco e cogumel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80720" y="1219320"/>
              <a:ext cx="307404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350 g massa folhada; 20 g cogumelos laminad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00 g miolo de camarão; 100 g delícias do m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 dl natas; 1 gema de ovo; 2 c. sopa manteig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dente de alho; 1 ramo coentros; sal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pimenta branca moída q.b.; piripiri em pó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8"/>
            <a:stretch/>
          </p:blipFill>
          <p:spPr>
            <a:xfrm>
              <a:off x="4735080" y="1219320"/>
              <a:ext cx="654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9"/>
            <a:stretch/>
          </p:blipFill>
          <p:spPr>
            <a:xfrm>
              <a:off x="4735080" y="2209680"/>
              <a:ext cx="6868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5580720" y="2209680"/>
              <a:ext cx="3228120" cy="12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Estenda a massa folhada, corte pequenos círculos e pincele-os com a gema de ovo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Leve ao forno cerca de 15 minutos, à temperatura de 170ºC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Entretanto, ponha a manteiga ao lume e refogue o alho picado, o miolo de camarão, as delícias do mar e os cogumelos picad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Adicione as natas, mexa bem, deixe engrossar e tempere. Polvilhe com os coentros picado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Retire os folhadinhos do forno, abra-os ao meio e recheie-os com este preparado.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81360" y="762120"/>
              <a:ext cx="43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5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80720" y="4648320"/>
              <a:ext cx="315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camarão descascado; natas, maionese; ananá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10"/>
            <a:stretch/>
          </p:blipFill>
          <p:spPr>
            <a:xfrm>
              <a:off x="4735080" y="4648320"/>
              <a:ext cx="654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11"/>
            <a:stretch/>
          </p:blipFill>
          <p:spPr>
            <a:xfrm>
              <a:off x="4735080" y="5638680"/>
              <a:ext cx="6868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4581360" y="4191120"/>
              <a:ext cx="438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5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81360" y="3657600"/>
              <a:ext cx="438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ffffff"/>
                  </a:solidFill>
                  <a:latin typeface="Jokerman LET"/>
                </a:rPr>
                <a:t>Folhados de camarão com ananá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80720" y="5029200"/>
              <a:ext cx="3228120" cy="14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Estenda a massa folhada , já descongelada, e corte-a em quadrados com 15cm de lado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Dobre os cantos formando uma espécie de cesto, mas deixando uma abertura para colocar o recheio, e leve ao forno até dourar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Coza os camarões em água e sal e descasque-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Misture as natas com a maionese e tempere com gotas de sumo de limã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Corte o ananás em pedacinhos e junte à mistura. Adicione também os camarões, reservando alguns para decorar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6. Quando os cestinhos estiverem frios, encha-os com o rechei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7. Decore com a alface, os camarões e azeitona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12"/>
            <a:stretch/>
          </p:blipFill>
          <p:spPr>
            <a:xfrm>
              <a:off x="200160" y="228600"/>
              <a:ext cx="53784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13"/>
            <a:stretch/>
          </p:blipFill>
          <p:spPr>
            <a:xfrm>
              <a:off x="200160" y="3581280"/>
              <a:ext cx="46116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227880" y="228600"/>
            <a:ext cx="8744760" cy="6409800"/>
            <a:chOff x="227880" y="228600"/>
            <a:chExt cx="8744760" cy="6409800"/>
          </a:xfrm>
        </p:grpSpPr>
        <p:sp>
          <p:nvSpPr>
            <p:cNvPr id="260" name=""/>
            <p:cNvSpPr/>
            <p:nvPr/>
          </p:nvSpPr>
          <p:spPr>
            <a:xfrm>
              <a:off x="23976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 rot="10800000">
              <a:off x="4582080" y="3581280"/>
              <a:ext cx="4343400" cy="533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" descr=""/>
            <p:cNvPicPr/>
            <p:nvPr/>
          </p:nvPicPr>
          <p:blipFill>
            <a:blip r:embed="rId2"/>
            <a:stretch/>
          </p:blipFill>
          <p:spPr>
            <a:xfrm>
              <a:off x="239760" y="228600"/>
              <a:ext cx="86868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23976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8316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9760" y="30492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ffffff"/>
                  </a:solidFill>
                  <a:latin typeface="Jokerman LET"/>
                </a:rPr>
                <a:t>Amêijoas à minha moda (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97560" y="1219320"/>
              <a:ext cx="3048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amêijoa; 3 c. sopa azeite; 2 dentes de alho esmagados; 1 limão; coentros picado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Pimenta q.b.; sal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3"/>
            <a:stretch/>
          </p:blipFill>
          <p:spPr>
            <a:xfrm>
              <a:off x="39204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4"/>
            <a:stretch/>
          </p:blipFill>
          <p:spPr>
            <a:xfrm>
              <a:off x="39204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497560" y="2133720"/>
              <a:ext cx="3200400" cy="14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loque as amêijoas numa tigela, cubra com água, junte bastante sal e deixe de molho por algumas horas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Lave as amêijoas até retirar toda a areia e escorr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Numa panela coloque o azeite e deixe aquecer em lume brando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Junte o alho picado e frite alourar. Acrescente as amêijoas e os coentr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Tempere com sal e pimenta a gosto e cozinhe, sacudindo a panela de vez em quando até todas as amêijoas ficarem aberta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6. Regue com o sumo do limão e retire do lume, servindo imediatamen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976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73880" y="4572000"/>
              <a:ext cx="3124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 brioches (em forma de queque); 200 g carne de caranguejo; limão; 2 pés coentros frescos; 2 c. sopa natas; caril em pó c. sopa; 100 g ervilhas; agriõe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pimenta branca moíd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5"/>
            <a:stretch/>
          </p:blipFill>
          <p:spPr>
            <a:xfrm>
              <a:off x="473544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6"/>
            <a:stretch/>
          </p:blipFill>
          <p:spPr>
            <a:xfrm>
              <a:off x="473544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58316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976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9760" y="3581280"/>
              <a:ext cx="43434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8316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Brioche surpres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83160" y="304920"/>
              <a:ext cx="4343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Amêijoas à minha moda</a:t>
              </a:r>
              <a:r>
                <a:rPr b="0" lang="en-US" sz="2800" spc="-1" strike="noStrike">
                  <a:solidFill>
                    <a:srgbClr val="ffffff"/>
                  </a:solidFill>
                  <a:latin typeface="Jokerman LET"/>
                </a:rPr>
                <a:t> (II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30480" y="1219320"/>
              <a:ext cx="3124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amêijoa; 3 c. sopa azeite; 2 dentes alho pic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limão; Pimenta q.b.; sal q.b.; coentros picados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0" name="" descr=""/>
            <p:cNvPicPr/>
            <p:nvPr/>
          </p:nvPicPr>
          <p:blipFill>
            <a:blip r:embed="rId8"/>
            <a:stretch/>
          </p:blipFill>
          <p:spPr>
            <a:xfrm>
              <a:off x="473544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9"/>
            <a:stretch/>
          </p:blipFill>
          <p:spPr>
            <a:xfrm>
              <a:off x="473544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230480" y="2209680"/>
              <a:ext cx="32004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loque as amêijoas numa tigela, cubra com água, junte bastante sal e deixe de molho por algumas horas. Lave as amêijoas até retirar toda a areia e escorr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Numa panela coloque o azeite e deixe aquecer em lume brando. Junte o alho picado e frite alourar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Acrescente as amêijoas e os coentros. Tempere com sal e pimenta a gosto e cozinhe, sacudindo a panela de vez em quando até todas as amêijoas ficarem aberta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Regue com o sumo do limão e retire do lume, servindo imediatament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8316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73880" y="5421240"/>
              <a:ext cx="3200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1. Escorra a carne de caranguejo, desfie-a e deite-a numa tigela. Polvilhe com a casca de limão ralada e regue-a com o sumo do mesmo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2. Desfolhe os pés de coentros e migue as folhas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3. Deite as natas numa tigela, junte o caril, tempere com sal pimenta e bata. Adicione este creme ao caranguejo e misture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4. Acrescente as ervilhas e os coentros e misture tudo muito bem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5. Corte um chapéu aos brioches e escave-lhes cuidadosamente o miolo com ajuda de uma colher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6. Recheie os brioches com o preparo de caranguejo, enfeite com umas folhinhas de agrião e sirva.</a:t>
              </a:r>
              <a:r>
                <a:rPr b="0" lang="pt-PT" sz="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788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64864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30480" y="4479840"/>
              <a:ext cx="3276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kg camarão; 8 ovos cozid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anteiga derretida q.b.; 2 folhas de alf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8" name="" descr=""/>
            <p:cNvPicPr/>
            <p:nvPr/>
          </p:nvPicPr>
          <p:blipFill>
            <a:blip r:embed="rId10"/>
            <a:stretch/>
          </p:blipFill>
          <p:spPr>
            <a:xfrm>
              <a:off x="392040" y="449568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11"/>
            <a:stretch/>
          </p:blipFill>
          <p:spPr>
            <a:xfrm>
              <a:off x="392040" y="5562720"/>
              <a:ext cx="6811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1077840" y="5452920"/>
              <a:ext cx="335304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zem-se os camarões como de costume, com sal, pimenta, cebola e logo que estejam cozidos devem ser descascad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Coloque-os num prato de sobremesa, sobre uma bonita folha de alface - cortada muito fina, deixando uma barrinha a toda a volta do prato, onde devem ficar rodelas de ovo cozid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O resto dos ovos é aproveitado, picando os mesmos e deitando-os sobre os camarões, regando-se de seguida com manteiga derretid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9760" y="403848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9760" y="358128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Camarões maravilho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3" name="" descr=""/>
            <p:cNvPicPr/>
            <p:nvPr/>
          </p:nvPicPr>
          <p:blipFill>
            <a:blip r:embed="rId12"/>
            <a:stretch/>
          </p:blipFill>
          <p:spPr>
            <a:xfrm>
              <a:off x="239760" y="3581280"/>
              <a:ext cx="439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13"/>
            <a:stretch/>
          </p:blipFill>
          <p:spPr>
            <a:xfrm>
              <a:off x="239760" y="228600"/>
              <a:ext cx="45720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181080" y="228600"/>
            <a:ext cx="8743680" cy="6409800"/>
            <a:chOff x="181080" y="228600"/>
            <a:chExt cx="8743680" cy="640980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86868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228600" y="762120"/>
              <a:ext cx="8686800" cy="55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8600" y="228600"/>
              <a:ext cx="8686800" cy="640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72000" y="228600"/>
              <a:ext cx="0" cy="6400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8600" y="3049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Jokerman LET"/>
                </a:rPr>
                <a:t>Ensopado de mexilhõ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86400" y="1219320"/>
              <a:ext cx="3048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1 sapateira; 1 cebola; 3 dl azeite; 3 c. sopa polpa de tomate; 750 g pão caseiro; 4 ovos; sal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Pimen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2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3"/>
            <a:stretch/>
          </p:blipFill>
          <p:spPr>
            <a:xfrm>
              <a:off x="3808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5486400" y="2057400"/>
              <a:ext cx="32004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Corte a cebola às rodelas, deite num tacho e regue com azeite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Ponha a carne retirada da sapateira por cim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Deixe a cebola refogar com a sapateira e quando estiver loura regue com um pouco de água. Adicione a calda de tomate e deixe apurar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Corte o pão em fatias, coloque-as no tacho e deixe embeber bem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. Bata os ovos com um pouco de sal e pimenta, junte-os à açorda e mexa tudo muito bem para impedir que os ovos talhem. Sirva imediatament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86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5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19320" y="4572000"/>
              <a:ext cx="3124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450 g camarão; 4 c. sopa maionese; 1 c. sopa ketchup; 4 c. sopa natas batidas; 1 c. sopa salsa picada; alfaces cortadas em pedaços q.b.; paprika q.b.; 1 c. café molho inglês; 3 c. sopa conhaque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7" name="" descr=""/>
            <p:cNvPicPr/>
            <p:nvPr/>
          </p:nvPicPr>
          <p:blipFill>
            <a:blip r:embed="rId4"/>
            <a:stretch/>
          </p:blipFill>
          <p:spPr>
            <a:xfrm>
              <a:off x="380880" y="4648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5"/>
            <a:stretch/>
          </p:blipFill>
          <p:spPr>
            <a:xfrm>
              <a:off x="3808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228600" y="4191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8600" y="3276720"/>
              <a:ext cx="4343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8600" y="3581280"/>
              <a:ext cx="4343400" cy="533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86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Cocktail de camarã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72000" y="30492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ffffff"/>
                  </a:solidFill>
                  <a:latin typeface="Jokerman LET"/>
                </a:rPr>
                <a:t>Açorda de sapateira com tom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19320" y="1219320"/>
              <a:ext cx="3124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2 kg mexilhão; 2 cebolas; 4 toma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4 dentes de alho; garrafa de vinho bran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coentros frescos molho; 4 fatias pão fri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sal q.b.; molho picant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5" name="" descr=""/>
            <p:cNvPicPr/>
            <p:nvPr/>
          </p:nvPicPr>
          <p:blipFill>
            <a:blip r:embed="rId7"/>
            <a:stretch/>
          </p:blipFill>
          <p:spPr>
            <a:xfrm>
              <a:off x="4724280" y="121932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8"/>
            <a:stretch/>
          </p:blipFill>
          <p:spPr>
            <a:xfrm>
              <a:off x="4724280" y="2209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219320" y="2209680"/>
              <a:ext cx="32004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Estufar no azeite as cebolas e os alho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Molhe com o vinho e acrescente o tomate esmagado. Deixe cozinhar 20 minut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Abra os mexilhões dentro deste estufad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Polvilhe com os coentros picados. Sirva sobre pão frito.</a:t>
              </a: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72000" y="76212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4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Mé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62720" y="4556160"/>
              <a:ext cx="3276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300 g camarão descascado; 1 lata cogumelos laminados; 2 dl natas; 2 c. sopa ketchup; sal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Pimenta q.b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0" name="" descr=""/>
            <p:cNvPicPr/>
            <p:nvPr/>
          </p:nvPicPr>
          <p:blipFill>
            <a:blip r:embed="rId9"/>
            <a:stretch/>
          </p:blipFill>
          <p:spPr>
            <a:xfrm>
              <a:off x="4724280" y="4572000"/>
              <a:ext cx="6494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0"/>
            <a:stretch/>
          </p:blipFill>
          <p:spPr>
            <a:xfrm>
              <a:off x="4724280" y="5638680"/>
              <a:ext cx="681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410080" y="5529240"/>
              <a:ext cx="335304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Numa frigideira põe-se os camarões e os cogumelos, a fritarem com um pouco de margarin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Junte as natas e o ketchup. Continua em lume brando até engrossar um pouco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Se necessário pode-se retocar a quantidade de ketchup. Tempere a gost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Acompanhe com Vinho Ver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72000" y="4114800"/>
              <a:ext cx="434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Nº pessoas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Tempo: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 0H30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PT" sz="1000" spc="-1" strike="noStrike">
                  <a:solidFill>
                    <a:srgbClr val="666666"/>
                  </a:solidFill>
                  <a:latin typeface="Arial"/>
                </a:rPr>
                <a:t>Grau: </a:t>
              </a:r>
              <a:r>
                <a:rPr b="0" lang="pt-PT" sz="1000" spc="-1" strike="noStrike">
                  <a:solidFill>
                    <a:srgbClr val="000000"/>
                  </a:solidFill>
                  <a:latin typeface="Arial"/>
                </a:rPr>
                <a:t>Fác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 rot="10800000">
              <a:off x="4570920" y="3581280"/>
              <a:ext cx="4343400" cy="533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72000" y="365760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800" spc="-1" strike="noStrike">
                  <a:solidFill>
                    <a:srgbClr val="ffffff"/>
                  </a:solidFill>
                  <a:latin typeface="Jokerman LET"/>
                </a:rPr>
                <a:t>Camarões delicios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19320" y="5421240"/>
              <a:ext cx="32004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. Depois de cozidos, descasque os camarões e reserv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. Numa taça, coloque maionese e adicione o ketchup, o molho inglês, o conhaque e tempere com sal e pimenta. Por fim, misture cuidadosamente as natas batidas bem frias e os camarões. Envolva bem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. Distribua a alface por taças individuais e o cocktail de camarão por cima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. Polvilhe com a salsa picada e uma pitada de paprika. Sirva muito fresco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1080" y="639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672400" y="63921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368b6"/>
                  </a:solidFill>
                  <a:latin typeface="Jokerman LET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9" name="" descr=""/>
            <p:cNvPicPr/>
            <p:nvPr/>
          </p:nvPicPr>
          <p:blipFill>
            <a:blip r:embed="rId12"/>
            <a:stretch/>
          </p:blipFill>
          <p:spPr>
            <a:xfrm>
              <a:off x="228600" y="228600"/>
              <a:ext cx="53352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13"/>
            <a:stretch/>
          </p:blipFill>
          <p:spPr>
            <a:xfrm>
              <a:off x="228600" y="3581280"/>
              <a:ext cx="43020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5:54:46Z</dcterms:created>
  <dc:creator>123 321</dc:creator>
  <dc:description/>
  <dc:language>en-US</dc:language>
  <cp:lastModifiedBy>CEGER</cp:lastModifiedBy>
  <cp:lastPrinted>2004-03-17T19:08:21Z</cp:lastPrinted>
  <dcterms:modified xsi:type="dcterms:W3CDTF">2004-03-25T16:56:42Z</dcterms:modified>
  <cp:revision>67</cp:revision>
  <dc:subject/>
  <dc:title>PowerPoint Presentation</dc:title>
</cp:coreProperties>
</file>