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624-DDD4-4F59-9BDB-183EB77D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E84-5C6B-4569-9756-98A0944F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3A0-93DC-4C0B-BAC3-CC59C7B4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375-F0BB-4A2C-A1BA-A860AB5B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C20-3471-41E8-B5B2-7C252C7D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5C7-ACBC-4ED1-8FA4-A9615A03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05B-3E20-4A9D-B275-B20B30AF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9E4-D768-4A52-8F28-4DA63F2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779-6C9D-49F1-81F3-937C3A9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966-FE10-482C-B3E2-71C595A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05F-7B7F-41B3-9467-3B8270D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106-C29E-4DE2-9EA6-6449277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E4E4-774F-40E9-95D3-7DE63A68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osterandpartners.com/" TargetMode="External"/><Relationship Id="rId3" Type="http://schemas.openxmlformats.org/officeDocument/2006/relationships/hyperlink" Target="http://www.fosterandpartners.com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mailto:reginaldorepres@yahoo.com.br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38440"/>
            <a:ext cx="9144000" cy="4219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268280"/>
            <a:ext cx="91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Que a China está crescendo e assustando o mun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não é novidade, mas algumas coisas que ela f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da me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47628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EROPORTO DE PEQUI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50840" y="533520"/>
            <a:ext cx="676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São 16 tonalidades de vermelho no teto, que garan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uma leve divisão entre as zonas do aeropo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19840" y="380880"/>
            <a:ext cx="62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As curvas do teto causam um efeito de mov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de um dragão chinês e as clarabóias reme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a textura de sua p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37360" y="380880"/>
            <a:ext cx="59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  <a:ea typeface="Arial"/>
              </a:rPr>
              <a:t>São 90 lojas, bares, restaurantes e sal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  <a:ea typeface="Arial"/>
              </a:rPr>
              <a:t>massagem, tudo para o conforto do passageiro</a:t>
            </a:r>
            <a:r>
              <a:rPr b="0" lang="en-US" sz="2000" spc="-1" strike="noStrike">
                <a:solidFill>
                  <a:srgbClr val="ffff66"/>
                </a:solidFill>
                <a:latin typeface="Arial Black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19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Apesar da grandiosidade, este aeroporto foi planej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para ser fácil locomover-se por ele. Ninguém se per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09600" y="5562720"/>
            <a:ext cx="296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Hora do desembar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vamos retirar as malas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53840" y="533520"/>
            <a:ext cx="583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Elementos da cultura chinesa estão espalh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por todo o aeroporto de Pequim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Já é uma excelente prévia do que o tur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vai ver no paí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29440" y="617220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Esteiras rolant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85520" y="594360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  <a:ea typeface="Arial"/>
              </a:rPr>
              <a:t>Hora do check-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64040" y="581184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Sala de e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28600" y="231840"/>
            <a:ext cx="9601200" cy="6394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8840" y="3808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Arquitetura inspirada em 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dragão, típico d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daquele país.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6060960"/>
            <a:ext cx="1857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-54000"/>
            <a:ext cx="8001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5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457200"/>
            <a:ext cx="85345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33"/>
                </a:solidFill>
                <a:latin typeface="Arial Black"/>
                <a:ea typeface="Times New Roman"/>
              </a:rPr>
              <a:t>O aeroporto de Pequim, projetado pelos arquitetos britânicos d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 Black"/>
                <a:ea typeface="Times New Roman"/>
                <a:hlinkClick r:id="rId2"/>
              </a:rPr>
              <a:t>Foster+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 Black"/>
                <a:ea typeface="Times New Roman"/>
                <a:hlinkClick r:id="rId3"/>
              </a:rPr>
              <a:t>Partners</a:t>
            </a:r>
            <a:r>
              <a:rPr b="0" lang="pt-BR" sz="1800" spc="-1" strike="noStrike">
                <a:solidFill>
                  <a:srgbClr val="ccff33"/>
                </a:solidFill>
                <a:latin typeface="Arial Black"/>
                <a:ea typeface="Times New Roman"/>
              </a:rPr>
              <a:t>, está pronto e impressionando a todos. Ele tem mais de 1 milhão m2, e segundo a Time, o custo total do projeto foi de mais de 3 bilhões de dólares. O resultado de todo este investimento é um aeroporto gigantesco, ultra-moderno, eficiente, confortável e com acesso à luz natural, uma importante economia para uma construção faraônica como esta.</a:t>
            </a:r>
            <a:r>
              <a:rPr b="0" lang="pt-BR" sz="1800" spc="-1" strike="noStrike">
                <a:solidFill>
                  <a:srgbClr val="ccff33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569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00760" y="91440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Ao cair do dia, 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tudo bom de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819520"/>
            <a:ext cx="3031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Imagens e Tex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Recebidos por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Trilha Sono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DREAMS (The Cranber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Formatação: Reg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eginaldorepres@yahoo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6400800" y="61722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Veja Nov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0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4956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O maior e mais avançado aeroporto do mundo – não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em tecnologia – em eficiência, em sustentabilidad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cuidado com os passageiros. O novo aeroporto de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é uma obra prima, um símbolo. Seu teto aerodinâmico e o formato de dragão celebram a emoção de voar e evocam as tradições chinesas, suas cores e símbo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57480" y="457200"/>
            <a:ext cx="50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Tão gigante que dá para perder de vista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09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  <a:ea typeface="Arial"/>
              </a:rPr>
              <a:t>O aeroporto receberá mais de 500 mil vôos por 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54360" y="5715000"/>
            <a:ext cx="52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Teto em aço com aberturas que garan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uma iluminação interna natural.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60640" y="5867280"/>
            <a:ext cx="47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São 3 quilômetros e meio de ext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de norte a sul do aeropo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44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49200" y="5867280"/>
            <a:ext cx="488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As colunas vermelhas são para lemb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os antigos templos chineses.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5:59:53Z</dcterms:created>
  <dc:creator>Reginaldo Vieira Matos</dc:creator>
  <dc:description/>
  <dc:language>en-US</dc:language>
  <cp:lastModifiedBy>Roberto</cp:lastModifiedBy>
  <dcterms:modified xsi:type="dcterms:W3CDTF">2008-10-01T22:44:23Z</dcterms:modified>
  <cp:revision>26</cp:revision>
  <dc:subject/>
  <dc:title>Apresentação do PowerPoint</dc:title>
</cp:coreProperties>
</file>