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EDB-6D0D-4E62-8307-3D8501B1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CED-2360-43A2-9A64-E1621035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2A8-6EBA-4675-A25F-CC5EF47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2FE-4EFC-4B60-A332-E8E52CBA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DDC-1E52-49AD-B61B-C2A470B6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FB2-C13E-4BA8-A90E-58CC308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FA5-74AD-48F0-B568-A79521F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BD2-4D0E-449A-90E0-6DAC8094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38E-5ACC-4AAC-9D8F-82D7A489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03-24B1-4719-BD4E-B854104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11E-B452-4811-A0DC-B0CC5C5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29D-DD61-4F9A-AF8E-8609926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7C4E-2B5C-4395-A1D8-7B2C1E17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osterandpartners.com/" TargetMode="External"/><Relationship Id="rId3" Type="http://schemas.openxmlformats.org/officeDocument/2006/relationships/hyperlink" Target="http://www.fosterandpartners.com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mailto:reginaldorepres@yahoo.com.br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38440"/>
            <a:ext cx="9144000" cy="4219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268280"/>
            <a:ext cx="91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Que a China está crescendo e assustando o mu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não é novidade, mas algumas coisas que ela f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da me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7628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EROPORTO DE PEQUI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50840" y="533520"/>
            <a:ext cx="676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São 16 tonalidades de vermelho no teto, que garan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uma leve divisão entre as zonas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19840" y="380880"/>
            <a:ext cx="62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s curvas do teto causam um efeito de mov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de um dragão chinês e as clarabóias reme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 textura de sua p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37360" y="380880"/>
            <a:ext cx="59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  <a:ea typeface="Arial"/>
              </a:rPr>
              <a:t>São 90 lojas, bares, restaurantes e sal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  <a:ea typeface="Arial"/>
              </a:rPr>
              <a:t>massagem, tudo para o conforto do passageiro</a:t>
            </a:r>
            <a:r>
              <a:rPr b="0" lang="en-US" sz="2000" spc="-1" strike="noStrike">
                <a:solidFill>
                  <a:srgbClr val="ffff66"/>
                </a:solidFill>
                <a:latin typeface="Arial Black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199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Apesar da grandiosidade, este aeroporto foi planej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para ser fácil locomover-se por ele. Ninguém se p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09600" y="5562720"/>
            <a:ext cx="296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Hora do desembar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vamos retirar as malas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53840" y="533520"/>
            <a:ext cx="583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Elementos da cultura chinesa estão espalh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por todo o aeroporto de Pequim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Já é uma excelente prévia do que o tur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vai ver no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29440" y="617220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Esteiras rolant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85520" y="59436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 Black"/>
                <a:ea typeface="Arial"/>
              </a:rPr>
              <a:t>Hora do check-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64040" y="581184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Sala de e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231840"/>
            <a:ext cx="9601200" cy="6394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8840" y="3808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rquitetura inspirada em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ragão, típico d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aquele país.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6060960"/>
            <a:ext cx="1857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-54000"/>
            <a:ext cx="8001000" cy="6900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5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457200"/>
            <a:ext cx="85345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33"/>
                </a:solidFill>
                <a:latin typeface="Arial Black"/>
                <a:ea typeface="Times New Roman"/>
              </a:rPr>
              <a:t>O aeroporto de Pequim, projetado pelos arquitetos britânicos d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Black"/>
                <a:ea typeface="Times New Roman"/>
                <a:hlinkClick r:id="rId2"/>
              </a:rPr>
              <a:t>Foster+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 Black"/>
                <a:ea typeface="Times New Roman"/>
                <a:hlinkClick r:id="rId3"/>
              </a:rPr>
              <a:t>Partners</a:t>
            </a:r>
            <a:r>
              <a:rPr b="0" lang="pt-BR" sz="1800" spc="-1" strike="noStrike">
                <a:solidFill>
                  <a:srgbClr val="ccff33"/>
                </a:solidFill>
                <a:latin typeface="Arial Black"/>
                <a:ea typeface="Times New Roman"/>
              </a:rPr>
              <a:t>, está pronto e impressionando a todos. Ele tem mais de 1 milhão m2, e segundo a Time, o custo total do projeto foi de mais de 3 bilhões de dólares. O resultado de todo este investimento é um aeroporto gigantesco, ultra-moderno, eficiente, confortável e com acesso à luz natural, uma importante economia para uma construção faraônica como esta.</a:t>
            </a:r>
            <a:r>
              <a:rPr b="0" lang="pt-BR" sz="18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569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00760" y="91440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o cair do dia, 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tudo bom de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819520"/>
            <a:ext cx="3031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Imagens e Tex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Recebidos por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Trilha Sono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DREAMS (The Cranber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Formatação: Reg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eginaldorepres@yaho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6400800" y="61722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Veja Nov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O maior e mais avançado aeroporto do mundo – não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m tecnologia – em eficiência, em sustentabilidad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cuidado com os passageiros. O novo aeroporto de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é uma obra prima, um símbolo. Seu teto aerodinâmico e o formato de dragão celebram a emoção de voar e evocam as tradições chinesas, suas cores e símbo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57480" y="457200"/>
            <a:ext cx="50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Tão gigante que dá para perder de vista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09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  <a:ea typeface="Arial"/>
              </a:rPr>
              <a:t>O aeroporto receberá mais de 500 mil vôos por 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54360" y="5715000"/>
            <a:ext cx="52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Teto em aço com aberturas que garan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  <a:ea typeface="Arial"/>
              </a:rPr>
              <a:t>uma iluminação interna natural.</a:t>
            </a: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60640" y="5867280"/>
            <a:ext cx="47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São 3 quilômetros e meio de exten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de norte a sul do aeropor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444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49200" y="5867280"/>
            <a:ext cx="488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As colunas vermelhas são para lemb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  <a:ea typeface="Arial"/>
              </a:rPr>
              <a:t>os antigos templos chineses.</a:t>
            </a: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5:59:53Z</dcterms:created>
  <dc:creator>Reginaldo Vieira Matos</dc:creator>
  <dc:description/>
  <dc:language>en-US</dc:language>
  <cp:lastModifiedBy>Roberto</cp:lastModifiedBy>
  <dcterms:modified xsi:type="dcterms:W3CDTF">2008-10-01T22:44:23Z</dcterms:modified>
  <cp:revision>26</cp:revision>
  <dc:subject/>
  <dc:title>Apresentação do PowerPoint</dc:title>
</cp:coreProperties>
</file>