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42E-629F-4603-855D-708F663B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025-B787-4CC0-980D-0758844A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AA5-6502-4A81-A7C5-B6E6B0A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2FE-FBEF-4005-A2FD-522283A1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4B9-39A3-412B-A790-98CCF61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81F-1688-4810-B7E4-F61F7309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B5B-FEF0-4AE0-A795-8CA1D2ED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891-B0E5-436A-A12E-8778A6C8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BF1-70C6-4550-B6C1-B2AE7C4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E23-827D-4C37-AFD2-E308642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99E-2553-4A46-A9F5-D7F986A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33F-7C08-4EF3-AD7E-F5FBE29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D97F-C3AE-49E1-B1C9-40573F896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4880" y="671400"/>
            <a:ext cx="7829640" cy="5081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7288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774880"/>
            <a:ext cx="8534520" cy="1684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ra aqui está uma boa ideia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 pôr em prática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75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75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514600"/>
            <a:ext cx="7239240" cy="2208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Com as facturas da electricidade, do telef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recebes PUBLICIDADE ! Não a deites for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GUARDA-A, junta-a e reenvia-a aos respectivos serviç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Deixa-os serem eles a deitá-la ao lix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3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3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4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3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1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990720"/>
            <a:ext cx="7239240" cy="1576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Recebes correio para empréstimos, cartõ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crédito… ou « negócios », muitas vezes acompanhados de ENVELOPES DE RESPOSTA PAGA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251240"/>
            <a:ext cx="7239240" cy="1191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m vez de os deitares ao lixo, mete essas inutilidades nos tais envelopezinhos e põe-nos no correi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7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2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9296640" cy="161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nv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 pub do mecânico automóvel… ao teu operador telefón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s cupões de desconto de pizzas ao… teu ban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s promoções do supermercado a… quem tu quisere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187800"/>
            <a:ext cx="759636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Verifica sempre se algum dos teus dados pessoais não figura num destes documentos devolvido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635360"/>
            <a:ext cx="7239240" cy="844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Podes também… env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 envelope de resposta paga, VAZIO !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8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2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7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666880"/>
            <a:ext cx="6629400" cy="12294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s bancos, instituições de crédit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utros receberão de volta toda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porcarias que nos envia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267080"/>
            <a:ext cx="6934320" cy="12294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les que as apreciem ! Pagar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les próprios as franquias, e 2 vez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 envio e a devoluçã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304812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Que tal ? ! ?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32040"/>
            <a:ext cx="487692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Se todos fizermos ist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1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4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9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8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21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3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2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3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32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3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98560"/>
            <a:ext cx="723888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Reencaminha esta mensagem a 1, 2, 3… 50 amigos, e divirtam-se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191120"/>
            <a:ext cx="7956720" cy="93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Uma maneira…</a:t>
            </a:r>
            <a:r>
              <a:rPr b="0" lang="fr-FR" sz="2600" spc="-1" strike="noStrike">
                <a:solidFill>
                  <a:srgbClr val="ffffff"/>
                </a:solidFill>
                <a:latin typeface="Square721 BT"/>
                <a:ea typeface="Courier New"/>
              </a:rPr>
              <a:t>de ter menos resíduos…</a:t>
            </a: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Square721 BT"/>
                <a:ea typeface="Courier New"/>
              </a:rPr>
              <a:t>de preservar o planeta e as nossas florestas</a:t>
            </a:r>
            <a:r>
              <a:rPr b="0" lang="fr-FR" sz="28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3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4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7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3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3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6:41:04Z</dcterms:created>
  <dc:creator/>
  <dc:description/>
  <dc:language>en-US</dc:language>
  <cp:lastModifiedBy/>
  <dcterms:modified xsi:type="dcterms:W3CDTF">2006-12-30T00:24:19Z</dcterms:modified>
  <cp:revision>11</cp:revision>
  <dc:subject/>
  <dc:title>Ecologie !</dc:title>
</cp:coreProperties>
</file>