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78BF-7FEB-4A3B-8A21-705D6735A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C64F-86D3-41FE-A470-620D0F16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AC78-7831-4C3F-ABEC-0EA216DB4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CD45-EBC4-47D1-8992-E8B6C32CF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A1E7-77BD-46B4-BB54-4B386FC8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B87F-A788-4424-B582-061175DF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98D8-5AC0-45F2-AD98-BFB6FA13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D9B5-F291-42F8-8CF5-B48B7283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D735-EB8A-4717-B164-80D5F4F4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426F-7A8C-444D-BE94-1D4E2635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0F14-A6C5-43A3-AD30-B81FD050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F260-C2FA-452E-82F4-49B61731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4DAC-289E-4514-BB5B-2D648B8218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04880" y="671400"/>
            <a:ext cx="7829640" cy="50817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272880" y="7389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2774880"/>
            <a:ext cx="8534520" cy="168408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Square721 BT"/>
                <a:ea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Square721 BT"/>
                <a:ea typeface="Times New Roman"/>
              </a:rPr>
              <a:t> </a:t>
            </a:r>
            <a:r>
              <a:rPr b="0" lang="fr-FR" sz="3600" spc="-1" strike="noStrike">
                <a:solidFill>
                  <a:srgbClr val="ffffff"/>
                </a:solidFill>
                <a:latin typeface="Square721 BT"/>
                <a:ea typeface="Times New Roman"/>
              </a:rPr>
              <a:t>Ora aqui está uma boa ideia…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Square721 BT"/>
                <a:ea typeface="Times New Roman"/>
              </a:rPr>
              <a:t> </a:t>
            </a:r>
            <a:r>
              <a:rPr b="0" lang="fr-FR" sz="3600" spc="-1" strike="noStrike">
                <a:solidFill>
                  <a:srgbClr val="ffffff"/>
                </a:solidFill>
                <a:latin typeface="Square721 BT"/>
                <a:ea typeface="Times New Roman"/>
              </a:rPr>
              <a:t>a pôr em prática!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75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75"/>
                            </p:stCondLst>
                            <p:childTnLst>
                              <p:par>
                                <p:cTn id="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75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5"/>
                            </p:stCondLst>
                            <p:childTnLst>
                              <p:par>
                                <p:cTn id="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75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800"/>
                            </p:stCondLst>
                            <p:childTnLst>
                              <p:par>
                                <p:cTn id="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75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2514600"/>
            <a:ext cx="7239240" cy="220896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Square721 BT"/>
                <a:ea typeface="Times New Roman"/>
              </a:rPr>
              <a:t>Com as facturas da electricidade, do telef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Square721 BT"/>
                <a:ea typeface="Times New Roman"/>
              </a:rPr>
              <a:t>recebes PUBLICIDADE ! Não a deites fora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Square721 BT"/>
                <a:ea typeface="Times New Roman"/>
              </a:rPr>
              <a:t>GUARDA-A, junta-a e reenvia-a aos respectivos serviç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Square721 BT"/>
                <a:ea typeface="Times New Roman"/>
              </a:rPr>
              <a:t>Deixa-os serem eles a deitá-la ao lixo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300"/>
                            </p:stCondLst>
                            <p:childTnLst>
                              <p:par>
                                <p:cTn id="34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3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3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8400"/>
                            </p:stCondLst>
                            <p:childTnLst>
                              <p:par>
                                <p:cTn id="42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3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2100"/>
                            </p:stCondLst>
                            <p:childTnLst>
                              <p:par>
                                <p:cTn id="4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3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990720"/>
            <a:ext cx="7239240" cy="157608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Square721 BT"/>
                <a:ea typeface="Times New Roman"/>
              </a:rPr>
              <a:t>Recebes correio para empréstimos, cartõe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Square721 BT"/>
                <a:ea typeface="Times New Roman"/>
              </a:rPr>
              <a:t>crédito… ou « negócios », muitas vezes acompanhados de ENVELOPES DE RESPOSTA PAGA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4251240"/>
            <a:ext cx="7239240" cy="119124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Square721 BT"/>
                <a:ea typeface="Times New Roman"/>
              </a:rPr>
              <a:t>Em vez de os deitares ao lixo, mete essas inutilidades nos tais envelopezinhos e põe-nos no correio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300"/>
                            </p:stCondLst>
                            <p:childTnLst>
                              <p:par>
                                <p:cTn id="57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3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700"/>
                            </p:stCondLst>
                            <p:childTnLst>
                              <p:par>
                                <p:cTn id="61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3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200"/>
                            </p:stCondLst>
                            <p:childTnLst>
                              <p:par>
                                <p:cTn id="65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3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500"/>
                            </p:stCondLst>
                            <p:childTnLst>
                              <p:par>
                                <p:cTn id="69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3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9296640" cy="161424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Square721 BT"/>
                <a:ea typeface="Times New Roman"/>
              </a:rPr>
              <a:t>Envia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Square721 BT"/>
                <a:ea typeface="Times New Roman"/>
              </a:rPr>
              <a:t>a pub do mecânico automóvel… ao teu operador telefónic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Square721 BT"/>
                <a:ea typeface="Times New Roman"/>
              </a:rPr>
              <a:t>os cupões de desconto de pizzas ao… teu banc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Square721 BT"/>
                <a:ea typeface="Times New Roman"/>
              </a:rPr>
              <a:t>as promoções do supermercado a… quem tu quiseres 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3187800"/>
            <a:ext cx="7596360" cy="82548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Square721 BT"/>
                <a:ea typeface="Times New Roman"/>
              </a:rPr>
              <a:t>Verifica sempre se algum dos teus dados pessoais não figura num destes documentos devolvidos 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4635360"/>
            <a:ext cx="7239240" cy="84456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Square721 BT"/>
                <a:ea typeface="Times New Roman"/>
              </a:rPr>
              <a:t>Podes também… envi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Square721 BT"/>
                <a:ea typeface="Times New Roman"/>
              </a:rPr>
              <a:t>o envelope de resposta paga, VAZIO ! !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300"/>
                            </p:stCondLst>
                            <p:childTnLst>
                              <p:par>
                                <p:cTn id="80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3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900"/>
                            </p:stCondLst>
                            <p:childTnLst>
                              <p:par>
                                <p:cTn id="84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3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7500"/>
                            </p:stCondLst>
                            <p:childTnLst>
                              <p:par>
                                <p:cTn id="88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3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1800"/>
                            </p:stCondLst>
                            <p:childTnLst>
                              <p:par>
                                <p:cTn id="92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3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6100"/>
                            </p:stCondLst>
                            <p:childTnLst>
                              <p:par>
                                <p:cTn id="96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9400"/>
                            </p:stCondLst>
                            <p:childTnLst>
                              <p:par>
                                <p:cTn id="100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3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7200"/>
                            </p:stCondLst>
                            <p:childTnLst>
                              <p:par>
                                <p:cTn id="104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500"/>
                            </p:stCondLst>
                            <p:childTnLst>
                              <p:par>
                                <p:cTn id="108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3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4700"/>
                            </p:stCondLst>
                            <p:childTnLst>
                              <p:par>
                                <p:cTn id="112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3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2666880"/>
            <a:ext cx="6629400" cy="122940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Square721 BT"/>
                <a:ea typeface="Times New Roman"/>
              </a:rPr>
              <a:t>Os bancos, instituições de crédito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Square721 BT"/>
                <a:ea typeface="Times New Roman"/>
              </a:rPr>
              <a:t>outros receberão de volta todas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Square721 BT"/>
                <a:ea typeface="Times New Roman"/>
              </a:rPr>
              <a:t>porcarias que nos enviara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267080"/>
            <a:ext cx="6934320" cy="122940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Square721 BT"/>
                <a:ea typeface="Times New Roman"/>
              </a:rPr>
              <a:t>Eles que as apreciem ! Pagar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Square721 BT"/>
                <a:ea typeface="Times New Roman"/>
              </a:rPr>
              <a:t>eles próprios as franquias, e 2 vezes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Square721 BT"/>
                <a:ea typeface="Times New Roman"/>
              </a:rPr>
              <a:t>o envio e a devolução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990720"/>
            <a:ext cx="3048120" cy="45972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Square721 BT"/>
                <a:ea typeface="Times New Roman"/>
              </a:rPr>
              <a:t>Que tal ? ! ?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32040"/>
            <a:ext cx="4876920" cy="45972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Square721 BT"/>
                <a:ea typeface="Times New Roman"/>
              </a:rPr>
              <a:t>Se todos fizermos isto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"/>
                            </p:stCondLst>
                            <p:childTnLst>
                              <p:par>
                                <p:cTn id="1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3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100"/>
                            </p:stCondLst>
                            <p:childTnLst>
                              <p:par>
                                <p:cTn id="127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400"/>
                            </p:stCondLst>
                            <p:childTnLst>
                              <p:par>
                                <p:cTn id="131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3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200"/>
                            </p:stCondLst>
                            <p:childTnLst>
                              <p:par>
                                <p:cTn id="135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9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3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8900"/>
                            </p:stCondLst>
                            <p:childTnLst>
                              <p:par>
                                <p:cTn id="143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3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4000"/>
                            </p:stCondLst>
                            <p:childTnLst>
                              <p:par>
                                <p:cTn id="147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3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8800"/>
                            </p:stCondLst>
                            <p:childTnLst>
                              <p:par>
                                <p:cTn id="151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" dur="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2100"/>
                            </p:stCondLst>
                            <p:childTnLst>
                              <p:par>
                                <p:cTn id="155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3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7200"/>
                            </p:stCondLst>
                            <p:childTnLst>
                              <p:par>
                                <p:cTn id="159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" dur="3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43200"/>
                            </p:stCondLst>
                            <p:childTnLst>
                              <p:par>
                                <p:cTn id="163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3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1798560"/>
            <a:ext cx="7238880" cy="82548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Square721 BT"/>
                <a:ea typeface="Courier New"/>
              </a:rPr>
              <a:t>Reencaminha esta mensagem a 1, 2, 3… 50 amigos, e divirtam-se !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4191120"/>
            <a:ext cx="7956720" cy="93888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Square721 BT"/>
                <a:ea typeface="Courier New"/>
              </a:rPr>
              <a:t>Uma maneira…</a:t>
            </a:r>
            <a:r>
              <a:rPr b="0" lang="fr-FR" sz="2600" spc="-1" strike="noStrike">
                <a:solidFill>
                  <a:srgbClr val="ffffff"/>
                </a:solidFill>
                <a:latin typeface="Square721 BT"/>
                <a:ea typeface="Courier New"/>
              </a:rPr>
              <a:t>de ter menos resíduos…</a:t>
            </a:r>
            <a:r>
              <a:rPr b="0" lang="fr-FR" sz="2400" spc="-1" strike="noStrike">
                <a:solidFill>
                  <a:srgbClr val="ffffff"/>
                </a:solidFill>
                <a:latin typeface="Square721 BT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Square721 BT"/>
                <a:ea typeface="Courier New"/>
              </a:rPr>
              <a:t>de preservar o planeta e as nossas florestas</a:t>
            </a:r>
            <a:r>
              <a:rPr b="0" lang="fr-FR" sz="2800" spc="-1" strike="noStrike">
                <a:solidFill>
                  <a:srgbClr val="ffffff"/>
                </a:solidFill>
                <a:latin typeface="Square721 BT"/>
                <a:ea typeface="Times New Roman"/>
              </a:rPr>
              <a:t> 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2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"/>
                            </p:stCondLst>
                            <p:childTnLst>
                              <p:par>
                                <p:cTn id="1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3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400"/>
                            </p:stCondLst>
                            <p:childTnLst>
                              <p:par>
                                <p:cTn id="178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3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8700"/>
                            </p:stCondLst>
                            <p:childTnLst>
                              <p:par>
                                <p:cTn id="182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3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3800"/>
                            </p:stCondLst>
                            <p:childTnLst>
                              <p:par>
                                <p:cTn id="186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3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6T16:41:04Z</dcterms:created>
  <dc:creator/>
  <dc:description/>
  <dc:language>en-US</dc:language>
  <cp:lastModifiedBy/>
  <dcterms:modified xsi:type="dcterms:W3CDTF">2006-12-30T00:24:19Z</dcterms:modified>
  <cp:revision>11</cp:revision>
  <dc:subject/>
  <dc:title>Ecologie !</dc:title>
</cp:coreProperties>
</file>