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Jean%20Michel%20Jarre%20-%20Oxygen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023-455C-4AA5-BEAE-B4EFF746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2DA-D34D-43FC-97BF-B7531E32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7E5-2580-43DC-BC20-286837FB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05A-6FC4-4F3D-8381-67F17FB5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8449-ADD6-4409-87CF-8A2B4DFC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AA49-9E6C-460A-9792-7AB79489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CFCB-9B77-4C50-BA5A-9D8199AB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5334-8CEC-47CC-9657-B2D9D38D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95CC-AFD4-4063-9152-A038F642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C3C5-DEDD-4362-9782-CE1617E9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7D14-67BE-41F0-93CE-A57D2279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3BE-2431-41DD-BD2F-9358D2D4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42F5-6B6B-49A6-8C5D-FB468705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009E-79C6-4F90-B8F3-547BFDC4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94A0-D408-4FD4-80D6-8F6D51C7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7BF7-8F2E-414E-851D-1EBB83B3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0D16-6C5B-430B-A50A-9BAB07B1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E73-D4D0-4B9F-9C9B-AFBA5231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6C2-4233-4951-AFE9-2C332731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451-F258-4298-B93F-422FBC42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422-3186-4AC9-A035-6AD8943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C70-CCEF-40C7-AB3C-40E7EE7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823-1A14-4A39-8972-C56A57A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93E-2292-4D13-A18A-CA2DECE1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de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f3d9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A477-C539-4D97-9946-A882A7BD331F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5138-5EC4-4A93-90F3-86F7DC37ECFC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oc.bras.de/" TargetMode="External"/><Relationship Id="rId2" Type="http://schemas.openxmlformats.org/officeDocument/2006/relationships/hyperlink" Target="http://soc.bras.de/" TargetMode="External"/><Relationship Id="rId3" Type="http://schemas.openxmlformats.org/officeDocument/2006/relationships/hyperlink" Target="http://soc.bras.de/" TargetMode="External"/><Relationship Id="rId4" Type="http://schemas.openxmlformats.org/officeDocument/2006/relationships/hyperlink" Target="http://soc.bras.de/" TargetMode="External"/><Relationship Id="rId5" Type="http://schemas.openxmlformats.org/officeDocument/2006/relationships/audio" Target="../media/Jean%20Michel%20Jarre%20-%20Oxygene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an%20Michel%20Jarre%20-%20Oxygen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020000" y="594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clica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914400"/>
            <a:ext cx="61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Não beba Fanta Uva!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A propaganda parou..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quê? Reparem... a propaganda quase não se vê mais na mídia.... Por que será???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amos repassando o e-mail abaixo para conhecimento e prevenção, principalmente para aqueles que bebem este refrigerante: Fanta Uva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1197000"/>
            <a:ext cx="71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Este e-mail está sendo repassado dentro do Hospital que trabalha uma pessoa amig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ato já está confirmado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Vinte e três pessoas já passaram pelo Hospital das Clínicas com um mesmo sintoma: falta de atividade renal e o aparecimento de tumores no reto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1197000"/>
            <a:ext cx="712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odos os internados relataram o começo das dores e a conseqüente internação após ingerirem altas doses de Fanta Uv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esquisas realizadas pelo renomado Instituto Fleury,apontaram grande quantidade de Fenofinol, almeido e Voliteral, substâncias tóxicas e que causam, respectivamente, a má atividade dos rins e câncer. 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1219320"/>
            <a:ext cx="765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Segundo Dr.Paulo José Teixeira, formado pela USP e Especialista em Toxicologia, as pessoas não devem ingerir mais o citado refrigerante.. A Direção da Coca-Cola já assumiu sua culpa e prometeu indenizar os pacientes e todos aqueles que venham a se contaminar com o refrigerante.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elo amor de "DEUS"...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Passem esta mensagem para frente. Pelo sim e pelo não, vamos tentar remediar enquanto há tempo.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219320"/>
            <a:ext cx="77724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Lembre-se: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Divulgar a todos de sua família, é a consciência de cada um que deve decidir, mas a nossa deve estar tranqüila.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Monique Freitas. 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1"/>
              </a:rPr>
              <a:t>Soc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2"/>
              </a:rPr>
              <a:t>.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3"/>
              </a:rPr>
              <a:t>Bras</a:t>
            </a:r>
            <a:r>
              <a:rPr b="0" lang="pt-BR" sz="2400" spc="-1" strike="noStrike" u="sng">
                <a:solidFill>
                  <a:srgbClr val="9191e1"/>
                </a:solidFill>
                <a:uFillTx/>
                <a:latin typeface="Tahoma"/>
                <a:ea typeface="Tahoma"/>
                <a:hlinkClick r:id="rId4"/>
              </a:rPr>
              <a:t>.de</a:t>
            </a: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 Cardiologia / Secretaria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Tel.: (21) 2537-8488 ramal:271 Fax: (21) 2286-9128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Por favor não deixem de repassar esta mensagem para todos que vocês conhecem....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Tahoma"/>
                <a:ea typeface="Tahoma"/>
              </a:rPr>
              <a:t>FELIZ DAQUELE QUE TRANSFERE O QUE SABE E APRENDE O QUE ENSINA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5" name="Jean%20Michel%20Jarre%20-%20Oxygen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12193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slow">
    <p:comb dir="horz"/>
    <p:sndAc>
      <p:stSnd>
        <p:snd r:embed="rId1" name="Jean%20Michel%20Jarre%20-%20Oxygen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6:36:18Z</dcterms:created>
  <dc:creator>Marcos Peano</dc:creator>
  <dc:description/>
  <dc:language>en-US</dc:language>
  <cp:lastModifiedBy>Azevedo</cp:lastModifiedBy>
  <dcterms:modified xsi:type="dcterms:W3CDTF">2007-03-24T18:59:34Z</dcterms:modified>
  <cp:revision>109</cp:revision>
  <dc:subject/>
  <dc:title>Slide sem título </dc:title>
</cp:coreProperties>
</file>