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Jean%20Michel%20Jarre%20-%20Oxyge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5D9-1DC8-45ED-B84F-59C1A75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F40-EF83-4FFC-BC76-EC0FC84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D2D-0CB8-4D91-8908-06C9AFCF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6FA-ABC0-476B-9339-AC04B8F5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7205-5B40-41D8-93AD-B5D1A8D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6B4E-E417-42A8-B291-1F8EDEC1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962-DA68-4EC5-B312-3FE26D0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FEC3-52FD-4042-8683-A8413413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701-05A8-47B5-84AC-F4C5BCC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5DC5-8D02-4CFE-B5BA-EF2CE83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7AF7-D8A5-4BC0-AD4C-69EEFE8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F20-1A58-455B-97E1-743416B4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161-A7C3-42B4-8D7D-9FAEA42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840-1B85-46B5-A20F-7C7AC3D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0B23-B083-462B-B5F4-2F65444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B4E9-D5D6-40C3-829E-326816DE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8570-F5A0-457A-A651-9488C6F3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F99-381C-4A87-B937-63DD68DD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49A-11DC-4141-A39F-C682978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DAF-C746-4CBD-AB90-9AFD58D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8EB-49CE-4524-A152-3225AB66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00B-74C9-48AC-90EE-A4A3F59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A39-6343-42B7-8582-C9FE779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121-E5D6-495A-8317-EB46C4A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63DF-D6BB-4B85-A3DA-4F964DF5E3E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6DDC-35B0-4B1F-B2A6-2AFA746059E4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.bras.de/" TargetMode="External"/><Relationship Id="rId2" Type="http://schemas.openxmlformats.org/officeDocument/2006/relationships/hyperlink" Target="http://soc.bras.de/" TargetMode="External"/><Relationship Id="rId3" Type="http://schemas.openxmlformats.org/officeDocument/2006/relationships/hyperlink" Target="http://soc.bras.de/" TargetMode="External"/><Relationship Id="rId4" Type="http://schemas.openxmlformats.org/officeDocument/2006/relationships/hyperlink" Target="http://soc.bras.de/" TargetMode="External"/><Relationship Id="rId5" Type="http://schemas.openxmlformats.org/officeDocument/2006/relationships/audio" Target="../media/Jean%20Michel%20Jarre%20-%20Oxygen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20000" y="594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14400"/>
            <a:ext cx="61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Não beba Fanta Uva!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A propaganda parou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quê? Reparem... a propaganda quase não se vê mais na mídia.... Por que será???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amos repassando o e-mail abaixo para conhecimento e prevenção, principalmente para aqueles que bebem este refrigerante: Fanta Uva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19700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e e-mail está sendo repassado dentro do Hospital que trabalha uma pessoa amig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ato já está confirmado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Vinte e três pessoas já passaram pelo Hospital das Clínicas com um mesmo sintoma: falta de atividade renal e o aparecimento de tumores no reto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odos os internados relataram o começo das dores e a conseqüente internação após ingerirem altas doses de Fanta Uv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esquisas realizadas pelo renomado Instituto Fleury,apontaram grande quantidade de Fenofinol, almeido e Voliteral, substâncias tóxicas e que causam, respectivamente, a má atividade dos rins e câncer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219320"/>
            <a:ext cx="765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gundo Dr.Paulo José Teixeira, formado pela USP e Especialista em Toxicologia, as pessoas não devem ingerir mais o citado refrigerante.. A Direção da Coca-Cola já assumiu sua culpa e prometeu indenizar os pacientes e todos aqueles que venham a se contaminar com o refrigerante.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elo amor de "DEUS"...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assem esta mensagem para frente. Pelo sim e pelo não, vamos tentar remediar enquanto há tempo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219320"/>
            <a:ext cx="77724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Lembre-se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Divulgar a todos de sua família, é a consciência de cada um que deve decidir, mas a nossa deve estar tranqüila.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Monique Freitas. 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1"/>
              </a:rPr>
              <a:t>Soc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3"/>
              </a:rPr>
              <a:t>Bras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4"/>
              </a:rPr>
              <a:t>.de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 Cardiologia / Secretari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el.: (21) 2537-8488 ramal:271 Fax: (21) 2286-9128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favor não deixem de repassar esta mensagem para todos que vocês conhecem...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ELIZ DAQUELE QUE TRANSFERE O QUE SABE E APRENDE O QUE ENSIN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5" name="Jean%20Michel%20Jarre%20-%20Oxygen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219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6:36:18Z</dcterms:created>
  <dc:creator>Marcos Peano</dc:creator>
  <dc:description/>
  <dc:language>en-US</dc:language>
  <cp:lastModifiedBy>Azevedo</cp:lastModifiedBy>
  <dcterms:modified xsi:type="dcterms:W3CDTF">2007-03-24T18:59:34Z</dcterms:modified>
  <cp:revision>109</cp:revision>
  <dc:subject/>
  <dc:title>Slide sem título </dc:title>
</cp:coreProperties>
</file>