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D4BD-13C1-485E-933B-9296BF98E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4940-505A-4E88-AD1C-529AE159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6F5F-0CC6-4E67-81AA-90899F976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550E-9FD7-4EF0-ABA2-7420E70D2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9FCE-AB91-4E92-B6A1-DE126E4A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E805-A155-4BD3-9607-095530C6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576A-E5F7-4B9D-966A-5C949F46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9F1D-D0B3-4A9F-BD1C-8BDA46D1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D37C-8A70-4B50-A22A-6B4226F8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2087-77D6-4D14-8D96-F605DC71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1799-1B37-408C-8A3A-B41CFC3C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E4C1-A4D8-4BB3-9E8B-F03ACF39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6558-C174-4A1E-A7C8-654A5E8A1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Dauphin"/>
              </a:rPr>
              <a:t>O Zodiac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ff"/>
                </a:solidFill>
                <a:uFillTx/>
                <a:latin typeface="Arial"/>
              </a:rPr>
              <a:t>Mais 1 dos tais!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76200" y="281160"/>
            <a:ext cx="822816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teligente e engenhos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arece estar sempre de saída, muito falador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ivo, enérgic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daptável mas com necessidade de se expressar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rgumentativo e franc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osta de mudança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ersátil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cupado, mas às vezes nervoso e tens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ofoqueir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ode parecer superficial ou incoerente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ó e sujeito a mudança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onito fisicamente e mentalmente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5 anos de azar se você não re-encaminha…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78560" y="2708280"/>
            <a:ext cx="3189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0033"/>
                </a:solidFill>
                <a:latin typeface="Arial"/>
              </a:rPr>
              <a:t>CARANGUEJO </a:t>
            </a:r>
            <a:br>
              <a:rPr sz="3200"/>
            </a:br>
            <a:r>
              <a:rPr b="1" lang="it-IT" sz="1800" spc="-1" strike="noStrike">
                <a:solidFill>
                  <a:srgbClr val="000000"/>
                </a:solidFill>
                <a:latin typeface="Arial Black"/>
              </a:rPr>
              <a:t>o Protecto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47840" y="352440"/>
            <a:ext cx="8227800" cy="65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mocional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ode ser tímid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uito amoroso e gentil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onit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ócios excelentes para vida.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tector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ventivo e imaginativ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autelos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ipo de pessoa sensível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ecessidade de ser amado pelos outros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goa-se facilmente, mas simpátic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16 anos de azar se você não reencaminha…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87720" y="0"/>
            <a:ext cx="51562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1640" y="2751120"/>
            <a:ext cx="1311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0033"/>
                </a:solidFill>
                <a:latin typeface="Arial"/>
              </a:rPr>
              <a:t>LE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Black"/>
              </a:rPr>
              <a:t>o che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76200" y="208080"/>
            <a:ext cx="83725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uito organizad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ecisa de ordem nas vidas deles/delas - como estar em controle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osta de limites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nde a assumir tud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ndã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osta de ajudar os outros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cial e gosta de sair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xtrovertid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eneroso, amável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nsível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nergia criativa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fiantes neles próprios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ons amantes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azer a coisa certa é importante para Leã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traente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 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13 anos de azar se você não re-encaminhar…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12560" y="2700360"/>
            <a:ext cx="2047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0033"/>
                </a:solidFill>
                <a:latin typeface="Arial"/>
              </a:rPr>
              <a:t>VIRG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Black"/>
              </a:rPr>
              <a:t>O Perfeccion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0"/>
            <a:ext cx="8675640" cy="72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ominante nas relações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servador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uer ter sempre a última palavra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rgumentativ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eocupad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uito inteligente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ntipatiza com barulho e caos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nsios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rabalhador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al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onit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ácil de falar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fícil de agradar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ver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ático e muito exigente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requentemente tímid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ssimis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7 anos de azar se você não re-encaminhar…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76200" y="2771640"/>
            <a:ext cx="2193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0033"/>
                </a:solidFill>
                <a:latin typeface="Arial"/>
              </a:rPr>
              <a:t>BALANÇ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Black"/>
              </a:rPr>
              <a:t>o Harmoniz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19120" y="281160"/>
            <a:ext cx="8373960" cy="71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gradável a todos os que se encontram com ele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decis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m uma atracção própria sem igual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riativo, enérgico e muito social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deia estar só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almo, generos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uito amoroso e bonit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osta de flirtar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ede muito facilmente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nde a deixar para depois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uito crédulo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9 anos de azar se você não re-encaminhar…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78560" y="2708280"/>
            <a:ext cx="3140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0033"/>
                </a:solidFill>
                <a:latin typeface="Arial"/>
              </a:rPr>
              <a:t>CARANGUEJ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 Black"/>
              </a:rPr>
              <a:t>o Protecto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47720" y="2349360"/>
            <a:ext cx="753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 Black"/>
              </a:rPr>
              <a:t>Depois de abrir este e-mail, não há volta a da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baixo são </a:t>
            </a:r>
            <a:r>
              <a:rPr b="1" lang="it-IT" sz="2400" spc="-1" strike="noStrike" u="sng">
                <a:solidFill>
                  <a:srgbClr val="4d4d4d"/>
                </a:solidFill>
                <a:uFillTx/>
                <a:latin typeface="Arial"/>
              </a:rPr>
              <a:t>verdadeiras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descrições de signos do Zodíaco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auphin"/>
              </a:rPr>
              <a:t>Leia o e-mail e reencaminhe-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0560" y="333360"/>
            <a:ext cx="74304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mocional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ode ser tímid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uito amoroso e gentil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onit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ócios excelentes para a vida.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tector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ventivo e imaginativ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autelos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ipo de pessoa sensível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ecessidade de ser amado pelos outros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goa-se facilmente, mas simpátic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16 anos de azar se você não re-encaminhar… </a:t>
            </a:r>
            <a:br>
              <a:rPr sz="2400"/>
            </a:b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 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50560" y="2637000"/>
            <a:ext cx="2442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0033"/>
                </a:solidFill>
                <a:latin typeface="Arial"/>
              </a:rPr>
              <a:t>SAGITÁ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Black"/>
              </a:rPr>
              <a:t>o Optimist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0920" y="73080"/>
            <a:ext cx="8569080" cy="71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rrefletid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ão quer crescer (síndroma Peter Pan)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avorece o eg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rgulhos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osta de luxos e jogar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cial e gosta de sair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ão gosta de responsabilidades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requentemente fantasista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mpaciente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vertido estar ao seu redor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m muitos amigos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quete e gosta de flirtar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ão gosta de regras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Às vezes hipócrita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ntipatiza com espaços apertados e roupas apertadas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ão gosta que duvidem dele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onito por dentro e por fora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14 anos de azar se você não re-encaminhar…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31120" y="2771640"/>
            <a:ext cx="3076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0033"/>
                </a:solidFill>
                <a:latin typeface="Arial"/>
              </a:rPr>
              <a:t>CAPRICÓRN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Black"/>
              </a:rPr>
              <a:t>o Pacient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82520" y="189000"/>
            <a:ext cx="8483400" cy="73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telect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ábi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ático e rígid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mbicios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nde a estar bonit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Humorístico e satiricamente engraçad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ode ser um pouco tímido e reservad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gressivo na expressão verb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requentemente são pessimistas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ndem a agir antes de pensar e podem ser às vezes pou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migáveis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uarda rancor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osta de competiçã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btêm o que eles querem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20 anos de azar se você não re-encaminhar…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03120" y="2843280"/>
            <a:ext cx="2103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0033"/>
                </a:solidFill>
                <a:latin typeface="Arial"/>
              </a:rPr>
              <a:t>AQUÁ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Black"/>
              </a:rPr>
              <a:t>o Am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50920" y="333360"/>
            <a:ext cx="78501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ptimista e honest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oce personalidade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uito independente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ventivo e inteligente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migável e leal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ode parecer não emotiv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ode ser um pouco rebelde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uito teimoso, mas original e sem igual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traente no lado de dentro e fora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sonalidade excêntrica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11 anos de azar se você não re-encaminhar..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78360" y="2771640"/>
            <a:ext cx="1762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0033"/>
                </a:solidFill>
                <a:latin typeface="Arial"/>
              </a:rPr>
              <a:t>PEIXES </a:t>
            </a:r>
            <a:br>
              <a:rPr sz="3200"/>
            </a:br>
            <a:r>
              <a:rPr b="1" lang="it-IT" sz="1800" spc="-1" strike="noStrike">
                <a:solidFill>
                  <a:srgbClr val="000000"/>
                </a:solidFill>
                <a:latin typeface="Arial Black"/>
              </a:rPr>
              <a:t>o Sonh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2200" y="333360"/>
            <a:ext cx="7453440" cy="73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om coração e pensativ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uito criativo e imaginativ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ode ficar reservado e vag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nsível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ão gosta de detalhes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nhador e irreal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mpático e amoros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sinteressado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om beijador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onito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8 anos de azar se você não re-encaminhar…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83400" y="1628640"/>
            <a:ext cx="287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opperplate Gothic Bold"/>
              </a:rPr>
              <a:t>Em resum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95640" y="3068640"/>
            <a:ext cx="468144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e para os conquista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823680" y="1484280"/>
            <a:ext cx="1073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0033"/>
                </a:solidFill>
                <a:latin typeface="Belwe Bd BT"/>
              </a:rPr>
              <a:t>Isto é a séri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Dauphin"/>
              </a:rPr>
              <a:t>Se tentar ignorar ou mudar isto, a primeira coisa que você notar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Dauphin"/>
              </a:rPr>
              <a:t>amanhã de manhã será que terá um dia longuissimo, que só acabar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Dauphin"/>
              </a:rPr>
              <a:t>à meia-noite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37080" y="0"/>
            <a:ext cx="9292680" cy="68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Aries</a:t>
            </a:r>
            <a:br>
              <a:rPr sz="1400"/>
            </a:b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20/3-18/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essoas fortes, com energia, institivos e dinamicos... com coragem, por vezes egocentricos, tendem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omar a liderança; signo vital, associado a grandes desportistas de competição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 u="sng">
                <a:solidFill>
                  <a:srgbClr val="ff0000"/>
                </a:solidFill>
                <a:uFillTx/>
                <a:latin typeface="Arial"/>
              </a:rPr>
              <a:t>Presentes favoritos: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400" spc="-1" strike="noStrike">
                <a:solidFill>
                  <a:srgbClr val="0099ff"/>
                </a:solidFill>
                <a:latin typeface="Arial"/>
              </a:rPr>
              <a:t>Objectos desportivos, presentes anti-convencionais com design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Tauro</a:t>
            </a:r>
            <a:br>
              <a:rPr sz="1400"/>
            </a:b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19/4-19/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essoas resistentes, pacientes, que sabem manter a calma. Tem como activo a inteligencia. São pesso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muito realistas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 u="sng">
                <a:solidFill>
                  <a:srgbClr val="ff0000"/>
                </a:solidFill>
                <a:uFillTx/>
                <a:latin typeface="Arial"/>
              </a:rPr>
              <a:t>Presentes favoritos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400" spc="-1" strike="noStrike">
                <a:solidFill>
                  <a:srgbClr val="0099ff"/>
                </a:solidFill>
                <a:latin typeface="Arial"/>
              </a:rPr>
              <a:t>Perfumes, comida em abundancia, música ..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Géminis</a:t>
            </a:r>
            <a:br>
              <a:rPr sz="1400"/>
            </a:b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20/5-20/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tradictorios e versáteis, mudam com muita facilidade. Passam por serem serenos e fascinantes, a pessimist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e amorfos. Fantasiosos, amam a liberdade e a independencia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 u="sng">
                <a:solidFill>
                  <a:srgbClr val="ff0000"/>
                </a:solidFill>
                <a:uFillTx/>
                <a:latin typeface="Arial"/>
              </a:rPr>
              <a:t>Presentes favoritos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400" spc="-1" strike="noStrike">
                <a:solidFill>
                  <a:srgbClr val="0099ff"/>
                </a:solidFill>
                <a:latin typeface="Arial"/>
              </a:rPr>
              <a:t>Viajens e coisas exóticas, com muita imaginaçao e muito originais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Cáncer</a:t>
            </a:r>
            <a:br>
              <a:rPr sz="1400"/>
            </a:b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21/6-21/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Familares, tímidos, possessivos, imaginativos e románticos. Doces, que viajam entre a melancolia e a alegria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 u="sng">
                <a:solidFill>
                  <a:srgbClr val="ff0000"/>
                </a:solidFill>
                <a:uFillTx/>
                <a:latin typeface="Arial"/>
              </a:rPr>
              <a:t>Presentes favoritos:</a:t>
            </a:r>
            <a:r>
              <a:rPr b="1" i="1" lang="it-IT" sz="14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r>
              <a:rPr b="0" i="1" lang="it-IT" sz="1400" spc="-1" strike="noStrike">
                <a:solidFill>
                  <a:srgbClr val="0099ff"/>
                </a:solidFill>
                <a:latin typeface="Arial"/>
              </a:rPr>
              <a:t>Una ceia íntima e romántica com pequenos presentes…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92240" y="187200"/>
            <a:ext cx="902160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Leo</a:t>
            </a:r>
            <a:br>
              <a:rPr sz="1400"/>
            </a:b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22/7-21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Extrovertidos, autoritários,livres, fortes, passionais e generosos. Optimistas e às vezes um pouco imprudentes. </a:t>
            </a:r>
            <a:br>
              <a:rPr sz="1400"/>
            </a:br>
            <a:br>
              <a:rPr sz="1400"/>
            </a:br>
            <a:r>
              <a:rPr b="1" i="1" lang="it-IT" sz="1400" spc="-1" strike="noStrike" u="sng">
                <a:solidFill>
                  <a:srgbClr val="ff0000"/>
                </a:solidFill>
                <a:uFillTx/>
                <a:latin typeface="Arial"/>
              </a:rPr>
              <a:t>Presentes favoritos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400" spc="-1" strike="noStrike">
                <a:solidFill>
                  <a:srgbClr val="0099ff"/>
                </a:solidFill>
                <a:latin typeface="Arial"/>
              </a:rPr>
              <a:t>Um pouco caros.. de luxo!... O melhor restaurante da cidade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Virgo</a:t>
            </a:r>
            <a:br>
              <a:rPr sz="1400"/>
            </a:b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22/8-21/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Meticulosos nos detalhes, eficientes, severos e racionais na vida privada e no trabalho. Bons aforradores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 u="sng">
                <a:solidFill>
                  <a:srgbClr val="ff0000"/>
                </a:solidFill>
                <a:uFillTx/>
                <a:latin typeface="Arial"/>
              </a:rPr>
              <a:t>Presentes favoritos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400" spc="-1" strike="noStrike">
                <a:solidFill>
                  <a:srgbClr val="0099ff"/>
                </a:solidFill>
                <a:latin typeface="Arial"/>
              </a:rPr>
              <a:t>Coisas elegantes, uma saida à noite ao concerto, ao teatro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Libra</a:t>
            </a:r>
            <a:br>
              <a:rPr sz="1400"/>
            </a:b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22/9-22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iplomático, encantador e sociável. Os libra são idealistas, pacíficos, optimistas e romanticos. </a:t>
            </a:r>
            <a:br>
              <a:rPr sz="1400"/>
            </a:br>
            <a:br>
              <a:rPr sz="1400"/>
            </a:br>
            <a:r>
              <a:rPr b="1" i="1" lang="it-IT" sz="1400" spc="-1" strike="noStrike" u="sng">
                <a:solidFill>
                  <a:srgbClr val="ff0000"/>
                </a:solidFill>
                <a:uFillTx/>
                <a:latin typeface="Arial"/>
              </a:rPr>
              <a:t>Presentes favoritos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400" spc="-1" strike="noStrike">
                <a:solidFill>
                  <a:srgbClr val="0099ff"/>
                </a:solidFill>
                <a:latin typeface="Arial"/>
              </a:rPr>
              <a:t>Livros, ir um restaurante simples, mas com atmosfera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Escorpio</a:t>
            </a:r>
            <a:br>
              <a:rPr sz="1400"/>
            </a:b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23/10-20/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Os mais intuitivos, tendem a ser profundos e sérios. O escorpião é autoritario, ciumento, possessivo m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ambém lunar e apaixonado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 u="sng">
                <a:solidFill>
                  <a:srgbClr val="ff0000"/>
                </a:solidFill>
                <a:uFillTx/>
                <a:latin typeface="Arial"/>
              </a:rPr>
              <a:t>Presentes favoritos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400" spc="-1" strike="noStrike">
                <a:solidFill>
                  <a:srgbClr val="0099ff"/>
                </a:solidFill>
                <a:latin typeface="Arial"/>
              </a:rPr>
              <a:t>Flores, e o que se quiser…um presente e’ sempre um presente!..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5120" y="115920"/>
            <a:ext cx="9038160" cy="68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Sagitario</a:t>
            </a:r>
            <a:br>
              <a:rPr sz="1400"/>
            </a:b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21/11- 20/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fiados, alegres, sinceros, fiéis amigos, amantes da natureza e do ar livre. </a:t>
            </a:r>
            <a:br>
              <a:rPr sz="1400"/>
            </a:br>
            <a:br>
              <a:rPr sz="1400"/>
            </a:br>
            <a:r>
              <a:rPr b="1" i="1" lang="it-IT" sz="1400" spc="-1" strike="noStrike" u="sng">
                <a:solidFill>
                  <a:srgbClr val="ff0000"/>
                </a:solidFill>
                <a:uFillTx/>
                <a:latin typeface="Arial"/>
              </a:rPr>
              <a:t>Presentes favoritos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400" spc="-1" strike="noStrike">
                <a:solidFill>
                  <a:srgbClr val="0099ff"/>
                </a:solidFill>
                <a:latin typeface="Arial"/>
              </a:rPr>
              <a:t>Uma viagem, uma excursao a uma aldeia tranquila, um passeio no rio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Capricornio</a:t>
            </a:r>
            <a:br>
              <a:rPr sz="1400"/>
            </a:b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21/12- 19/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ao introvertidos impulsivos... apresentam traços de timidez e de insegurança; perfil ambicioso, frío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melancólico, mas, surpreendentemente, o capricornio é afectuoso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 u="sng">
                <a:solidFill>
                  <a:srgbClr val="ff0000"/>
                </a:solidFill>
                <a:uFillTx/>
                <a:latin typeface="Arial"/>
              </a:rPr>
              <a:t>Presentes favoritos: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400" spc="-1" strike="noStrike">
                <a:solidFill>
                  <a:srgbClr val="0099ff"/>
                </a:solidFill>
                <a:latin typeface="Arial"/>
              </a:rPr>
              <a:t>Um signo que exige ser muito original na escolha do presente… um perfume insolito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99ff"/>
                </a:solidFill>
                <a:latin typeface="Arial"/>
              </a:rPr>
              <a:t>Um fim de semana num turismo de habitaçao isolado e com historia?...Acçoes da bolsa?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Aquario</a:t>
            </a:r>
            <a:br>
              <a:rPr sz="1400"/>
            </a:b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20/1-18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nceros, altruistas, simpáticos e activos, mas que passam por momentos de grande nervosismo e tensao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idosos, muito creativos, agradaveis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 u="sng">
                <a:solidFill>
                  <a:srgbClr val="ff0000"/>
                </a:solidFill>
                <a:uFillTx/>
                <a:latin typeface="Arial"/>
              </a:rPr>
              <a:t>Presentes favoritos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400" spc="-1" strike="noStrike">
                <a:solidFill>
                  <a:srgbClr val="0099ff"/>
                </a:solidFill>
                <a:latin typeface="Arial"/>
              </a:rPr>
              <a:t>Flores (hortensias e amapolas), peças de vestuario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Piscis</a:t>
            </a:r>
            <a:br>
              <a:rPr sz="1400"/>
            </a:b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19/2-19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ubtis, doces, tolerantes, imprevisiveis, romanticos mas impulsivos e até infiéis. O peixe acredita na amizade 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o amor. </a:t>
            </a:r>
            <a:br>
              <a:rPr sz="1400"/>
            </a:br>
            <a:br>
              <a:rPr sz="1400"/>
            </a:br>
            <a:r>
              <a:rPr b="1" i="1" lang="it-IT" sz="1400" spc="-1" strike="noStrike" u="sng">
                <a:solidFill>
                  <a:srgbClr val="ff0000"/>
                </a:solidFill>
                <a:uFillTx/>
                <a:latin typeface="Arial"/>
              </a:rPr>
              <a:t>Presentes favoritos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400" spc="-1" strike="noStrike">
                <a:solidFill>
                  <a:srgbClr val="0099ff"/>
                </a:solidFill>
                <a:latin typeface="Arial"/>
              </a:rPr>
              <a:t>Arte, algo que lhe sirva para ordenar as suas coisas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Vamos a ist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195640" y="1341360"/>
            <a:ext cx="4897440" cy="4897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16000" y="639720"/>
            <a:ext cx="6408720" cy="5975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25560" y="1413000"/>
            <a:ext cx="4057920" cy="44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it-IT" sz="2400" spc="-1" strike="noStrike">
                <a:solidFill>
                  <a:srgbClr val="33cc33"/>
                </a:solidFill>
                <a:latin typeface="Arial"/>
              </a:rPr>
              <a:t>Envie JÁ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Black"/>
              </a:rPr>
              <a:t>Preparado....... Fogo............ ENVI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01-03 pessoas = 1 minuto de sorte 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04-07 pessoas = 1 hora de sorte 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08-12 pessoas = 1 dia de sorte 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13-17 pessoas = 1 semana de sorte 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18-22 pessoas = 1 mês de sorte 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23-27 pessoas = 3 meses de sorte 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28-32 pessoas = 7 meses de sorte 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33-37 pessoas = 1 ano de sorte 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38 ou mais = uma vida de s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49880" y="1700280"/>
            <a:ext cx="7750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cc00"/>
                </a:solidFill>
                <a:latin typeface="Arial Black"/>
              </a:rPr>
              <a:t>Olhem... não é por azar ou sor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cc00"/>
                </a:solidFill>
                <a:latin typeface="Arial Black"/>
              </a:rPr>
              <a:t>mas acho a definição do meu signo muito correcta...</a:t>
            </a:r>
            <a:r>
              <a:rPr b="0" lang="it-IT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 Black"/>
              </a:rPr>
              <a:t>Vejam a voss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42000" y="2205000"/>
            <a:ext cx="33382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it-IT" sz="3200" spc="-1" strike="noStrike">
                <a:solidFill>
                  <a:srgbClr val="990033"/>
                </a:solidFill>
                <a:latin typeface="Arial"/>
              </a:rPr>
              <a:t>CARNEI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Black"/>
              </a:rPr>
              <a:t>o Diabo de desafio enér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5280" y="333360"/>
            <a:ext cx="83008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nfiante e entusiástico.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ivertido.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ma um desafio.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XTREMAMENTE impaciente.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Às vezes egoísta.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usível curto (enfurece facilmente).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Vivido, inteligência apaixonada e afiada.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Gosta de sair.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erde interesse depressa - facilmente entediado.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goístico.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rajoso e afirmativo.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Tende a ser físico e atlé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  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16 anos de azar se você não re-encaminhar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0080" y="2392200"/>
            <a:ext cx="176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OURO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o Resisten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6480"/>
            <a:ext cx="8156520" cy="71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e encanta mas agressivo.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ode parecer enfadonho, mas não é.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rabalhador duro.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mável.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rte, tem resistência.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res sólidos e estáveis e seguros dos modos deles/delas.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ão procuram atalhos.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rgulhosos da beleza deles/delas.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cientes e seguros.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azem grandes amigos e dão bons conselhos.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om coração.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mam profundamente - apaixonados.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pressam-se emocionalmente.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openso a temperamento - acessos de raiva ferozes.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terminado.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edem aos seus desejos frequentemente.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uito generoso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12 anos de azar se você não re-encaminhar..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32560" y="2411280"/>
            <a:ext cx="1966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0033"/>
                </a:solidFill>
                <a:latin typeface="Arial"/>
              </a:rPr>
              <a:t>GÉME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Black"/>
              </a:rPr>
              <a:t>o Tagar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13:03:57Z</dcterms:created>
  <dc:creator>Jose DA PALMA</dc:creator>
  <dc:description/>
  <dc:language>en-US</dc:language>
  <cp:lastModifiedBy>Jose DA PALMA</cp:lastModifiedBy>
  <dcterms:modified xsi:type="dcterms:W3CDTF">2008-12-10T16:31:48Z</dcterms:modified>
  <cp:revision>81</cp:revision>
  <dc:subject/>
  <dc:title>O Zodiaco</dc:title>
</cp:coreProperties>
</file>