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AA4-2C02-401E-9645-F17C6868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9AB-CFBF-4273-B833-ED415DC7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84A-81B8-4E4B-914C-B060851A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92C-84B3-4F52-AAA3-BE24668E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F2A-A4DA-49BB-AF37-5AF87F24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CA9-DAD1-4C6B-8BF5-CDFE85CE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480-3EFE-4362-AC0D-40E0B88F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D57-A1A9-41B9-B25D-95035E0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709-61AF-4A2B-A8F1-2CF5D184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104-63DA-4C74-909B-0412F22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5A3-E1B3-4C3C-B671-AE94CAB1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764-1E4A-44C7-98AC-419B434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A77F-9A24-4BA4-8A40-4CF016BBA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Dauphin"/>
              </a:rPr>
              <a:t>O Zodia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"/>
              </a:rPr>
              <a:t>Mais 1 dos tais!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6200" y="281160"/>
            <a:ext cx="8228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ligente e engenh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ece estar sempre de saída, muito fal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vo, enérgi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aptável mas com necessidade de se express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gumentativo e fran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mudanç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sáti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upado, mas às vezes nervoso e ten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foqueir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parecer superficial ou incoer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ó e sujeito a mudanç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 fisicamente e mentalment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5 anos de azar se você não re-encaminha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8560" y="2708280"/>
            <a:ext cx="318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RANGUEJO </a:t>
            </a:r>
            <a:br>
              <a:rPr sz="3200"/>
            </a:b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rote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7840" y="352440"/>
            <a:ext cx="82278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mocion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tím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amoroso e genti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ócios excelentes para vida.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ect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ntivo e imagin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utel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 de pessoa 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cessidade de ser amado pelos outr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goa-se facilmente, mas simpáti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6 anos de azar se você não reencaminha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87720" y="0"/>
            <a:ext cx="51562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1640" y="2751120"/>
            <a:ext cx="1311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LE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6200" y="208080"/>
            <a:ext cx="837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organiz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cisa de ordem nas vidas deles/delas - como estar em control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limit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 a assumir tu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dã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ajudar os outr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 e gosta de sai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xtrovert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oso, amá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ergia criativ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iantes neles própri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s amant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zer a coisa certa é importante para Leã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raent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 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3 anos de azar se você não re-encaminhar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2560" y="2700360"/>
            <a:ext cx="204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VIR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erfecci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0"/>
            <a:ext cx="8675640" cy="72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minante nas relaçõ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erv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r ter sempre a última palavr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gument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ocup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intelig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tipatiza com barulho e ca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si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balh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ácil de fal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ícil de agrad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ver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ático e muito exig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equentemente tím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ssimi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7 anos de azar se você não re-encaminhar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6200" y="2771640"/>
            <a:ext cx="219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BAL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Harmoni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281160"/>
            <a:ext cx="837396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radável a todos os que se encontram com el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eci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 uma atracção própria sem igu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iativo, enérgico e muito soci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deia estar só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lmo, gener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amoroso e 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flirt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ede muito facilm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 a deixar para depoi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crédul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9 anos de azar se você não re-encaminhar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8560" y="2708280"/>
            <a:ext cx="3140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RANGUEJ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rote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7720" y="2349360"/>
            <a:ext cx="753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Black"/>
              </a:rPr>
              <a:t>Depois de abrir este e-mail, não há volta a d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aixo são </a:t>
            </a:r>
            <a:r>
              <a:rPr b="1" lang="it-IT" sz="2400" spc="-1" strike="noStrike" u="sng">
                <a:solidFill>
                  <a:srgbClr val="4d4d4d"/>
                </a:solidFill>
                <a:uFillTx/>
                <a:latin typeface="Arial"/>
              </a:rPr>
              <a:t>verdadeira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escrições de signos do Zodíac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auphin"/>
              </a:rPr>
              <a:t>Leia o e-mail e reencaminhe-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560" y="333360"/>
            <a:ext cx="74304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mocion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tím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amoroso e genti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ócios excelentes para a vida.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ect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ntivo e imagin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utel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 de pessoa 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cessidade de ser amado pelos outr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goa-se facilmente, mas simpáti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6 anos de azar se você não re-encaminhar… 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560" y="2637000"/>
            <a:ext cx="244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SAGIT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Optim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73080"/>
            <a:ext cx="856908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rreflet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quer crescer (síndroma Peter Pan)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vorece o eg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gulh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luxos e jog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 e gosta de sai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de responsabilidad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equentemente fantasist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paci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tido estar ao seu re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 muitos amig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quete e gosta de flirt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de regra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s vezes hipócrit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tipatiza com espaços apertados e roupas apertada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que duvidem del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 por dentro e por fora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4 anos de azar se você não re-encaminhar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1120" y="2771640"/>
            <a:ext cx="307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PRICÓR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aci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2520" y="189000"/>
            <a:ext cx="84834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le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ábi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ático e ríg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bici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 a estar 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umorístico e satiricamente engraç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um pouco tímido e reserv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ressivo na expressão ver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equentemente são pessimista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m a agir antes de pensar e podem ser às vezes pou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igávei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arda ranc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competiçã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têm o que eles querem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0 anos de azar se você não re-encaminhar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3120" y="2843280"/>
            <a:ext cx="210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AQ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A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333360"/>
            <a:ext cx="7850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ptimista e hones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ce personalidad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independ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ntivo e intelig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igável e le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parecer não emo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um pouco rebeld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teimoso, mas original e sem igu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raente no lado de dentro e for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sonalidade excêntric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1 anos de azar se você não re-encaminhar..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8360" y="2771640"/>
            <a:ext cx="176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PEIXES </a:t>
            </a:r>
            <a:br>
              <a:rPr sz="3200"/>
            </a:b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Sonh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2200" y="333360"/>
            <a:ext cx="745344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m coração e pens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criativo e imagin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ficar reservado e vag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de detalh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hador e irre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mpático e amor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sinteress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m beij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8 anos de azar se você não re-encaminhar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83400" y="162864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pperplate Gothic Bold"/>
              </a:rPr>
              <a:t>Em resum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3068640"/>
            <a:ext cx="468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e para os conquist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823680" y="1484280"/>
            <a:ext cx="107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Belwe Bd BT"/>
              </a:rPr>
              <a:t>Isto é a sér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Dauphin"/>
              </a:rPr>
              <a:t>Se tentar ignorar ou mudar isto, a primeira coisa que você nota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Dauphin"/>
              </a:rPr>
              <a:t>amanhã de manhã será que terá um dia longuissimo, que só acaba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Dauphin"/>
              </a:rPr>
              <a:t>à meia-noit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7080" y="0"/>
            <a:ext cx="929268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Aries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0/3-18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ssoas fortes, com energia, institivos e dinamicos... com coragem, por vezes egocentricos, tendem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mar a liderança; signo vital, associado a grandes desportistas de competição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Objectos desportivos, presentes anti-convencionais com design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Taur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19/4-19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ssoas resistentes, pacientes, que sabem manter a calma. Tem como activo a inteligencia. São pesso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uito realista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Perfumes, comida em abundancia, música ..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Géminis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0/5-20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radictorios e versáteis, mudam com muita facilidade. Passam por serem serenos e fascinantes, a pessimist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 amorfos. Fantasiosos, amam a liberdade e a independenci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Viajens e coisas exóticas, com muita imaginaçao e muito originais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Cáncer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1/6-21/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amilares, tímidos, possessivos, imaginativos e románticos. Doces, que viajam entre a melancolia e a alegri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1" i="1" lang="it-IT" sz="1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na ceia íntima e romántica com pequenos presentes…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2240" y="187200"/>
            <a:ext cx="90216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e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2/7-21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xtrovertidos, autoritários,livres, fortes, passionais e generosos. Optimistas e às vezes um pouco imprudentes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 pouco caros.. de luxo!... O melhor restaurante da cidad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Virg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2/8-21/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ticulosos nos detalhes, eficientes, severos e racionais na vida privada e no trabalho. Bons aforradore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Coisas elegantes, uma saida à noite ao concerto, ao teatro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ibra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2/9-22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plomático, encantador e sociável. Os libra são idealistas, pacíficos, optimistas e romanticos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Livros, ir um restaurante simples, mas com atmosfera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Escorp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3/10-20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s mais intuitivos, tendem a ser profundos e sérios. O escorpião é autoritario, ciumento, possessivo 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ambém lunar e apaixonado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Flores, e o que se quiser…um presente e’ sempre um presente!..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115920"/>
            <a:ext cx="903816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Sagitar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1/11- 20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fiados, alegres, sinceros, fiéis amigos, amantes da natureza e do ar livre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a viagem, uma excursao a uma aldeia tranquila, um passeio no rio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Capricorn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1/12- 19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ao introvertidos impulsivos... apresentam traços de timidez e de insegurança; perfil ambicioso, frí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lancólico, mas, surpreendentemente, o capricornio é afectuoso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 signo que exige ser muito original na escolha do presente… um perfume insolito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 fim de semana num turismo de habitaçao isolado e com historia?...Acçoes da bolsa?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Aquar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0/1-18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nceros, altruistas, simpáticos e activos, mas que passam por momentos de grande nervosismo e tensa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idosos, muito creativos, agradavei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Flores (hortensias e amapolas), peças de vestuario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Piscis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19/2-19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btis, doces, tolerantes, imprevisiveis, romanticos mas impulsivos e até infiéis. O peixe acredita na amizade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 amor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Arte, algo que lhe sirva para ordenar as suas cois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Vamos a ist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639720"/>
            <a:ext cx="640872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25560" y="1413000"/>
            <a:ext cx="405792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33cc33"/>
                </a:solidFill>
                <a:latin typeface="Arial"/>
              </a:rPr>
              <a:t>Envie JÁ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Preparado....... Fogo............ ENV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1-03 pessoas = 1 minuto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4-07 pessoas = 1 hora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8-12 pessoas = 1 dia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3-17 pessoas = 1 semana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8-22 pessoas = 1 mês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3-27 pessoas = 3 meses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8-32 pessoas = 7 meses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3-37 pessoas = 1 ano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8 ou mais = uma vida de 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9880" y="1700280"/>
            <a:ext cx="775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00"/>
                </a:solidFill>
                <a:latin typeface="Arial Black"/>
              </a:rPr>
              <a:t>Olhem... não é por azar ou sor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00"/>
                </a:solidFill>
                <a:latin typeface="Arial Black"/>
              </a:rPr>
              <a:t>mas acho a definição do meu signo muito correcta...</a:t>
            </a: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 Black"/>
              </a:rPr>
              <a:t>Vejam a vos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2000" y="2205000"/>
            <a:ext cx="33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RN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Diabo de desafio enér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33360"/>
            <a:ext cx="8300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fiante e entusiástic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vertid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ma um desafi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TREMAMENTE impaciente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Às vezes egoísta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usível curto (enfurece facilmente)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vido, inteligência apaixonada e afiada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osta de sair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de interesse depressa - facilmente entediad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goístic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rajoso e afirmativ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nde a ser físico e atl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 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6 anos de azar se você não re-encaminhar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0080" y="2392200"/>
            <a:ext cx="176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URO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 Resist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6480"/>
            <a:ext cx="815652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 encanta mas agressiv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de parecer enfadonho, mas não é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balhador dur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mável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te, tem resistência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es sólidos e estáveis e seguros dos modos deles/dela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ão procuram atalh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gulhosos da beleza deles/dela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ientes e segur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zem grandes amigos e dão bons conselh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m coraçã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mam profundamente - apaixonad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pressam-se emocionalmente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penso a temperamento - acessos de raiva feroze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terminad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dem aos seus desejos frequentemente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uito generos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2 anos de azar se você não re-encaminhar..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2560" y="2411280"/>
            <a:ext cx="19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GÉM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Tagar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03:57Z</dcterms:created>
  <dc:creator>Jose DA PALMA</dc:creator>
  <dc:description/>
  <dc:language>en-US</dc:language>
  <cp:lastModifiedBy>Jose DA PALMA</cp:lastModifiedBy>
  <dcterms:modified xsi:type="dcterms:W3CDTF">2008-12-10T16:31:48Z</dcterms:modified>
  <cp:revision>81</cp:revision>
  <dc:subject/>
  <dc:title>O Zodiaco</dc:title>
</cp:coreProperties>
</file>