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gif" ContentType="image/gif"/>
  <Override PartName="/ppt/media/image12.jpeg" ContentType="image/jpeg"/>
  <Override PartName="/ppt/media/image13.png" ContentType="image/png"/>
  <Override PartName="/ppt/media/image17.jpeg" ContentType="image/jpeg"/>
  <Override PartName="/ppt/media/image16.jpeg" ContentType="image/jpeg"/>
  <Override PartName="/ppt/media/image1.jpeg" ContentType="image/jpeg"/>
  <Override PartName="/ppt/media/image18.gif" ContentType="image/gif"/>
  <Override PartName="/ppt/media/Coisa%20Bonita-R.%20Carlos-Wave.wav" ContentType="audio/x-wav"/>
  <Override PartName="/ppt/media/image2.jpeg" ContentType="image/jpeg"/>
  <Override PartName="/ppt/media/image3.jpeg" ContentType="image/jpeg"/>
  <Override PartName="/ppt/media/image7.jpeg" ContentType="image/jpeg"/>
  <Override PartName="/ppt/media/image15.gif" ContentType="image/gif"/>
  <Override PartName="/ppt/media/image4.jpeg" ContentType="image/jpeg"/>
  <Override PartName="/ppt/media/image5.gif" ContentType="image/gif"/>
  <Override PartName="/ppt/media/image14.jpeg" ContentType="image/jpe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7731-B333-4741-88AF-4A59CDCB9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FB8E-6CD4-4D82-B536-4C519872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0105-5BF6-4EE1-8A34-764B88A05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08E4-31AC-44F9-AE9B-6E2CA6731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E0F2-4301-4019-BF8B-BC065B7B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6F98-C1C2-4215-9B61-301AC66C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E48E-E3DF-43F6-A07E-05FAE1E8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9124-6898-4710-B347-6F5E9191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5B73-88CB-421C-BCD5-C9166611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121D-19B9-4E5A-9A50-A00611F4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43F1-F75A-4542-B7B9-F6BDD316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4C5A-0465-4F29-B7C0-BF6F55DB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F21C-6B1C-4B4D-B217-21CCF1D51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isa%20Bonita-R.%20Carlos-Wav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hyperlink" Target="http://images.google.pt/imgres?imgurl=http://bp2.blogger.com/_HCxovlRgCjc/R-k6r8oQ-gI/AAAAAAAAA2w/1EHYTEpgGSM/s400/fruta3.jpg&amp;imgrefurl=http://culinariareceitas.blogspot.com/2008_03_01_archive.html&amp;h=338&amp;w=400&amp;sz=18&amp;hl=pt-PT&amp;start=1&amp;um=1&amp;tbnid=1VvrWvHfGcHXHM:&amp;tbnh=105&amp;tbnw=124&amp;prev=/images%3Fq%3Dfruta%2Be%2Barte%26um%3D1%26hl%3Dpt-PT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lucasouzaglamour.files.wordpress.com/2007/04/cha-verde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0099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0140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PRENDA MAIS UMA!</a:t>
            </a: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ruta é o mais perfeito alimento, gasta uma quantidade mínima de energia para ser digerida e dá ao seu corpo o máximo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tor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987640" y="2276640"/>
            <a:ext cx="3019320" cy="4221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227640" y="5445000"/>
            <a:ext cx="12240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Lig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s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4360" y="620640"/>
            <a:ext cx="7619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íquidos gelados durante e após as refeições solidificam os componentes oleosos dos alimentos, retardando a</a:t>
            </a:r>
            <a:br>
              <a:rPr sz="2400"/>
            </a:br>
            <a:r>
              <a:rPr b="0" lang="pt-PT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gestão. Reagem com os ácidos digestivos e serão absorvidos pelo intestino mais depressa do que os alimentos sólidos,</a:t>
            </a:r>
            <a:br>
              <a:rPr sz="2400"/>
            </a:br>
            <a:r>
              <a:rPr b="0" lang="pt-PT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emarcando o intestino e endurecendo as gorduras, que permanecerão por mais tempo no intesti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356000" y="3284640"/>
            <a:ext cx="2737080" cy="3384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187280" y="3716280"/>
            <a:ext cx="271656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50000">
              <a:srgbClr val="ffff00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26920" y="3714120"/>
            <a:ext cx="74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í o valor de um chá morno depois de uma refeição. Facilita a digestão e amolece as gorduras para serem expelidas</a:t>
            </a:r>
            <a:br>
              <a:rPr sz="2400"/>
            </a:br>
            <a:r>
              <a:rPr b="0" lang="pt-PT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ais rapidamente, o que também ajuda a emagrecer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651640" y="1989000"/>
            <a:ext cx="1609560" cy="1371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0" t="11823" r="0" b="7868"/>
          <a:stretch/>
        </p:blipFill>
        <p:spPr>
          <a:xfrm>
            <a:off x="1476360" y="981000"/>
            <a:ext cx="37972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e61802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39640" y="3787200"/>
            <a:ext cx="817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 cardiologista disse que se cada pessoa que receber este e-mail o enviar a 10 pessoas pode ter a certeza d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 salvará pelo menos uma vida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 já fiz a minha par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8696" t="0" r="8978" b="15791"/>
          <a:stretch/>
        </p:blipFill>
        <p:spPr>
          <a:xfrm>
            <a:off x="3132000" y="620640"/>
            <a:ext cx="2737080" cy="2879640"/>
          </a:xfrm>
          <a:prstGeom prst="rect">
            <a:avLst/>
          </a:prstGeom>
          <a:ln w="0">
            <a:noFill/>
          </a:ln>
        </p:spPr>
      </p:pic>
      <p:pic>
        <p:nvPicPr>
          <p:cNvPr id="72" name="003gsk10" descr=""/>
          <p:cNvPicPr/>
          <p:nvPr/>
        </p:nvPicPr>
        <p:blipFill>
          <a:blip r:embed="rId2"/>
          <a:stretch/>
        </p:blipFill>
        <p:spPr>
          <a:xfrm>
            <a:off x="4211640" y="5516640"/>
            <a:ext cx="115236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1802"/>
            </a:gs>
            <a:gs pos="50000">
              <a:srgbClr val="ccff33"/>
            </a:gs>
            <a:gs pos="100000">
              <a:srgbClr val="e618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3570120"/>
            <a:ext cx="849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 único alimento que faz o seu cérebro trabalhar é a glicose.</a:t>
            </a:r>
            <a:br>
              <a:rPr sz="2400"/>
            </a:br>
            <a:br>
              <a:rPr sz="2400"/>
            </a:br>
            <a:r>
              <a:rPr b="0" lang="pt-PT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fruta é principalmente frutose (que pode ser transformada com facilidade em glicose), é na maioria das vezes </a:t>
            </a:r>
            <a:br>
              <a:rPr sz="2400"/>
            </a:br>
            <a:r>
              <a:rPr b="0" lang="pt-PT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-95 % de água. Isso significa que ela está a limpar e a alimentar ao mesmo tempo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24000" y="260280"/>
            <a:ext cx="444492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8081" t="15854" r="9367" b="17495"/>
          <a:stretch/>
        </p:blipFill>
        <p:spPr>
          <a:xfrm>
            <a:off x="3276720" y="3500280"/>
            <a:ext cx="2950920" cy="3024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545760"/>
            <a:ext cx="88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 único problema com as frutas é que a maioria das pessoas não sabe como comê-las de forma a permitir que o corpo use efectivamente os seus nutrientes.</a:t>
            </a:r>
            <a:br>
              <a:rPr sz="2400"/>
            </a:br>
            <a:br>
              <a:rPr sz="2400"/>
            </a:br>
            <a:r>
              <a:rPr b="0" lang="pt-PT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evem comer-se as frutas sempre com o </a:t>
            </a:r>
            <a:r>
              <a:rPr b="1" lang="pt-PT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STÔMAGO VAZIO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 Porquê? </a:t>
            </a:r>
            <a:r>
              <a:rPr b="1" lang="pt-PT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razão é que as frutas não são, em princípio, digeridas no estômago: são digeridas no intestino delgado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6600"/>
            </a:gs>
            <a:gs pos="100000">
              <a:srgbClr val="cc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4617360"/>
            <a:ext cx="864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s frutas passam rapidamente pelo estômago, dali indo para o intestino, onde libertam os seus açúcares. Mas se houver</a:t>
            </a:r>
            <a:br>
              <a:rPr sz="2400"/>
            </a:br>
            <a:r>
              <a:rPr b="0" lang="pt-PT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arne, batatas ou amidos no estômago, </a:t>
            </a:r>
            <a:r>
              <a:rPr b="1" lang="pt-PT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as frutas ficam presas e começam a fermentar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87640" y="765000"/>
            <a:ext cx="28512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ff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87552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Já comeu alguma fruta à sobremesa, após uma lauta refeição, e passou o resto da noite arrotando aquele desconfortável sabor restante? É porque não a comeu da maneira adequada. Deve comer-se fruta sempre com o estômago vazio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42920" y="2708280"/>
            <a:ext cx="1028880" cy="1728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76360" y="4724280"/>
            <a:ext cx="1797120" cy="1522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995640" y="2565360"/>
            <a:ext cx="38102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1802"/>
            </a:gs>
            <a:gs pos="50000">
              <a:srgbClr val="ffff00"/>
            </a:gs>
            <a:gs pos="100000">
              <a:srgbClr val="e618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95280" y="4149720"/>
            <a:ext cx="856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melhor espécie de fruta é a fresca ou o sumo feito na altura de beber. Não deve beber sumo de lata ou de recipientes de vidro. Porque não? Porque a maioria das vezes o sumo foi aquecido no processo pelo qual o recipiente é vedado e a sua estrutura tornou-se ác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484360" y="765000"/>
            <a:ext cx="316548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0099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61812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Quer fazer a mais valiosa compra que possa?</a:t>
            </a:r>
            <a:br>
              <a:rPr sz="2400"/>
            </a:br>
            <a:r>
              <a:rPr b="0" lang="pt-PT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mpre uma centrifugadora. Pode ingerir o sumo extraído na centrifugadora como se fosse a fruta, com o estômago vazio. E o sumo é digerido tão depressa que pode comer uma refeição quinze ou vinte minutos mais tarde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948360" y="4221000"/>
            <a:ext cx="1214640" cy="1214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195640" y="2781360"/>
            <a:ext cx="439236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0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79280" y="976680"/>
            <a:ext cx="3745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 dr. William Castillo, chefe da clínica de cardiologia Framington, de Massachusetts, declarou que fruta é o</a:t>
            </a:r>
            <a:br>
              <a:rPr sz="2400"/>
            </a:br>
            <a:r>
              <a:rPr b="0" lang="pt-PT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elhor alimento que podemos comer para nos protegermos contra doenças do coração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4795200"/>
            <a:ext cx="89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s frutas contêm bioflavinóides, que evitam que o sangue se torne espesso e obstrua as artérias.</a:t>
            </a:r>
            <a:br>
              <a:rPr sz="2400"/>
            </a:br>
            <a:r>
              <a:rPr b="0" lang="pt-PT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ambém fortalecem os vasos capilares, e os vasos capilares fracos quase sempre provocam hemorragias internas e ataques cardíacos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716360" y="549360"/>
            <a:ext cx="3019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1802"/>
            </a:gs>
            <a:gs pos="50000">
              <a:srgbClr val="ffff00"/>
            </a:gs>
            <a:gs pos="100000">
              <a:srgbClr val="e618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4199760"/>
            <a:ext cx="896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s chineses e os japoneses bebem chá quente (de preferência chá verde) durante as refeições. Nunca água gelada ou</a:t>
            </a:r>
            <a:br>
              <a:rPr sz="2400"/>
            </a:br>
            <a:r>
              <a:rPr b="0" lang="pt-PT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ebidas geladas. Devíamos adoptar este hábito!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Chá verd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71640" y="836640"/>
            <a:ext cx="355140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1T20:31:46Z</dcterms:created>
  <dc:creator>Fátima Maria</dc:creator>
  <dc:description/>
  <dc:language>en-US</dc:language>
  <cp:lastModifiedBy>w01165scosta</cp:lastModifiedBy>
  <dcterms:modified xsi:type="dcterms:W3CDTF">2009-03-18T14:11:39Z</dcterms:modified>
  <cp:revision>29</cp:revision>
  <dc:subject/>
  <dc:title>Diapositivo 1</dc:title>
</cp:coreProperties>
</file>