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CC4-ED69-4909-87C5-8B67DAE6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BA9-AD34-45CD-9A2F-50A51A11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AE9-0651-4C6E-A1A7-E390CFF2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50C-3C3F-4F6B-B8F0-CBB22A14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17B-E060-45D5-B6C6-C5B6A8AE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B6B-E683-4EB0-990D-F50A9010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CC4-DDA1-439E-986C-633E3B27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75E-C75E-4EDA-A3A1-795319C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968-CB39-4E0B-B7EF-FE17A2D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AD2-9B16-4659-BFD9-FFB6502C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3B6-9D40-433B-AE64-82FF96E7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9DE-FDF8-4F93-9A9A-99BB79C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2CA2-17AF-430D-83D1-C1EA2675A62D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ângulo 3"/>
          <p:cNvSpPr/>
          <p:nvPr/>
        </p:nvSpPr>
        <p:spPr>
          <a:xfrm>
            <a:off x="1143000" y="1500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Há uma palavra na língua Portuguesa que pode ser considerada um ex-libris da nossa língua ma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sta versátil palavra pode mesmo ser aplicada a uma enorme quantidade de situações, não perdendo nunca o sentido de oportunidade e perfeitamente enquadrada no sentido da frase, por mais distinta que essa frase possa s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ângulo 3"/>
          <p:cNvSpPr/>
          <p:nvPr/>
        </p:nvSpPr>
        <p:spPr>
          <a:xfrm>
            <a:off x="1357200" y="1500120"/>
            <a:ext cx="65725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sta palavra é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600" spc="-1" strike="noStrike">
                <a:solidFill>
                  <a:srgbClr val="000000"/>
                </a:solidFill>
                <a:latin typeface="Calibri"/>
              </a:rPr>
              <a:t>MERDA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Querem exemplos !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Vejam os 25 casos típicos que a seguir se indicam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ângulo 3"/>
          <p:cNvSpPr/>
          <p:nvPr/>
        </p:nvSpPr>
        <p:spPr>
          <a:xfrm>
            <a:off x="214200" y="35712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) Como caso duvidos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nde fica essa MERDA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) Como indicação geográfic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Vá a MERDA!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3) Como desabaf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18:00h - vou embora desta MER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4) Como substantivo qualificativ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Você é um MERDA!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5) Como auxiliar quantitativ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Trabalho que me desunho e ganho uma MERDA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6) Como indicador de especialização profissional: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Ele tem uma especialidade de MER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7) Como indicativo de MB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Ele faz muita MERDA.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ângulo 2"/>
          <p:cNvSpPr/>
          <p:nvPr/>
        </p:nvSpPr>
        <p:spPr>
          <a:xfrm>
            <a:off x="214200" y="357120"/>
            <a:ext cx="86439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8) Como sinónimo de cobarde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Seu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9) Como pergunta direct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Você fez MERDA , nã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0) Como indicador visual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Não se vê 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1) Como elemento indicador do caminho a ser percorrid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Porque não vais à MERD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2) Como especulação de conhecimento e surpres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Que MERDA é ess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3) Como constatação da situação financeira de um indivídu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Ele está na MERDA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4) Como indicador de ressentimento natalício: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Deram-me uns presentes de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ângulo 2"/>
          <p:cNvSpPr/>
          <p:nvPr/>
        </p:nvSpPr>
        <p:spPr>
          <a:xfrm>
            <a:off x="214200" y="35712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5) Como indicador de admiraçã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Isto é que está aqui 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6) Como indicador de rejeiçã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Puta de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7) Como indicador de espécie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 que esse MERDA pensa que é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8) Como indicador de continuidade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Na mesma MERDA de semp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9) Como indicador de desordem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 * Está tudo 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0) Como constatação científica dos resultados da alquimi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 Tudo em que toca, dá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1) Como resultado aplicativ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Deu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ângulo 2"/>
          <p:cNvSpPr/>
          <p:nvPr/>
        </p:nvSpPr>
        <p:spPr>
          <a:xfrm>
            <a:off x="214200" y="357120"/>
            <a:ext cx="864396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2) Como indicador de performance desportiv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 meu clube está a jogar uma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3) Como constatação negativ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Que MERDA est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4) Como classificação literári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Que texto de MERDA!!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5) Como qualificação de desgovern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 governo do Sócrates é 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Esta mensagem foi verificada pelo sistem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antivírus e acredita-se estar livre dessa MERD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portanto livre do perigo de originar MERDA ...</a:t>
            </a:r>
            <a:r>
              <a:rPr b="0" lang="pt-PT" sz="2000" spc="-1" strike="noStrike">
                <a:solidFill>
                  <a:srgbClr val="c00000"/>
                </a:solidFill>
                <a:latin typeface="Calibri"/>
              </a:rPr>
              <a:t> 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0:10:42Z</dcterms:created>
  <dc:creator>Pereira Anjos</dc:creator>
  <dc:description/>
  <dc:language>en-US</dc:language>
  <cp:lastModifiedBy>Pereira Anjos</cp:lastModifiedBy>
  <dcterms:modified xsi:type="dcterms:W3CDTF">2008-01-02T00:46:28Z</dcterms:modified>
  <cp:revision>4</cp:revision>
  <dc:subject/>
  <dc:title>Diapositivo 1</dc:title>
</cp:coreProperties>
</file>