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805-86B9-4F2E-B1FF-68C8C2CD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8CD-8AB8-4A80-916B-2BCDB0A9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BC7-07B8-445E-9FE7-90BB2DC1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9E7-8584-4C7F-8576-8016684D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955-ABEF-40CD-8EA9-0C613C7E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B7D-10B3-41DE-A74B-083150A3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3DA-2619-4AD7-B905-9C633E1E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29D-BD34-49E8-9C35-2CD83ED1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8CD-1AAC-42CB-8CFA-82A8C2FF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B59-7386-4752-ACA9-A6D0EEB1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58F-90E1-47F1-9EF2-4CE36146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A21-878B-42E4-9B04-9B4D82A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39A-339C-46BA-AFD8-86E201000250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ângulo 3"/>
          <p:cNvSpPr/>
          <p:nvPr/>
        </p:nvSpPr>
        <p:spPr>
          <a:xfrm>
            <a:off x="1143000" y="15001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Há uma palavra na língua Portuguesa que pode ser considerada um ex-libris da nossa língua mater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sta versátil palavra pode mesmo ser aplicada a uma enorme quantidade de situações, não perdendo nunca o sentido de oportunidade e perfeitamente enquadrada no sentido da frase, por mais distinta que essa frase possa s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ângulo 3"/>
          <p:cNvSpPr/>
          <p:nvPr/>
        </p:nvSpPr>
        <p:spPr>
          <a:xfrm>
            <a:off x="1357200" y="1500120"/>
            <a:ext cx="65725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sta palavra é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600" spc="-1" strike="noStrike">
                <a:solidFill>
                  <a:srgbClr val="000000"/>
                </a:solidFill>
                <a:latin typeface="Calibri"/>
              </a:rPr>
              <a:t>MERDA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Querem exemplos !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Vejam os 25 casos típicos que a seguir se indicam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ângulo 3"/>
          <p:cNvSpPr/>
          <p:nvPr/>
        </p:nvSpPr>
        <p:spPr>
          <a:xfrm>
            <a:off x="214200" y="357120"/>
            <a:ext cx="864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) Como caso duvidos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Onde fica essa MERDA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) Como indicação geográfic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Vá a MERDA!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3) Como desabaf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18:00h - vou embora desta MER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4) Como substantivo qualificativ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Você é um MERDA!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5) Como auxiliar quantitativ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Trabalho que me desunho e ganho uma MERDA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6) Como indicador de especialização profissional: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Ele tem uma especialidade de MER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7) Como indicativo de MB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Ele faz muita MERDA.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ângulo 2"/>
          <p:cNvSpPr/>
          <p:nvPr/>
        </p:nvSpPr>
        <p:spPr>
          <a:xfrm>
            <a:off x="214200" y="357120"/>
            <a:ext cx="86439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8) Como sinónimo de cobarde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Seu MERD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9) Como pergunta direct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Você fez MERDA , nã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0) Como indicador visual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Não se vê uma MERDA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1) Como elemento indicador do caminho a ser percorrid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Porque não vais à MERD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2) Como especulação de conhecimento e surpres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Que MERDA é ess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3) Como constatação da situação financeira de um indivídu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Ele está na MERDA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4) Como indicador de ressentimento natalício: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Deram-me uns presentes de MERDA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ângulo 2"/>
          <p:cNvSpPr/>
          <p:nvPr/>
        </p:nvSpPr>
        <p:spPr>
          <a:xfrm>
            <a:off x="214200" y="357120"/>
            <a:ext cx="864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5) Como indicador de admiraçã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Isto é que está aqui uma Merda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6) Como indicador de rejeiçã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Puta de Merd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7) Como indicador de espécie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O que esse MERDA pensa que é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8) Como indicador de continuidade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Na mesma MERDA de semp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19) Como indicador de desordem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 * Está tudo uma MERDA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0) Como constatação científica dos resultados da alquimi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 Tudo em que toca, dá MERD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1) Como resultado aplicativ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Deu MERD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ângulo 2"/>
          <p:cNvSpPr/>
          <p:nvPr/>
        </p:nvSpPr>
        <p:spPr>
          <a:xfrm>
            <a:off x="214200" y="357120"/>
            <a:ext cx="864396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2) Como indicador de performance desportiv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O meu clube está a jogar uma MERD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3) Como constatação negativ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Que MERDA esta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4) Como classificação literária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Que texto de MERDA!!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25) Como qualificação de desgoverno: </a:t>
            </a:r>
            <a:br>
              <a:rPr sz="1800"/>
            </a:br>
            <a:r>
              <a:rPr b="1" lang="pt-PT" sz="1800" spc="-1" strike="noStrike">
                <a:solidFill>
                  <a:srgbClr val="000000"/>
                </a:solidFill>
                <a:latin typeface="Calibri"/>
              </a:rPr>
              <a:t>    * O governo do Sócrates é uma MERDA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00000"/>
                </a:solidFill>
                <a:latin typeface="Calibri"/>
              </a:rPr>
              <a:t>Esta mensagem foi verificada pelo sistema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00000"/>
                </a:solidFill>
                <a:latin typeface="Calibri"/>
              </a:rPr>
              <a:t>antivírus e acredita-se estar livre dessa MERD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00000"/>
                </a:solidFill>
                <a:latin typeface="Calibri"/>
              </a:rPr>
              <a:t>portanto livre do perigo de originar MERDA ...</a:t>
            </a:r>
            <a:r>
              <a:rPr b="0" lang="pt-PT" sz="2000" spc="-1" strike="noStrike">
                <a:solidFill>
                  <a:srgbClr val="c00000"/>
                </a:solidFill>
                <a:latin typeface="Calibri"/>
              </a:rPr>
              <a:t> 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0:10:42Z</dcterms:created>
  <dc:creator>Pereira Anjos</dc:creator>
  <dc:description/>
  <dc:language>en-US</dc:language>
  <cp:lastModifiedBy>Pereira Anjos</cp:lastModifiedBy>
  <dcterms:modified xsi:type="dcterms:W3CDTF">2008-01-02T00:46:28Z</dcterms:modified>
  <cp:revision>4</cp:revision>
  <dc:subject/>
  <dc:title>Diapositivo 1</dc:title>
</cp:coreProperties>
</file>