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3CC4-48AF-49F8-8258-0CE4410E4C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47EA-861A-48BE-A63B-49212CC600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ECC-0DB1-47FF-A1B0-5211FAD7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6B9-DF20-4098-B366-B5C3C870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107-B1C9-469B-80D6-14D5C9C2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6A7-41EB-425A-B94C-D9A59095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3D3-3E6F-4F13-B73E-CB688902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B0C-C040-4E66-8934-BEBCB112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199-D10C-4ABC-9C18-26004010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148-BDE3-4A9E-B8AE-BCB249C4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4EA-A24D-49C8-AB32-56BD4E4B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1C3-DDF6-4AB1-93B7-02AB03B9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376-0EE3-4C02-A327-A72E6352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0A2-1BF1-4622-9F08-EBCB5B5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3979-C671-4A09-9C80-080BFA782661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762120" y="1600200"/>
            <a:ext cx="77724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Os homens sempre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e perguntam: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armen Electra"/>
          <p:cNvPicPr/>
          <p:nvPr/>
        </p:nvPicPr>
        <p:blipFill>
          <a:blip r:embed="rId1"/>
          <a:stretch/>
        </p:blipFill>
        <p:spPr>
          <a:xfrm>
            <a:off x="2214720" y="0"/>
            <a:ext cx="47145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057440" y="58672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rmen Elec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oli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arol Grow"/>
          <p:cNvPicPr/>
          <p:nvPr/>
        </p:nvPicPr>
        <p:blipFill>
          <a:blip r:embed="rId1"/>
          <a:stretch/>
        </p:blipFill>
        <p:spPr>
          <a:xfrm>
            <a:off x="2560680" y="0"/>
            <a:ext cx="4022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7072200" y="60609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rol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oli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harlie O´Neale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069680" y="60609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halie O´n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oli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lsa Benitez"/>
          <p:cNvPicPr/>
          <p:nvPr/>
        </p:nvPicPr>
        <p:blipFill>
          <a:blip r:embed="rId1"/>
          <a:stretch/>
        </p:blipFill>
        <p:spPr>
          <a:xfrm>
            <a:off x="220500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069680" y="60609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Elsa Beni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Folie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Joanna Krupa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071840" y="60609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Joanna Kr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oli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457200" y="1905120"/>
            <a:ext cx="80773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scolho uma mulher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u um carro 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Katherine Heigl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7006320" y="59500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Katherine Hei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olie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iv_Fruy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706440" y="5335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Liv Fruy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oli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orraine Van Wyk"/>
          <p:cNvPicPr/>
          <p:nvPr/>
        </p:nvPicPr>
        <p:blipFill>
          <a:blip r:embed="rId1"/>
          <a:stretch/>
        </p:blipFill>
        <p:spPr>
          <a:xfrm>
            <a:off x="2187720" y="0"/>
            <a:ext cx="47685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7039080" y="587700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Lorraine Van W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olie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rraine Van Wyk-1"/>
          <p:cNvPicPr/>
          <p:nvPr/>
        </p:nvPicPr>
        <p:blipFill>
          <a:blip r:embed="rId1"/>
          <a:stretch/>
        </p:blipFill>
        <p:spPr>
          <a:xfrm>
            <a:off x="207648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08920" y="609300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Lorrane Van W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oli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ucie Kotalova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070040" y="606096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Lucie Kota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olie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Foli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arcela Quintero"/>
          <p:cNvPicPr/>
          <p:nvPr/>
        </p:nvPicPr>
        <p:blipFill>
          <a:blip r:embed="rId1"/>
          <a:stretch/>
        </p:blipFill>
        <p:spPr>
          <a:xfrm>
            <a:off x="2152800" y="14400"/>
            <a:ext cx="4838400" cy="6829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7163280" y="556272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arc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ui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Folie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Martina Colombari"/>
          <p:cNvPicPr/>
          <p:nvPr/>
        </p:nvPicPr>
        <p:blipFill>
          <a:blip r:embed="rId1"/>
          <a:stretch/>
        </p:blipFill>
        <p:spPr>
          <a:xfrm>
            <a:off x="2397240" y="0"/>
            <a:ext cx="4349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009920" y="53341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ar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olomb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oli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elissa Huggins"/>
          <p:cNvPicPr/>
          <p:nvPr/>
        </p:nvPicPr>
        <p:blipFill>
          <a:blip r:embed="rId1"/>
          <a:stretch/>
        </p:blipFill>
        <p:spPr>
          <a:xfrm>
            <a:off x="0" y="-81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581640" y="64008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lissa Hu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Folie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aulina Porizkov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285280" y="53352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aulina Poriz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mas não importa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os resultados sempre serão</a:t>
            </a:r>
            <a:br>
              <a:rPr sz="7200"/>
            </a:b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iguais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Angela Saunder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6629760" y="68580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gela Sau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yuck"/>
          <p:cNvPicPr/>
          <p:nvPr/>
        </p:nvPicPr>
        <p:blipFill>
          <a:blip r:embed="rId1"/>
          <a:stretch/>
        </p:blipFill>
        <p:spPr>
          <a:xfrm>
            <a:off x="1905120" y="0"/>
            <a:ext cx="5386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oli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na Hickman"/>
          <p:cNvPicPr/>
          <p:nvPr/>
        </p:nvPicPr>
        <p:blipFill>
          <a:blip r:embed="rId1"/>
          <a:stretch/>
        </p:blipFill>
        <p:spPr>
          <a:xfrm>
            <a:off x="2116080" y="0"/>
            <a:ext cx="49118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071120" y="606096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na Hick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oli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rooke Berry"/>
          <p:cNvPicPr/>
          <p:nvPr/>
        </p:nvPicPr>
        <p:blipFill>
          <a:blip r:embed="rId1"/>
          <a:stretch/>
        </p:blipFill>
        <p:spPr>
          <a:xfrm>
            <a:off x="232092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071480" y="606096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Brooke B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oli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ETMANN</cp:lastModifiedBy>
  <dcterms:modified xsi:type="dcterms:W3CDTF">2009-03-31T15:55:16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