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2D08-C8D0-4D69-B93F-6E016CAF85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E8F4-B5C8-482E-ABE2-7288E7101B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CAB-B758-45D9-934E-9EDBFC38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26E-F68A-41BA-96EA-D901C2CE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6AD-337D-48F9-81EF-1178C393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9E4-FD7F-4599-88BA-F994ADD6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1F1-D78C-41DC-AD7D-727A9D5E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133-0566-4F6B-B6B9-8B8E52FE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E00-8157-429F-8AED-3BD24CBA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968-6EC9-45AE-8575-E5967427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1D7-9DCD-4C51-BC93-814CD0F8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D92-893B-4CC5-BAE8-C32AC74E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2E8-3AC4-4219-BA05-80EF8394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CDC-7246-462F-8A3E-DD7966DB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8D2A-1933-440F-BE2C-4D8312989198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762120" y="1600200"/>
            <a:ext cx="77724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Os homens sempre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se perguntam: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armen Electra"/>
          <p:cNvPicPr/>
          <p:nvPr/>
        </p:nvPicPr>
        <p:blipFill>
          <a:blip r:embed="rId1"/>
          <a:stretch/>
        </p:blipFill>
        <p:spPr>
          <a:xfrm>
            <a:off x="2214720" y="0"/>
            <a:ext cx="47145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057440" y="58672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rmen Elec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oli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arol Grow"/>
          <p:cNvPicPr/>
          <p:nvPr/>
        </p:nvPicPr>
        <p:blipFill>
          <a:blip r:embed="rId1"/>
          <a:stretch/>
        </p:blipFill>
        <p:spPr>
          <a:xfrm>
            <a:off x="2560680" y="0"/>
            <a:ext cx="4022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7072200" y="60609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rol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oli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harlie O´Neale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069680" y="606096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halie O´ne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oli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lsa Benitez"/>
          <p:cNvPicPr/>
          <p:nvPr/>
        </p:nvPicPr>
        <p:blipFill>
          <a:blip r:embed="rId1"/>
          <a:stretch/>
        </p:blipFill>
        <p:spPr>
          <a:xfrm>
            <a:off x="2205000" y="0"/>
            <a:ext cx="473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069680" y="606096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Elsa Beni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Folie9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Joanna Krupa"/>
          <p:cNvPicPr/>
          <p:nvPr/>
        </p:nvPicPr>
        <p:blipFill>
          <a:blip r:embed="rId1"/>
          <a:stretch/>
        </p:blipFill>
        <p:spPr>
          <a:xfrm>
            <a:off x="2263680" y="0"/>
            <a:ext cx="46166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071840" y="60609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Joanna Kru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olie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5"/>
          <p:cNvSpPr txBox="1"/>
          <p:nvPr/>
        </p:nvSpPr>
        <p:spPr>
          <a:xfrm>
            <a:off x="457200" y="1905120"/>
            <a:ext cx="80773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Escolho uma mulher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u um carro ?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Katherine Heigl"/>
          <p:cNvPicPr/>
          <p:nvPr/>
        </p:nvPicPr>
        <p:blipFill>
          <a:blip r:embed="rId1"/>
          <a:stretch/>
        </p:blipFill>
        <p:spPr>
          <a:xfrm>
            <a:off x="2103480" y="0"/>
            <a:ext cx="49370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7006320" y="59500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Katherine Hei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olie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Liv_Fruya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706440" y="5335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Liv Fruy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oli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orraine Van Wyk"/>
          <p:cNvPicPr/>
          <p:nvPr/>
        </p:nvPicPr>
        <p:blipFill>
          <a:blip r:embed="rId1"/>
          <a:stretch/>
        </p:blipFill>
        <p:spPr>
          <a:xfrm>
            <a:off x="2187720" y="0"/>
            <a:ext cx="47685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7039080" y="587700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Lorraine Van W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olie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rraine Van Wyk-1"/>
          <p:cNvPicPr/>
          <p:nvPr/>
        </p:nvPicPr>
        <p:blipFill>
          <a:blip r:embed="rId1"/>
          <a:stretch/>
        </p:blipFill>
        <p:spPr>
          <a:xfrm>
            <a:off x="2076480" y="0"/>
            <a:ext cx="49910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7108920" y="609300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Lorrane Van W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olie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ucie Kotalova"/>
          <p:cNvPicPr/>
          <p:nvPr/>
        </p:nvPicPr>
        <p:blipFill>
          <a:blip r:embed="rId1"/>
          <a:stretch/>
        </p:blipFill>
        <p:spPr>
          <a:xfrm>
            <a:off x="2103480" y="0"/>
            <a:ext cx="49370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7070040" y="606096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Lucie Kota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olie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Foli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arcela Quintero"/>
          <p:cNvPicPr/>
          <p:nvPr/>
        </p:nvPicPr>
        <p:blipFill>
          <a:blip r:embed="rId1"/>
          <a:stretch/>
        </p:blipFill>
        <p:spPr>
          <a:xfrm>
            <a:off x="2152800" y="14400"/>
            <a:ext cx="4838400" cy="6829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7163280" y="556272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arc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Quin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Folie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Martina Colombari"/>
          <p:cNvPicPr/>
          <p:nvPr/>
        </p:nvPicPr>
        <p:blipFill>
          <a:blip r:embed="rId1"/>
          <a:stretch/>
        </p:blipFill>
        <p:spPr>
          <a:xfrm>
            <a:off x="2397240" y="0"/>
            <a:ext cx="4349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7009920" y="533412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ar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olomb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Folie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elissa Huggins"/>
          <p:cNvPicPr/>
          <p:nvPr/>
        </p:nvPicPr>
        <p:blipFill>
          <a:blip r:embed="rId1"/>
          <a:stretch/>
        </p:blipFill>
        <p:spPr>
          <a:xfrm>
            <a:off x="0" y="-8100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3581640" y="640080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lissa Hu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Folie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aulina Porizkov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285280" y="53352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aulina Poriz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200" spc="-1" strike="noStrike">
                <a:solidFill>
                  <a:srgbClr val="660066"/>
                </a:solidFill>
                <a:latin typeface="Asimov"/>
              </a:rPr>
              <a:t>mas não importa.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200" spc="-1" strike="noStrike">
                <a:solidFill>
                  <a:srgbClr val="660066"/>
                </a:solidFill>
                <a:latin typeface="Asimov"/>
              </a:rPr>
              <a:t>os resultados sempre serão</a:t>
            </a:r>
            <a:br>
              <a:rPr sz="7200"/>
            </a:br>
            <a:r>
              <a:rPr b="0" lang="sv-SE" sz="7200" spc="-1" strike="noStrike">
                <a:solidFill>
                  <a:srgbClr val="660066"/>
                </a:solidFill>
                <a:latin typeface="Asimov"/>
              </a:rPr>
              <a:t>iguais.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Angela Saunders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6629760" y="68580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gela Sau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yuck"/>
          <p:cNvPicPr/>
          <p:nvPr/>
        </p:nvPicPr>
        <p:blipFill>
          <a:blip r:embed="rId1"/>
          <a:stretch/>
        </p:blipFill>
        <p:spPr>
          <a:xfrm>
            <a:off x="1905120" y="0"/>
            <a:ext cx="5386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Foli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Ana Hickman"/>
          <p:cNvPicPr/>
          <p:nvPr/>
        </p:nvPicPr>
        <p:blipFill>
          <a:blip r:embed="rId1"/>
          <a:stretch/>
        </p:blipFill>
        <p:spPr>
          <a:xfrm>
            <a:off x="2116080" y="0"/>
            <a:ext cx="49118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071120" y="606096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na Hick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oli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Brooke Berry"/>
          <p:cNvPicPr/>
          <p:nvPr/>
        </p:nvPicPr>
        <p:blipFill>
          <a:blip r:embed="rId1"/>
          <a:stretch/>
        </p:blipFill>
        <p:spPr>
          <a:xfrm>
            <a:off x="232092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7071480" y="606096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Brooke B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oli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ETMANN</cp:lastModifiedBy>
  <dcterms:modified xsi:type="dcterms:W3CDTF">2009-03-31T15:55:16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