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589-E2FD-4C59-B4E5-EEF6BCE4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111-1E21-47FA-96D3-08D2C18C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5A7-546C-4288-AC3D-689C8990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E3D-0E8B-45B1-B287-4BD2DD06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ECAB-2B6F-4076-87E1-DBC0F485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0B17-EF35-4A1E-8B60-F661D6B9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2045-9877-4E3E-9DC8-F1F5A5B8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140D-B319-4336-AB05-3C136F97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184B-413F-47AE-B666-0D80FD76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6A16-3635-4AA9-9B73-6B11BCDC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FA27-EBD0-423B-9A58-7508D413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71D-8D6C-4DBD-8A7A-EB245304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5E1A-1BC9-4DF9-B7FA-8267852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8844-A7EB-410F-A3BA-83E68FB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3EFA-46BD-465C-9504-52AEC6B8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95F6-DDFF-4C89-B3EB-599C97D1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591E-E7EC-432B-ADC6-551F06F1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FD0-E129-4555-996D-5585FFF8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D62-DE85-4995-AD6C-B2673A1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BF4-1965-4ED9-8378-E4C6068B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A40-CC5F-4CA2-9939-F76829DD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B18-439F-4875-B7CF-99935D9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11E-372C-418A-9F42-3C96482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D11-CEFA-48D3-A366-24EA915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E8A-31CD-484E-8973-07556B2558A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8FAD-7F34-44E2-A8A8-947F8F9B84E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28584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ecff"/>
                </a:solidFill>
                <a:latin typeface="Arial"/>
              </a:rPr>
              <a:t>A HISTÓRIA VOLTA A REPETIR-S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187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85560" y="500040"/>
            <a:ext cx="695484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695484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136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6811920" cy="785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2090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57132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36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02648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28440" y="571680"/>
            <a:ext cx="7311960" cy="428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8407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811920" cy="500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9720" y="357120"/>
            <a:ext cx="72406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803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097760" cy="857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090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500040"/>
            <a:ext cx="709776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9780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250920" y="2046240"/>
            <a:ext cx="8497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500040"/>
            <a:ext cx="709776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28036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440" y="356760"/>
            <a:ext cx="7311960" cy="7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136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85560" y="357120"/>
            <a:ext cx="6954840" cy="571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8840" y="357120"/>
            <a:ext cx="681192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20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026480" cy="7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4247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428760"/>
            <a:ext cx="674064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3436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85560" y="57132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803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695484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36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9720" y="357120"/>
            <a:ext cx="72406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3534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090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09776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569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16904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80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8840" y="428760"/>
            <a:ext cx="681192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77040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02648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09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0264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4247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8840" y="499680"/>
            <a:ext cx="681192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07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169040" cy="785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0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24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0264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34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9720" y="500040"/>
            <a:ext cx="724068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7058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56840" y="285840"/>
            <a:ext cx="688356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425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526520" cy="7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775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56840" y="1052280"/>
            <a:ext cx="688356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351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27236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169040" cy="642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09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7390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85480" y="428400"/>
            <a:ext cx="86439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"Reproduza esta informação, faça circular por todos os meios ao seu alcance: á mão, á máquina, a mimeógrafo, oralmen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Mande cópias aos seus amigos: nove em cada dez estarão receptivo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Milhões de pessoas querem ser informado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O terror baseia-se na falta de comunicaçã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Rompa o isolament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Volte a a sentir a satisfação moral de um acto de liberad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Arial"/>
              </a:rPr>
              <a:t>Derrote o terror. Faça circular esta informação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Rodolfo Walsh, ANCLA (Agencia de Noticias Clandestina)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CaixaDeTexto 5"/>
          <p:cNvSpPr/>
          <p:nvPr/>
        </p:nvSpPr>
        <p:spPr>
          <a:xfrm>
            <a:off x="1214280" y="5429160"/>
            <a:ext cx="39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eaeaea"/>
                </a:solidFill>
                <a:latin typeface="Arial"/>
              </a:rPr>
              <a:t>Tradução e adaptação de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Arial"/>
              </a:rPr>
              <a:t>JUVENAL  LU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1052280"/>
            <a:ext cx="7643520" cy="447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424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383600" cy="714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991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6954840" cy="92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4247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571320"/>
            <a:ext cx="7169040" cy="64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ecff"/>
                </a:solidFill>
                <a:latin typeface="Arial"/>
              </a:rPr>
              <a:t>Nazis aos Judeus                                       Judeus aos Palestino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8036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6:09:54Z</dcterms:created>
  <dc:creator>rflores</dc:creator>
  <dc:description/>
  <dc:language>en-US</dc:language>
  <cp:lastModifiedBy>Utilizador</cp:lastModifiedBy>
  <dcterms:modified xsi:type="dcterms:W3CDTF">2010-02-05T18:32:19Z</dcterms:modified>
  <cp:revision>18</cp:revision>
  <dc:subject/>
  <dc:title>Nazis a Judíos                                       Judíos a Palestinos</dc:title>
</cp:coreProperties>
</file>