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14E-CA1D-4812-AC55-0D406051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0E0-D29F-41F4-9341-4171E88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7F2-8EB9-4EBA-9647-A385F34D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E8B-CBC9-4629-8971-57181BF7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A225-CDCD-4C17-8F4A-CEAC936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DCC-7838-4F83-B606-A76E2AC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C1AA-CFA4-4882-98D1-8494EEB6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A62-7883-4121-964D-5CBA9DB4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112-2C9B-454A-9377-A9BFAE5C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D0DF-1ABD-4B6D-8D6C-98E1E7E1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8F51-A480-4D4B-9DEF-CF352D7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686-6042-41FD-BBC1-A823D8F0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FC06-1B5E-4874-8048-1D5E312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3108-E34A-4D62-809C-4507DE7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1CA-6AA8-4F10-B2D8-84721A8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002-C1B1-46E5-B7E8-299F731B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E092-F80A-4975-9EE3-566F932A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289-C6A1-4302-BE54-A8C3671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5D9-419E-4C61-BED1-7134AB8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220-E5F2-458B-966C-CF039CE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B8B-7DC8-43AB-971B-48A7D583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945-A5F2-42A3-8374-91B1E65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9C8-7461-4946-8708-AE98005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2CD-343F-4799-BED7-E6255C5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015-77A1-4290-B168-BF5833497CB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6F50-E822-41B4-9FEB-21D12A65DE6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ecff"/>
                </a:solidFill>
                <a:latin typeface="Arial"/>
              </a:rPr>
              <a:t>A HISTÓRIA VOLTA A REPETIR-S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18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695484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69548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681192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36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02648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8440" y="571680"/>
            <a:ext cx="7311960" cy="428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840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811920" cy="50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097760" cy="8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090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09776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978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50920" y="2046240"/>
            <a:ext cx="8497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0977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8036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440" y="356760"/>
            <a:ext cx="731196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6954840" cy="571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8840" y="357120"/>
            <a:ext cx="681192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0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02648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424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67406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343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695484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36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0977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569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80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681192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7040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09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8840" y="499680"/>
            <a:ext cx="681192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24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3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0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68835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425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52652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75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56840" y="1052280"/>
            <a:ext cx="688356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35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2723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390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85480" y="428400"/>
            <a:ext cx="86439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"Reproduza esta informação, faça circular por todos os meios ao seu alcance: á mão, á máquina, a mimeógrafo, oralmen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Mande cópias aos seus amigos: nove em cada dez estarão receptivo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Milhões de pessoas querem ser informado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O terror baseia-se na falta de comunic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Rompa o isolamen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Volte a a sentir a satisfação moral de um acto de liberad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Derrote o terror. Faça circular esta informação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Rodolfo Walsh, ANCLA (Agencia de Noticias Clandestina)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CaixaDeTexto 5"/>
          <p:cNvSpPr/>
          <p:nvPr/>
        </p:nvSpPr>
        <p:spPr>
          <a:xfrm>
            <a:off x="1214280" y="5429160"/>
            <a:ext cx="39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eaeaea"/>
                </a:solidFill>
                <a:latin typeface="Arial"/>
              </a:rPr>
              <a:t>Tradução e adaptação d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Arial"/>
              </a:rPr>
              <a:t>JUVENAL  LU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1052280"/>
            <a:ext cx="7643520" cy="447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424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38360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991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6954840" cy="92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4247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571320"/>
            <a:ext cx="7169040" cy="64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09:54Z</dcterms:created>
  <dc:creator>rflores</dc:creator>
  <dc:description/>
  <dc:language>en-US</dc:language>
  <cp:lastModifiedBy>Utilizador</cp:lastModifiedBy>
  <dcterms:modified xsi:type="dcterms:W3CDTF">2010-02-05T18:32:19Z</dcterms:modified>
  <cp:revision>18</cp:revision>
  <dc:subject/>
  <dc:title>Nazis a Judíos                                       Judíos a Palestinos</dc:title>
</cp:coreProperties>
</file>