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eetowe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A3A-4876-4911-A0E9-5A4F90DF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093-A732-419D-82C4-EECAD88F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55E-A06B-4816-A374-42B3AD1E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1E6-E705-486A-990A-C43297EA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CD5-5CD0-4A1F-BF05-1D8CF09D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255-2B39-42B4-A313-2458A8CF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22C-BBD1-4B45-807B-E0BAE0BA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301-2298-4126-9F17-4A3FFA55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BF3-4DCD-4EC6-A71E-F40849C0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67F-1EBE-4909-8D64-88D6FBA1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273-CB7D-4CA5-92B9-FA64BADA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5D54-493B-4A30-B64C-DD415683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2D6F-C3DD-4B97-B064-9C2E2E48E52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eetowe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ngwhere.com.br/empreiteiros/empreiteiro.htm" TargetMode="External"/><Relationship Id="rId3" Type="http://schemas.openxmlformats.org/officeDocument/2006/relationships/hyperlink" Target="http://www.engwhere.com.br/empreiteiros/empreiteiro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4680"/>
            <a:ext cx="6912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4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00"/>
                </a:solidFill>
                <a:latin typeface="Arial"/>
              </a:rPr>
              <a:t>O que significa “CARALHO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49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egundo a Academia Portuguesa  de Letras, "CARALHO" é a palavra com que se denominava a pequena cesta que se encontrava no alto dos mastros das caravelas, de onde os vigias prescrutavam o horizonte em busca de sinais de terra</a:t>
            </a:r>
            <a:r>
              <a:rPr b="0" i="1" lang="es-VE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1197000"/>
            <a:ext cx="1656000" cy="1295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437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O CARALHO, dada a sua situação numa área de muita instabilidade (no alto do mastro</a:t>
            </a:r>
            <a:r>
              <a:rPr b="0" i="1" lang="es-VE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era onde se manifestava com maior intensidade o rolamento ou movimento lateral de um barco</a:t>
            </a:r>
            <a:r>
              <a:rPr b="0" i="1" lang="es-VE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6000" y="4680"/>
            <a:ext cx="6912000" cy="684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76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ambém</a:t>
            </a:r>
            <a:r>
              <a:rPr b="0" i="1" lang="es-V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era considerado um lugar de "castigo" para aqueles marinheiros que cometiam alguma infração a bor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28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O castigado era enviado para cumprir horas e até dias inteiros no CARALHO e quando descia ficava tão enjoado que se mantinha tranquilo por um bom par de dias. Daí surgiu a expres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ANDAR PRO CARALHO"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4680"/>
            <a:ext cx="6912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0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Hoje em dia,CARALHO</a:t>
            </a:r>
            <a:r>
              <a:rPr b="0" i="1" lang="es-VE" sz="2400" spc="-1" strike="noStrike">
                <a:solidFill>
                  <a:srgbClr val="ff0000"/>
                </a:solidFill>
                <a:latin typeface="Arial"/>
              </a:rPr>
              <a:t> é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a palavra que define toda a gama de sentimentos humanos e todos os estados de âni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Ao apreciarmos algo de nosso agrado, costumamos diz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ISTO É BOM PRA </a:t>
            </a:r>
            <a:r>
              <a:rPr b="1" lang="es-VE" sz="2800" spc="-1" strike="noStrike">
                <a:solidFill>
                  <a:srgbClr val="ff0000"/>
                </a:solidFill>
                <a:latin typeface="Arial"/>
              </a:rPr>
              <a:t>CARALH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e alguém fala conosco e não entendemos, pergunta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997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Mas que CARALHO você está dize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00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e nos aborrecemos com alguém ou algo, o mandamos pro CARAL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4680"/>
            <a:ext cx="6912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9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e algo não nos interessa dizemos: NÃO QUERO SABER NEM PELO CARAL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2864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e, pelo contrário, algo chama nossa atenção, então dizem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ISSO ME INTERESSA PRA CARAL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97360"/>
            <a:ext cx="9144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Arial"/>
              </a:rPr>
              <a:t>Também são comuns as expressões: Essa mulher é boa pra CARALHO (definindo a beleza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Arial"/>
              </a:rPr>
              <a:t>Essa dona é feia pra CARALHO(definindo a feiur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Arial"/>
              </a:rPr>
              <a:t>Esse filme é velho pra CARALHO (definindo a idad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Arial"/>
              </a:rPr>
              <a:t>Essa mulher mora longe pra CARALHO (definindo a distanci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4680"/>
            <a:ext cx="6912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04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Enfim,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 não há nada que não se possa definir, explicar ou enfatizar sem juntar um 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“CARALHO”.</a:t>
            </a:r>
            <a:r>
              <a:rPr b="0" i="1" lang="pt-BR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34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e a forma de proceder de uma pessoa nos causa admiração dizem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"E</a:t>
            </a:r>
            <a:r>
              <a:rPr b="1" i="1" lang="es-VE" sz="2000" spc="-1" strike="noStrike">
                <a:solidFill>
                  <a:srgbClr val="ff0000"/>
                </a:solidFill>
                <a:latin typeface="Arial"/>
              </a:rPr>
              <a:t>SSE CARA É DO CARALHO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852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Se um comerciante está deprimido pela situação do seu negócio, exclama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: “ESTAMOS INDO PRO CARALHO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292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e encontramos um amigo que há muito não víamos, dizem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PORRA,  POR </a:t>
            </a:r>
            <a:r>
              <a:rPr b="1" i="1" lang="es-VE" sz="2000" spc="-1" strike="noStrike">
                <a:solidFill>
                  <a:srgbClr val="ff0000"/>
                </a:solidFill>
                <a:latin typeface="Arial"/>
              </a:rPr>
              <a:t>ONDE CARALHO VOCÊ TEM ANDADO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4680"/>
            <a:ext cx="6912000" cy="6848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20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É por isso que lhe envio este cumprimento do 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CARALHO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 e 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espero que 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seu conteúdo 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o agrade 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pra 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CARALHO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desejando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 que as 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suas metas e objetivos se cumpram, e que a sua vida, agora e sempre, seja boa pra CARALHO.</a:t>
            </a:r>
            <a:r>
              <a:rPr b="0" lang="es-V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708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A partir deste momento poderemos dizer "CARALHO", ou mandar a alguém 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 "CARALHO" com um pouco m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ai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s de cultura e autoridade acadêmica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Envia esta mensagem para alguém de quem goste pra “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CARALHO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01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E TENHA UM DIA FELIZ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UM DIA DO CARALH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6400800"/>
            <a:ext cx="2971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Voltar à página do</a:t>
            </a:r>
            <a:r>
              <a:rPr b="0" lang="pt-BR" sz="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 EngW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22:28Z</dcterms:created>
  <dc:creator>Nelson Filho</dc:creator>
  <dc:description/>
  <dc:language>en-US</dc:language>
  <cp:lastModifiedBy>user</cp:lastModifiedBy>
  <dcterms:modified xsi:type="dcterms:W3CDTF">2008-07-23T02:01:22Z</dcterms:modified>
  <cp:revision>4</cp:revision>
  <dc:subject/>
  <dc:title>Slide 1</dc:title>
</cp:coreProperties>
</file>