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eetowe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D33-C478-48A2-8018-5745C5CD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C96-9201-48A2-B441-AD3C737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F2D-6892-4C42-A17E-53903BA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873-E1A5-4D5D-B119-85C7AFE1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840-F9BF-4F4A-8A17-B9764ECE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AAA-FBC7-49EF-A534-C293D17D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11D-8F6D-41E7-8354-9503CB1E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FAF-AE26-48D1-9F9C-48BCB588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8FA-DC00-443D-802D-B7CC4C47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110-935D-4C79-A2EA-0C2978F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B18-A6DD-4A94-A33E-7AC1F65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E46-6B0F-465B-B876-1E6DA2C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9B46-45D2-465E-B605-1A410DD248F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owe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where.com.br/empreiteiros/empreiteiro.htm" TargetMode="External"/><Relationship Id="rId3" Type="http://schemas.openxmlformats.org/officeDocument/2006/relationships/hyperlink" Target="http://www.engwhere.com.br/empreiteiros/empreiteiro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Arial"/>
              </a:rPr>
              <a:t>O que significa “CARALHO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49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gundo a Academia Portuguesa  de Letras, "CARALHO" é a palavra com que se denominava a pequena cesta que se encontrava no alto dos mastros das caravelas, de onde os vigias prescrutavam o horizonte em busca de sinais de terra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197000"/>
            <a:ext cx="1656000" cy="129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43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O CARALHO, dada a sua situação numa área de muita instabilidade (no alto do mastro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ra onde se manifestava com maior intensidade o rolamento ou movimento lateral de um barco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ambém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era considerado um lugar de "castigo" para aqueles marinheiros que cometiam alguma infração a bo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2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O castigado era enviado para cumprir horas e até dias inteiros no CARALHO e quando descia ficava tão enjoado que se mantinha tranquilo por um bom par de dias. Daí surgiu a expres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NDAR PRO CARALHO"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Hoje em dia,CARALHO</a:t>
            </a:r>
            <a:r>
              <a:rPr b="0" i="1" lang="es-VE" sz="2400" spc="-1" strike="noStrike">
                <a:solidFill>
                  <a:srgbClr val="ff0000"/>
                </a:solidFill>
                <a:latin typeface="Arial"/>
              </a:rPr>
              <a:t> é </a:t>
            </a: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a palavra que define toda a gama de sentimentos humanos e todos os estados de ân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"/>
              </a:rPr>
              <a:t>Ao apreciarmos algo de nosso agrado, costumamos di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ISTO É BOM PRA </a:t>
            </a:r>
            <a:r>
              <a:rPr b="1" lang="es-VE" sz="2800" spc="-1" strike="noStrike">
                <a:solidFill>
                  <a:srgbClr val="ff0000"/>
                </a:solidFill>
                <a:latin typeface="Arial"/>
              </a:rPr>
              <a:t>CARALH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 alguém fala conosco e não entendemos, pergunta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99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Mas que CARALHO você está dize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0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e nos aborrecemos com alguém ou algo, o mandamos pro CARA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9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e algo não nos interessa dizemos: NÃO QUERO SABER NEM PELO CARA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286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, pelo contrário, algo chama nossa atenção, então dizem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SSO ME INTERESSA PRA CARAL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97360"/>
            <a:ext cx="9144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Também são comuns as expressões: Essa mulher é boa pra CARALHO (definindo a beleza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Essa dona é feia pra CARALHO(definindo a feiur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Esse filme é velho pra CARALHO (definindo a ida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Essa mulher mora longe pra CARALHO (definindo a distanc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0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Enfim,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não há nada que não se possa definir, explicar ou enfatizar sem juntar um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“CARALHO”.</a:t>
            </a: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4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e a forma de proceder de uma pessoa nos causa admiração dizem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"E</a:t>
            </a:r>
            <a:r>
              <a:rPr b="1" i="1" lang="es-VE" sz="2000" spc="-1" strike="noStrike">
                <a:solidFill>
                  <a:srgbClr val="ff0000"/>
                </a:solidFill>
                <a:latin typeface="Arial"/>
              </a:rPr>
              <a:t>SSE CARA É DO CARALHO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5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Se um comerciante está deprimido pela situação do seu negócio, exclama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: “ESTAMOS INDO PRO CARALH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29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Se encontramos um amigo que há muito não víamos, dizem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PORRA,  POR </a:t>
            </a:r>
            <a:r>
              <a:rPr b="1" i="1" lang="es-VE" sz="2000" spc="-1" strike="noStrike">
                <a:solidFill>
                  <a:srgbClr val="ff0000"/>
                </a:solidFill>
                <a:latin typeface="Arial"/>
              </a:rPr>
              <a:t>ONDE CARALHO VOCÊ TEM ANDADO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4680"/>
            <a:ext cx="6912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20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É por isso que lhe envio este cumprimento do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CARALH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e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espero que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seu conteúdo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o agrade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pra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CARALH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desejand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que as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suas metas e objetivos se cumpram, e que a sua vida, agora e sempre, seja boa pra CARALHO.</a:t>
            </a:r>
            <a:r>
              <a:rPr b="0" lang="es-V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708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A partir deste momento poderemos dizer "CARALHO", ou mandar a alguém 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 "CARALHO" com um pouco m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s de cultura e autoridade acadêmica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Envia esta mensagem para alguém de quem goste pra “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</a:rPr>
              <a:t>CARALHO</a:t>
            </a:r>
            <a:r>
              <a:rPr b="0" i="1" lang="es-VE" sz="2000" spc="-1" strike="noStrike">
                <a:solidFill>
                  <a:srgbClr val="ff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01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E TENHA UM DIA FELIZ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VE" sz="2800" spc="-1" strike="noStrike">
                <a:solidFill>
                  <a:srgbClr val="ffff00"/>
                </a:solidFill>
                <a:latin typeface="Arial"/>
              </a:rPr>
              <a:t>UM DIA DO CARALH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6400800"/>
            <a:ext cx="2971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Voltar à página do</a:t>
            </a:r>
            <a:r>
              <a:rPr b="0" lang="pt-BR" sz="8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 EngW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22:28Z</dcterms:created>
  <dc:creator>Nelson Filho</dc:creator>
  <dc:description/>
  <dc:language>en-US</dc:language>
  <cp:lastModifiedBy>user</cp:lastModifiedBy>
  <dcterms:modified xsi:type="dcterms:W3CDTF">2008-07-23T02:01:22Z</dcterms:modified>
  <cp:revision>4</cp:revision>
  <dc:subject/>
  <dc:title>Slide 1</dc:title>
</cp:coreProperties>
</file>