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Mozart%20-%20Requiem%20for%20a%20Dream.wav" ContentType="audio/x-wav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50B-7087-4FF2-937C-5728ABEE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3A4-182F-4221-A2B1-F7AD411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8E4-9A6C-403E-B41D-6FD25ABF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B31-6DDA-406A-B1F3-80751DD3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21F-ED0C-48D4-992C-83F9EB4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642-9A70-48B7-87B9-2EFCF7E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306-58C4-42CF-979D-968ABCAF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DBB-FD78-4216-AAFF-FE95036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9B2-AEFC-4C60-A363-4E412D6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744-3EF4-4DCD-B300-7657FF2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BFE-6F2F-45FA-A29C-4F8E8C2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104-2169-49DC-AD72-012D719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1E15-3CFE-4363-BABD-188A10BF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ozart%20-%20Requiem%20for%20a%20Dream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omunique-se.com.br/blog/images/users/67/lula_Mahmoud_Ahmadinejad-3.jpg&amp;imgrefurl=http://www.comunique-se.com.br/blog/conteudo/home.asp%3Fpg%3D2%26idBlog%3D67%26arquivo%3Dmensal%26inicio%3D%26fim%3D%26mes%3D9%26ano%3D2009&amp;usg=__tDIUTBUmW8HvYzBA_UvCS22dchQ=&amp;h=320&amp;w=222&amp;sz=14&amp;hl=pt-BR&amp;start=16&amp;tbnid=qi_2fzXWIfZJcM:&amp;tbnh=118&amp;tbnw=82&amp;prev=/images%3Fq%3DMahmoud%2BAhmadinejad%2Be%2Blula%26gbv%3D2%26hl%3Dpt-BR%26sa%3D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.br/imgres?imgurl=http://2.bp.blogspot.com/_DMEZGFMyL7s/SuO4GPbAvUI/AAAAAAAAC2E/RSjdAarnXvE/s320/%253D_iso-8859-1_Q_lula_e_presidente_do_ir%253DE3-769813_jpg_%253D.jpg&amp;imgrefurl=http://osverdestapes.blogspot.com/2009/10/visita-de-ahmadinejad-gera-polemica-e.html&amp;usg=__fBgVLBo5E2zg93fHRIvEZcUih_Q=&amp;h=314&amp;w=320&amp;sz=18&amp;hl=pt-BR&amp;start=11&amp;tbnid=9_CFM9DDiU4qTM:&amp;tbnh=116&amp;tbnw=118&amp;prev=/images%3Fq%3DMahmoud%2BAhmadinejad%2Be%2Blula%26gbv%3D2%26hl%3Dpt-BR%26sa%3D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info.planalto.gov.br/imagens/Fotografia_imagens/foto_pequena/23092009P00039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1.bp.blogspot.com/_Sb9fMZwGzIw/SfuhSh8xf-I/AAAAAAAAEso/CaP9FYqcBcU/s400/mahmoud_ahmadinejad.jpg" TargetMode="External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549360"/>
            <a:ext cx="53989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RÃ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2781360"/>
            <a:ext cx="7056720" cy="314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e é o IRÃ do DI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Mahmoud Ahmadinejad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6308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C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Mozart%20-%20Requiem%20for%20a%20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11960" cy="648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1640" y="0"/>
            <a:ext cx="8317080" cy="681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6879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02920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54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7167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38880" y="260280"/>
            <a:ext cx="2336760" cy="3600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694120" cy="35924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887640" cy="2565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32360" y="4084560"/>
            <a:ext cx="3600360" cy="25416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052640"/>
            <a:ext cx="7848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cc0000"/>
                </a:solidFill>
                <a:uFillTx/>
                <a:latin typeface="Arial"/>
              </a:rPr>
              <a:t>OPRESSÃO TOTAL </a:t>
            </a:r>
            <a:r>
              <a:rPr b="1" lang="pt-BR" sz="6000" spc="-1" strike="noStrike" u="sng">
                <a:solidFill>
                  <a:srgbClr val="cc0000"/>
                </a:solidFill>
                <a:uFillTx/>
                <a:latin typeface="Arial"/>
              </a:rPr>
              <a:t>MULHERES, DISSIDENTES OU QUALQUER GRUPO MINORITÁRIO</a:t>
            </a:r>
            <a:r>
              <a:rPr b="1" lang="pt-BR" sz="6000" spc="-1" strike="noStrike" u="sng">
                <a:solidFill>
                  <a:srgbClr val="cc0000"/>
                </a:solidFill>
                <a:uFillTx/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197000"/>
            <a:ext cx="79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INCENTIVADORES DO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cc0000"/>
                </a:solidFill>
                <a:uFillTx/>
                <a:latin typeface="Arial"/>
              </a:rPr>
              <a:t>TERRO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635280" cy="2355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267080" cy="28098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92360" y="3141720"/>
            <a:ext cx="2901960" cy="3240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435640" y="2852640"/>
            <a:ext cx="2913120" cy="37450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92280"/>
            <a:ext cx="3888000" cy="326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POR ISSO O AMIGO DO LULA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ahmoud Ahmadinejad, NEGA O holocausto nazist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O QUE ELE FAZ  NO IRÁ É MUITO PIOR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PEDREJAR UMA MULHER ATÉ À MORTE PORQUE ELA TINHA OUTRO NAMORADO, DEPOIS QUE O MARIDO SE DIVORCIOU DEL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3803760" cy="5400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2560" y="4508640"/>
            <a:ext cx="3457800" cy="21096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716360" y="5661000"/>
            <a:ext cx="3743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itler ou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hmoud Ahmadineja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tudo farinha do mesmo sac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8820000" cy="6597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537372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734080"/>
            <a:ext cx="540072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ório Mahmoud Ahmadinejad atuando como carrasc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353280" cy="59389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79280" y="5516640"/>
            <a:ext cx="8713800" cy="113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ISSO QUE  O DITADOR IRANIANO DIZ QUE NUNCA ACONTECEU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4930920" cy="6662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3141720"/>
            <a:ext cx="3384360" cy="2531160"/>
          </a:xfrm>
          <a:prstGeom prst="rect">
            <a:avLst/>
          </a:prstGeom>
          <a:solidFill>
            <a:srgbClr val="ffff00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66ff"/>
                </a:solidFill>
                <a:latin typeface="Arial"/>
              </a:rPr>
              <a:t>Até as mulheres iranianas já descobriram a semelhança entre  os doi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0"/>
            <a:ext cx="8713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ara onde está indo o BRASIL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???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3097080" cy="3299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836640"/>
            <a:ext cx="3313080" cy="325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Ver imagem em tamanho grand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4129200"/>
            <a:ext cx="5389560" cy="27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Ver imagem em tamanho grand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18160" y="3068640"/>
            <a:ext cx="3525840" cy="3789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Ver imagem em tamanho grande"/>
          <p:cNvPicPr/>
          <p:nvPr/>
        </p:nvPicPr>
        <p:blipFill>
          <a:blip r:embed="rId9"/>
          <a:stretch/>
        </p:blipFill>
        <p:spPr>
          <a:xfrm>
            <a:off x="6227640" y="1052640"/>
            <a:ext cx="291636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0464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76280"/>
            <a:ext cx="77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565360"/>
            <a:ext cx="8893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O QUE ME ASSUSTA NÃO É O BARULHO DOS MAUS, O QUE ME ASSUSTA É O SILÊNCIO DOS BONS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Arial"/>
              </a:rPr>
              <a:t>Martin Luther 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653000"/>
            <a:ext cx="1863720" cy="1334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6720" y="1628640"/>
            <a:ext cx="2631960" cy="2087640"/>
          </a:xfrm>
          <a:prstGeom prst="octagon">
            <a:avLst>
              <a:gd name="adj" fmla="val 29287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620640"/>
            <a:ext cx="7345440" cy="842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ÃO É DE ESTRANHAR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PREOCUPAÇÃO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TODOS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S NÃO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GALOMANÍACOS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VER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MAS NUCLEARES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S MÃOS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UM TERRORISTA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SIM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6237360"/>
            <a:ext cx="8209080" cy="3988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ff"/>
                </a:solidFill>
                <a:latin typeface="Arial"/>
              </a:rPr>
              <a:t>AQUI TERMINA A APRESENTAÇÃO E COMEÇA A REFLEXÃO</a:t>
            </a:r>
            <a:r>
              <a:rPr b="1" lang="pt-BR" sz="2000" spc="-1" strike="noStrike">
                <a:solidFill>
                  <a:srgbClr val="6666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32160" cy="590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3892800">
            <a:off x="4081320" y="246960"/>
            <a:ext cx="3745080" cy="3917880"/>
          </a:xfrm>
          <a:prstGeom prst="wedgeEllipseCallout">
            <a:avLst>
              <a:gd name="adj1" fmla="val -42032"/>
              <a:gd name="adj2" fmla="val 6608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ÓS N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SEXU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RÃ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21000"/>
            <a:ext cx="5545080" cy="2448000"/>
          </a:xfrm>
          <a:prstGeom prst="rect">
            <a:avLst/>
          </a:prstGeom>
          <a:solidFill>
            <a:srgbClr val="0000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OCE QUER SABER PORQU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032000" cy="31366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03640" cy="3147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40000" y="3573360"/>
            <a:ext cx="4176720" cy="31449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2:43:40Z</dcterms:created>
  <dc:creator/>
  <dc:description/>
  <dc:language>en-US</dc:language>
  <cp:lastModifiedBy/>
  <dcterms:modified xsi:type="dcterms:W3CDTF">2010-06-05T19:37:36Z</dcterms:modified>
  <cp:revision>72</cp:revision>
  <dc:subject/>
  <dc:title>שקופית 1</dc:title>
</cp:coreProperties>
</file>