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Mozart%20-%20Requiem%20for%20a%20Dream.wav" ContentType="audio/x-wav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9BBF-CB0B-421B-83C4-DC707641F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0384-4E63-4F59-9454-F588AAB64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2F13-2B5F-468F-9A79-8D29CBAEE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C789-C397-41E8-8B04-1EAE2E053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E35F-821B-44CE-976C-B1D255301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14EA-DC67-4FFC-B195-911D37F79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5BA1-162A-4ECA-B96E-64014B7E6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72F2-5476-4567-9ADD-D3DE75CE7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E437-8890-44B0-91E1-073FADE3A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9E2D-BC94-45A7-80C5-F340BF86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8323-99F7-41B2-A0DF-5C20AF77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C526-5DC9-4146-9605-2370E931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6EFCD-78FF-40D6-BC34-51E601F08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Mozart%20-%20Requiem%20for%20a%20Dream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google.com.br/imgres?imgurl=http://www.comunique-se.com.br/blog/images/users/67/lula_Mahmoud_Ahmadinejad-3.jpg&amp;imgrefurl=http://www.comunique-se.com.br/blog/conteudo/home.asp%3Fpg%3D2%26idBlog%3D67%26arquivo%3Dmensal%26inicio%3D%26fim%3D%26mes%3D9%26ano%3D2009&amp;usg=__tDIUTBUmW8HvYzBA_UvCS22dchQ=&amp;h=320&amp;w=222&amp;sz=14&amp;hl=pt-BR&amp;start=16&amp;tbnid=qi_2fzXWIfZJcM:&amp;tbnh=118&amp;tbnw=82&amp;prev=/images%3Fq%3DMahmoud%2BAhmadinejad%2Be%2Blula%26gbv%3D2%26hl%3Dpt-BR%26sa%3DG" TargetMode="External"/><Relationship Id="rId2" Type="http://schemas.openxmlformats.org/officeDocument/2006/relationships/image" Target="../media/image33.jpeg"/><Relationship Id="rId3" Type="http://schemas.openxmlformats.org/officeDocument/2006/relationships/hyperlink" Target="http://images.google.com.br/imgres?imgurl=http://2.bp.blogspot.com/_DMEZGFMyL7s/SuO4GPbAvUI/AAAAAAAAC2E/RSjdAarnXvE/s320/%253D_iso-8859-1_Q_lula_e_presidente_do_ir%253DE3-769813_jpg_%253D.jpg&amp;imgrefurl=http://osverdestapes.blogspot.com/2009/10/visita-de-ahmadinejad-gera-polemica-e.html&amp;usg=__fBgVLBo5E2zg93fHRIvEZcUih_Q=&amp;h=314&amp;w=320&amp;sz=18&amp;hl=pt-BR&amp;start=11&amp;tbnid=9_CFM9DDiU4qTM:&amp;tbnh=116&amp;tbnw=118&amp;prev=/images%3Fq%3DMahmoud%2BAhmadinejad%2Be%2Blula%26gbv%3D2%26hl%3Dpt-BR%26sa%3DG" TargetMode="External"/><Relationship Id="rId4" Type="http://schemas.openxmlformats.org/officeDocument/2006/relationships/image" Target="../media/image34.jpeg"/><Relationship Id="rId5" Type="http://schemas.openxmlformats.org/officeDocument/2006/relationships/hyperlink" Target="http://www.info.planalto.gov.br/imagens/Fotografia_imagens/foto_pequena/23092009P00039.JPG" TargetMode="External"/><Relationship Id="rId6" Type="http://schemas.openxmlformats.org/officeDocument/2006/relationships/image" Target="../media/image35.jpeg"/><Relationship Id="rId7" Type="http://schemas.openxmlformats.org/officeDocument/2006/relationships/hyperlink" Target="http://1.bp.blogspot.com/_Sb9fMZwGzIw/SfuhSh8xf-I/AAAAAAAAEso/CaP9FYqcBcU/s400/mahmoud_ahmadinejad.jpg" TargetMode="External"/><Relationship Id="rId8" Type="http://schemas.openxmlformats.org/officeDocument/2006/relationships/image" Target="../media/image36.jpeg"/><Relationship Id="rId9" Type="http://schemas.openxmlformats.org/officeDocument/2006/relationships/image" Target="../media/image37.jpeg"/><Relationship Id="rId1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979640" y="549360"/>
            <a:ext cx="539892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RÃ</a:t>
            </a:r>
            <a:endParaRPr b="0" lang="en-US" sz="1800" spc="1" strike="noStrike">
              <a:ln w="19080">
                <a:solidFill>
                  <a:srgbClr val="cc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1187280" y="2781360"/>
            <a:ext cx="7056720" cy="3146040"/>
          </a:xfrm>
          <a:prstGeom prst="rect">
            <a:avLst/>
          </a:prstGeom>
          <a:solidFill>
            <a:srgbClr val="ffffff"/>
          </a:solidFill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Este é o IRÃ do DITAD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Mahmoud Ahmadinejad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093080" y="630864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C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1" name="Mozart%20-%20Requiem%20for%20a%20Dream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00000" y="189000"/>
            <a:ext cx="7311960" cy="6489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31640" y="0"/>
            <a:ext cx="8317080" cy="68198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314280"/>
            <a:ext cx="9144000" cy="65437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2866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68792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908000" y="189000"/>
            <a:ext cx="5029200" cy="6335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403280" y="0"/>
            <a:ext cx="64548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290680" y="0"/>
            <a:ext cx="471672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338880" y="260280"/>
            <a:ext cx="2336760" cy="360036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5694120" cy="359244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755640" y="4076640"/>
            <a:ext cx="3887640" cy="256536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4932360" y="4084560"/>
            <a:ext cx="3600360" cy="254160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</p:spTree>
  </p:cSld>
  <p:transition spd="med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1052640"/>
            <a:ext cx="78483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cc0000"/>
                </a:solidFill>
                <a:uFillTx/>
                <a:latin typeface="Arial"/>
              </a:rPr>
              <a:t>OPRESSÃO TOTAL </a:t>
            </a:r>
            <a:r>
              <a:rPr b="1" lang="pt-BR" sz="6000" spc="-1" strike="noStrike" u="sng">
                <a:solidFill>
                  <a:srgbClr val="cc0000"/>
                </a:solidFill>
                <a:uFillTx/>
                <a:latin typeface="Arial"/>
              </a:rPr>
              <a:t>MULHERES, DISSIDENTES OU QUALQUER GRUPO MINORITÁRIO</a:t>
            </a:r>
            <a:r>
              <a:rPr b="1" lang="pt-BR" sz="6000" spc="-1" strike="noStrike" u="sng">
                <a:solidFill>
                  <a:srgbClr val="cc0000"/>
                </a:solidFill>
                <a:uFillTx/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1280" y="1197000"/>
            <a:ext cx="79930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0000"/>
                </a:solidFill>
                <a:uFillTx/>
                <a:latin typeface="Arial"/>
              </a:rPr>
              <a:t>INCENTIVADORES DO</a:t>
            </a:r>
            <a:r>
              <a:rPr b="1" lang="en-US" sz="44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 u="sng">
                <a:solidFill>
                  <a:srgbClr val="cc0000"/>
                </a:solidFill>
                <a:uFillTx/>
                <a:latin typeface="Arial"/>
              </a:rPr>
              <a:t>TERROR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292720" y="260280"/>
            <a:ext cx="3635280" cy="235584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4267080" cy="280980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692360" y="3141720"/>
            <a:ext cx="2901960" cy="324000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5435640" y="2852640"/>
            <a:ext cx="2913120" cy="374508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</p:spTree>
  </p:cSld>
  <p:transition spd="med"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404640"/>
            <a:ext cx="82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692280"/>
            <a:ext cx="3888000" cy="326592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POR ISSO O AMIGO DO LULA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Mahmoud Ahmadinejad, NEGA O holocausto nazista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O QUE ELE FAZ  NO IRÁ É MUITO PIOR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APEDREJAR UMA MULHER ATÉ À MORTE PORQUE ELA TINHA OUTRO NAMORADO, DEPOIS QUE O MARIDO SE DIVORCIOU DELA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716360" y="1197000"/>
            <a:ext cx="3803760" cy="540072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82560" y="4508640"/>
            <a:ext cx="3457800" cy="210960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4716360" y="5661000"/>
            <a:ext cx="37432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itler ou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ahmoud Ahmadinejad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tudo farinha do mesmo saco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9360"/>
            <a:ext cx="8820000" cy="6597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547640" y="5373720"/>
            <a:ext cx="61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84360" y="5734080"/>
            <a:ext cx="5400720" cy="703800"/>
          </a:xfrm>
          <a:prstGeom prst="rect">
            <a:avLst/>
          </a:prstGeom>
          <a:solidFill>
            <a:srgbClr val="ffffff"/>
          </a:soli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 prório Mahmoud Ahmadinejad atuando como carrasco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404640"/>
            <a:ext cx="82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619280" y="189000"/>
            <a:ext cx="6353280" cy="593892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sp>
        <p:nvSpPr>
          <p:cNvPr id="109" name=""/>
          <p:cNvSpPr/>
          <p:nvPr/>
        </p:nvSpPr>
        <p:spPr>
          <a:xfrm>
            <a:off x="179280" y="5516640"/>
            <a:ext cx="8713800" cy="1130040"/>
          </a:xfrm>
          <a:prstGeom prst="rect">
            <a:avLst/>
          </a:prstGeom>
          <a:solidFill>
            <a:srgbClr val="ffffff"/>
          </a:soli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ISSO QUE  O DITADOR IRANIANO DIZ QUE NUNCA ACONTECEU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09880" cy="27147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95640" y="0"/>
            <a:ext cx="4930920" cy="66628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0920" y="3141720"/>
            <a:ext cx="3384360" cy="2531160"/>
          </a:xfrm>
          <a:prstGeom prst="rect">
            <a:avLst/>
          </a:prstGeom>
          <a:solidFill>
            <a:srgbClr val="ffff00"/>
          </a:soli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666ff"/>
                </a:solidFill>
                <a:latin typeface="Arial"/>
              </a:rPr>
              <a:t>Até as mulheres iranianas já descobriram a semelhança entre  os dois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0"/>
            <a:ext cx="8713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Para onde está indo o BRASIL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??????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404640"/>
            <a:ext cx="3097080" cy="32990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43280" y="836640"/>
            <a:ext cx="3313080" cy="32558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Ver imagem em tamanho grand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4000" y="4129200"/>
            <a:ext cx="5389560" cy="27288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Ver imagem em tamanho grand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618160" y="3068640"/>
            <a:ext cx="3525840" cy="3789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Ver imagem em tamanho grande"/>
          <p:cNvPicPr/>
          <p:nvPr/>
        </p:nvPicPr>
        <p:blipFill>
          <a:blip r:embed="rId9"/>
          <a:stretch/>
        </p:blipFill>
        <p:spPr>
          <a:xfrm>
            <a:off x="6227640" y="1052640"/>
            <a:ext cx="2916360" cy="1944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404640"/>
            <a:ext cx="82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476280"/>
            <a:ext cx="7777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2565360"/>
            <a:ext cx="889308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0000"/>
                </a:solidFill>
                <a:uFillTx/>
                <a:latin typeface="Arial"/>
              </a:rPr>
              <a:t>O QUE ME ASSUSTA NÃO É O BARULHO DOS MAUS, O QUE ME ASSUSTA É O SILÊNCIO DOS BONS</a:t>
            </a:r>
            <a:r>
              <a:rPr b="1" lang="en-US" sz="4000" spc="-1" strike="noStrike" u="sng">
                <a:solidFill>
                  <a:srgbClr val="cc0000"/>
                </a:solidFill>
                <a:uFillTx/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0000"/>
                </a:solidFill>
                <a:uFillTx/>
                <a:latin typeface="Arial"/>
              </a:rPr>
              <a:t>Martin Luther 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093080" y="4653000"/>
            <a:ext cx="1863720" cy="1334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276720" y="1628640"/>
            <a:ext cx="2631960" cy="2087640"/>
          </a:xfrm>
          <a:prstGeom prst="octagon">
            <a:avLst>
              <a:gd name="adj" fmla="val 29287"/>
            </a:avLst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26920" y="620640"/>
            <a:ext cx="7345440" cy="842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NÃO É DE ESTRANHAR </a:t>
            </a:r>
            <a:endParaRPr b="1" lang="en-US" sz="2800" spc="1" strike="noStrike">
              <a:ln w="19080">
                <a:solidFill>
                  <a:srgbClr val="000000"/>
                </a:solidFill>
                <a:miter/>
              </a:ln>
              <a:solidFill>
                <a:srgbClr val="99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 PREOCUPAÇÃO</a:t>
            </a:r>
            <a:endParaRPr b="1" lang="en-US" sz="2800" spc="1" strike="noStrike">
              <a:ln w="19080">
                <a:solidFill>
                  <a:srgbClr val="000000"/>
                </a:solidFill>
                <a:miter/>
              </a:ln>
              <a:solidFill>
                <a:srgbClr val="99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DE TODOS </a:t>
            </a:r>
            <a:endParaRPr b="1" lang="en-US" sz="2800" spc="1" strike="noStrike">
              <a:ln w="19080">
                <a:solidFill>
                  <a:srgbClr val="000000"/>
                </a:solidFill>
                <a:miter/>
              </a:ln>
              <a:solidFill>
                <a:srgbClr val="99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OS NÃO</a:t>
            </a:r>
            <a:endParaRPr b="1" lang="en-US" sz="2800" spc="1" strike="noStrike">
              <a:ln w="19080">
                <a:solidFill>
                  <a:srgbClr val="000000"/>
                </a:solidFill>
                <a:miter/>
              </a:ln>
              <a:solidFill>
                <a:srgbClr val="99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EGALOMANÍACOS</a:t>
            </a:r>
            <a:endParaRPr b="1" lang="en-US" sz="2800" spc="1" strike="noStrike">
              <a:ln w="19080">
                <a:solidFill>
                  <a:srgbClr val="000000"/>
                </a:solidFill>
                <a:miter/>
              </a:ln>
              <a:solidFill>
                <a:srgbClr val="99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DE VER</a:t>
            </a:r>
            <a:endParaRPr b="1" lang="en-US" sz="2800" spc="1" strike="noStrike">
              <a:ln w="19080">
                <a:solidFill>
                  <a:srgbClr val="000000"/>
                </a:solidFill>
                <a:miter/>
              </a:ln>
              <a:solidFill>
                <a:srgbClr val="99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RMAS NUCLEARES</a:t>
            </a:r>
            <a:endParaRPr b="1" lang="en-US" sz="2800" spc="1" strike="noStrike">
              <a:ln w="19080">
                <a:solidFill>
                  <a:srgbClr val="000000"/>
                </a:solidFill>
                <a:miter/>
              </a:ln>
              <a:solidFill>
                <a:srgbClr val="99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NAS MÃOS </a:t>
            </a:r>
            <a:endParaRPr b="1" lang="en-US" sz="2800" spc="1" strike="noStrike">
              <a:ln w="19080">
                <a:solidFill>
                  <a:srgbClr val="000000"/>
                </a:solidFill>
                <a:miter/>
              </a:ln>
              <a:solidFill>
                <a:srgbClr val="99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DE UM TERRORISTA</a:t>
            </a:r>
            <a:endParaRPr b="1" lang="en-US" sz="2800" spc="1" strike="noStrike">
              <a:ln w="19080">
                <a:solidFill>
                  <a:srgbClr val="000000"/>
                </a:solidFill>
                <a:miter/>
              </a:ln>
              <a:solidFill>
                <a:srgbClr val="99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SSIM</a:t>
            </a:r>
            <a:endParaRPr b="1" lang="en-US" sz="2800" spc="1" strike="noStrike">
              <a:ln w="19080">
                <a:solidFill>
                  <a:srgbClr val="000000"/>
                </a:solidFill>
                <a:miter/>
              </a:ln>
              <a:solidFill>
                <a:srgbClr val="99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1" strike="noStrike">
              <a:ln w="19080">
                <a:solidFill>
                  <a:srgbClr val="000000"/>
                </a:solidFill>
                <a:miter/>
              </a:ln>
              <a:solidFill>
                <a:srgbClr val="99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1" strike="noStrike">
              <a:ln w="19080">
                <a:solidFill>
                  <a:srgbClr val="000000"/>
                </a:solidFill>
                <a:miter/>
              </a:ln>
              <a:solidFill>
                <a:srgbClr val="99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1" strike="noStrike">
              <a:ln w="19080">
                <a:solidFill>
                  <a:srgbClr val="000000"/>
                </a:solidFill>
                <a:miter/>
              </a:ln>
              <a:solidFill>
                <a:srgbClr val="99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1" lang="en-US" sz="2800" spc="1" strike="noStrike">
              <a:ln w="19080">
                <a:solidFill>
                  <a:srgbClr val="000000"/>
                </a:solidFill>
                <a:miter/>
              </a:ln>
              <a:solidFill>
                <a:srgbClr val="99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1" strike="noStrike">
              <a:ln w="19080">
                <a:solidFill>
                  <a:srgbClr val="000000"/>
                </a:solidFill>
                <a:miter/>
              </a:ln>
              <a:solidFill>
                <a:srgbClr val="99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1" lang="en-US" sz="2800" spc="1" strike="noStrike">
              <a:ln w="19080">
                <a:solidFill>
                  <a:srgbClr val="000000"/>
                </a:solidFill>
                <a:miter/>
              </a:ln>
              <a:solidFill>
                <a:srgbClr val="99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6237360"/>
            <a:ext cx="8209080" cy="398880"/>
          </a:xfrm>
          <a:prstGeom prst="rect">
            <a:avLst/>
          </a:prstGeom>
          <a:solidFill>
            <a:srgbClr val="bbe0e3"/>
          </a:soli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666ff"/>
                </a:solidFill>
                <a:latin typeface="Arial"/>
              </a:rPr>
              <a:t>AQUI TERMINA A APRESENTAÇÃO E COMEÇA A REFLEXÃO</a:t>
            </a:r>
            <a:r>
              <a:rPr b="1" lang="pt-BR" sz="2000" spc="-1" strike="noStrike">
                <a:solidFill>
                  <a:srgbClr val="6666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097000" y="0"/>
            <a:ext cx="457524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56264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0292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4232160" cy="5905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 rot="3892800">
            <a:off x="4081320" y="246960"/>
            <a:ext cx="3745080" cy="3917880"/>
          </a:xfrm>
          <a:prstGeom prst="wedgeEllipseCallout">
            <a:avLst>
              <a:gd name="adj1" fmla="val -42032"/>
              <a:gd name="adj2" fmla="val 66087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ÓS N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OSEXUA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IRÃ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19640" y="4221000"/>
            <a:ext cx="5545080" cy="2448000"/>
          </a:xfrm>
          <a:prstGeom prst="rect">
            <a:avLst/>
          </a:prstGeom>
          <a:solidFill>
            <a:srgbClr val="000000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VOCE QUER SABER PORQUE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4032000" cy="313668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788000" y="189000"/>
            <a:ext cx="4103640" cy="314784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340000" y="3573360"/>
            <a:ext cx="4176720" cy="314496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</p:spTree>
  </p:cSld>
  <p:transition spd="med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497196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63392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7T12:43:40Z</dcterms:created>
  <dc:creator/>
  <dc:description/>
  <dc:language>en-US</dc:language>
  <cp:lastModifiedBy/>
  <dcterms:modified xsi:type="dcterms:W3CDTF">2010-06-05T19:37:36Z</dcterms:modified>
  <cp:revision>72</cp:revision>
  <dc:subject/>
  <dc:title>שקופית 1</dc:title>
</cp:coreProperties>
</file>