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Dreams%20of%20Peace.wav" ContentType="audio/x-wav"/>
  <Override PartName="/ppt/media/image3.png" ContentType="image/png"/>
  <Override PartName="/ppt/media/image17.jpeg" ContentType="image/jpeg"/>
  <Override PartName="/ppt/media/image4.png" ContentType="image/png"/>
  <Override PartName="/ppt/media/image1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BC9-621A-47B6-BFAA-59F9E8C3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A92-F1AD-4AFA-9E77-E60E595F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044-EB89-4A70-BB98-4A8148CF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AF3-79DE-4B95-B6B1-660401C3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18B1-489E-4D23-8087-DB9FC77C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6EE-B303-47BE-B56D-9DA51E6A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A29-DC0B-46D7-ACE1-DBC1F9F2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B8D-5BF0-4DAE-A87F-34A8B438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F68-56FA-47EE-8050-073D973C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9F9-2D96-4652-9F42-6BC5E610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2A6A-0354-4DB4-8FEA-96AB1F01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FF2-28C1-4F43-9DA0-55901721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E614-8439-4250-9448-B74417779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Dreams%20of%20Peace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73840" y="6451560"/>
            <a:ext cx="302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vonck@zeelandnet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6:18:41Z</dcterms:created>
  <dc:creator>Vonck</dc:creator>
  <dc:description/>
  <dc:language>en-US</dc:language>
  <cp:lastModifiedBy>Vonck</cp:lastModifiedBy>
  <dcterms:modified xsi:type="dcterms:W3CDTF">2008-09-08T13:21:27Z</dcterms:modified>
  <cp:revision>6</cp:revision>
  <dc:subject/>
  <dc:title>Dia 1</dc:title>
</cp:coreProperties>
</file>