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Dreams%20of%20Peace.wav" ContentType="audio/x-wav"/>
  <Override PartName="/ppt/media/image3.png" ContentType="image/png"/>
  <Override PartName="/ppt/media/image17.jpeg" ContentType="image/jpeg"/>
  <Override PartName="/ppt/media/image4.png" ContentType="image/png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5CA-6FA9-405C-A574-875DB324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BB6-D8AD-4679-9AA6-EEB74835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3A3-1827-43D3-ADA9-C8ACD0AF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49A-1A2F-4055-B632-822CF7B4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146-A240-44EF-86BF-918EB964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263-BBD3-4C8B-A29A-FE0499AE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C08-8A2C-41CF-98D5-DB43E34E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AC0-FCA0-4658-8ADA-9BFB3FC9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546-EBCB-4DB0-B419-11B5C940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417-71E4-454D-8EE7-B7633378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9FA-E15F-41CF-BBEA-3E46CCED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201-AE7E-49F6-8B13-8E09BE38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04CC-3695-47E2-915F-C16C13493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Dreams%20of%20Peace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73840" y="645156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vonck@zeelandnet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56000" y="6453360"/>
            <a:ext cx="4319640" cy="258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340000" y="189000"/>
            <a:ext cx="4319640" cy="25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50920" y="1413000"/>
            <a:ext cx="258840" cy="431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8675640" y="1268280"/>
            <a:ext cx="25884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6:18:41Z</dcterms:created>
  <dc:creator>Vonck</dc:creator>
  <dc:description/>
  <dc:language>en-US</dc:language>
  <cp:lastModifiedBy>Vonck</cp:lastModifiedBy>
  <dcterms:modified xsi:type="dcterms:W3CDTF">2008-09-08T13:21:27Z</dcterms:modified>
  <cp:revision>6</cp:revision>
  <dc:subject/>
  <dc:title>Dia 1</dc:title>
</cp:coreProperties>
</file>