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evil_laf.wav" ContentType="audio/x-wav"/>
  <Override PartName="/ppt/media/image1.jpeg" ContentType="image/jpeg"/>
  <Override PartName="/ppt/media/image14.jpeg" ContentType="image/jpeg"/>
  <Override PartName="/ppt/media/image13.jpeg" ContentType="image/jpeg"/>
  <Override PartName="/ppt/media/image4.jpeg" ContentType="image/jpeg"/>
  <Override PartName="/ppt/media/image2.jpeg" ContentType="image/jpeg"/>
  <Override PartName="/ppt/media/image3.jpeg" ContentType="image/jpeg"/>
  <Override PartName="/ppt/media/larhardy.wav" ContentType="audio/x-wav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FC1F-8DE8-4C86-9643-1395FF6F8D71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563E-AD4F-433E-9D95-3765F16CDAA5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B77-79F6-4D3F-9DBC-325F86763D50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2E5-51EA-4A6D-95E4-7DBB4360C744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E25-3A54-4DEC-A842-A97757CFB10A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5599-8D71-4DF4-8EE2-5FC9456913BE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FDD-B0C7-4F64-918C-AA74508428FB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489B-5DE7-4DED-8219-D7AB2251CCDA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E6AF-5015-4932-B795-B7ABD575AC2F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666-884C-4C48-AFED-65C4C99D7BA3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5D8-800F-4B4D-A772-097F70C5F2BD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101-EC5A-4B53-A133-E35D25F886EA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3E5-63FC-4D76-B4D0-8CC2F8F74AF4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A988-B8A9-468D-893C-34BD03472AA5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0D5-84B2-43DF-92F1-4DA180B0FA24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CCEB-1E8E-420F-8055-2C0043F6ADD7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2D14-5145-45BC-89A5-E929B265C2CE}" type="slidenum">
              <a:rPr b="0" lang="el-GR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FA4-3D62-41CA-9529-0C15DB7A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07A-C3F0-4567-820A-C2CE3E3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D30-53B9-4EE9-A13D-F1179BE0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D26-7257-4CBA-A606-336498F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74F-DD44-4B91-AD76-81207C9C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F13-10B7-4605-B103-E8C6D769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21BF-F89A-461D-9E78-EE76EFF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3EF0-64AE-491B-904B-810AD99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FC09-06AF-47D9-B269-622FEA21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F04-713B-42F4-BF92-A7A1A6F9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868-3F8B-4AE4-8C75-A73AEA7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541-B222-440F-B368-EAB22B9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392E-BF4C-4212-A5AC-1C2AFDFF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2822-E462-4F15-BE43-EDA4DB8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951D-2524-44B9-B10B-ED602AF9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671F-A02D-430F-80B5-7FA5CF6E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BE45-0872-413C-AD3B-F78CDEF0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74E-61AD-4D39-8256-7F7BA18A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D7E-55C4-4165-A96D-196E7FF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801-DE19-4459-8EBA-49851980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953-165B-4E4D-AF69-7877406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B82-89FC-4D6B-B0EB-882E265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100-3532-4F5C-A556-60872AD2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2A0-5345-4D81-A4E2-19BE8DD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F56F-CBC9-47E7-827E-DA411B675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1520"/>
                  <a:gd name="textAreaBottom" fmla="*/ 552240 h 5515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F83-8EC0-4DA6-9039-39B3A852097B}" type="slidenum">
              <a:rPr b="0" lang="fr-FR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rhardy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evil_laf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6553440" cy="25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006699"/>
                </a:solidFill>
                <a:latin typeface="Palatino Linotype"/>
              </a:rPr>
              <a:t>Roménia hoje</a:t>
            </a:r>
            <a:r>
              <a:rPr b="1" i="1" lang="el-GR" sz="6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br>
              <a:rPr sz="6000"/>
            </a:br>
            <a:br>
              <a:rPr sz="6000"/>
            </a:br>
            <a:r>
              <a:rPr b="1" i="1" lang="it-IT" sz="3200" spc="-1" strike="noStrike">
                <a:solidFill>
                  <a:srgbClr val="006699"/>
                </a:solidFill>
                <a:latin typeface="Palatino Linotype"/>
              </a:rPr>
              <a:t>O Cigano se moderniza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Yate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Picture 4" descr="13-06-01"/>
          <p:cNvPicPr/>
          <p:nvPr/>
        </p:nvPicPr>
        <p:blipFill>
          <a:blip r:embed="rId1"/>
          <a:stretch/>
        </p:blipFill>
        <p:spPr>
          <a:xfrm>
            <a:off x="1116000" y="620640"/>
            <a:ext cx="7115040" cy="482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5733720"/>
            <a:ext cx="849780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hipermercado tecnológico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r>
              <a:rPr b="1" i="1" lang="es-ES" sz="44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4" descr="92"/>
          <p:cNvPicPr/>
          <p:nvPr/>
        </p:nvPicPr>
        <p:blipFill>
          <a:blip r:embed="rId1"/>
          <a:stretch/>
        </p:blipFill>
        <p:spPr>
          <a:xfrm>
            <a:off x="1042920" y="333360"/>
            <a:ext cx="7197840" cy="5224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54364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Verdana"/>
              </a:rPr>
              <a:t>O colchão ortopédico</a:t>
            </a:r>
            <a:r>
              <a:rPr b="1" i="1" lang="el-GR" sz="44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4" descr="Desi173"/>
          <p:cNvPicPr/>
          <p:nvPr/>
        </p:nvPicPr>
        <p:blipFill>
          <a:blip r:embed="rId1"/>
          <a:stretch/>
        </p:blipFill>
        <p:spPr>
          <a:xfrm>
            <a:off x="1042920" y="404640"/>
            <a:ext cx="7007400" cy="5115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537372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6666"/>
                </a:solidFill>
                <a:latin typeface="Verdana"/>
              </a:rPr>
              <a:t>Esquentadores eléctricos </a:t>
            </a:r>
            <a:r>
              <a:rPr b="1" i="1" lang="el-GR" sz="32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Picture 7" descr="ταχυθερμοσίφωνας"/>
          <p:cNvPicPr/>
          <p:nvPr/>
        </p:nvPicPr>
        <p:blipFill>
          <a:blip r:embed="rId1"/>
          <a:stretch/>
        </p:blipFill>
        <p:spPr>
          <a:xfrm>
            <a:off x="1332000" y="33336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5638320"/>
            <a:ext cx="6120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 </a:t>
            </a: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Autocarro escolar</a:t>
            </a:r>
            <a:r>
              <a:rPr b="1" i="1" lang="el-GR" sz="48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Picture 4" descr="schoolbus"/>
          <p:cNvPicPr/>
          <p:nvPr/>
        </p:nvPicPr>
        <p:blipFill>
          <a:blip r:embed="rId1"/>
          <a:stretch/>
        </p:blipFill>
        <p:spPr>
          <a:xfrm>
            <a:off x="1833480" y="1219320"/>
            <a:ext cx="547704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5733720"/>
            <a:ext cx="734544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>
                <a:solidFill>
                  <a:srgbClr val="006699"/>
                </a:solidFill>
                <a:latin typeface="Palatino Linotype"/>
              </a:rPr>
              <a:t>E finalmente... o </a:t>
            </a:r>
            <a:r>
              <a:rPr b="1" i="1" lang="fr-FR" sz="4800" spc="-1" strike="noStrike">
                <a:solidFill>
                  <a:srgbClr val="006699"/>
                </a:solidFill>
                <a:latin typeface="Palatino Linotype"/>
              </a:rPr>
              <a:t>táxi!!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Picture 4" descr="diligence"/>
          <p:cNvPicPr/>
          <p:nvPr/>
        </p:nvPicPr>
        <p:blipFill>
          <a:blip r:embed="rId1"/>
          <a:stretch/>
        </p:blipFill>
        <p:spPr>
          <a:xfrm>
            <a:off x="1301760" y="609480"/>
            <a:ext cx="6540480" cy="458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4797360"/>
            <a:ext cx="8643960" cy="16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Cuidado que com a crise isto pode bater-nos à porta</a:t>
            </a:r>
            <a:r>
              <a:rPr b="1" i="1" lang="el-GR" sz="4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verdade</a:t>
            </a:r>
            <a:r>
              <a:rPr b="1" i="1" lang="fr-FR" sz="4000" spc="-1" strike="noStrike">
                <a:solidFill>
                  <a:srgbClr val="006699"/>
                </a:solidFill>
                <a:latin typeface="Palatino Linotype"/>
              </a:rPr>
              <a:t>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Picture 4" descr="Figuur12"/>
          <p:cNvPicPr/>
          <p:nvPr/>
        </p:nvPicPr>
        <p:blipFill>
          <a:blip r:embed="rId1"/>
          <a:stretch/>
        </p:blipFill>
        <p:spPr>
          <a:xfrm>
            <a:off x="2230560" y="533520"/>
            <a:ext cx="4681440" cy="40100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evil_laf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6067440"/>
            <a:ext cx="8337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O carrinho de bébé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3" descr="babakocsi"/>
          <p:cNvPicPr/>
          <p:nvPr/>
        </p:nvPicPr>
        <p:blipFill>
          <a:blip r:embed="rId1"/>
          <a:stretch/>
        </p:blipFill>
        <p:spPr>
          <a:xfrm>
            <a:off x="2541600" y="407880"/>
            <a:ext cx="4059360" cy="5002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1000" y="5714640"/>
            <a:ext cx="60991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6699"/>
                </a:solidFill>
                <a:latin typeface="Palatino Linotype"/>
              </a:rPr>
              <a:t>O chalet unifamiliar</a:t>
            </a:r>
            <a:r>
              <a:rPr b="1" i="1" lang="el-GR" sz="40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4" descr="caravan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490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5791320"/>
            <a:ext cx="70581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A grúa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4" descr="creative"/>
          <p:cNvPicPr/>
          <p:nvPr/>
        </p:nvPicPr>
        <p:blipFill>
          <a:blip r:embed="rId1"/>
          <a:stretch/>
        </p:blipFill>
        <p:spPr>
          <a:xfrm>
            <a:off x="971640" y="549360"/>
            <a:ext cx="7056360" cy="510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6666"/>
                </a:solidFill>
                <a:latin typeface="Verdana"/>
              </a:rPr>
              <a:t>O ar condicionado no carro</a:t>
            </a:r>
            <a:r>
              <a:rPr b="0" i="1" lang="el-GR" sz="3600" spc="-1" strike="noStrike">
                <a:solidFill>
                  <a:srgbClr val="006666"/>
                </a:solidFill>
                <a:latin typeface="Verdana"/>
              </a:rPr>
              <a:t>...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4" descr="Automobiles291"/>
          <p:cNvPicPr/>
          <p:nvPr/>
        </p:nvPicPr>
        <p:blipFill>
          <a:blip r:embed="rId1">
            <a:lum contrast="20000"/>
          </a:blip>
          <a:srcRect l="0" t="0" r="0" b="16493"/>
          <a:stretch/>
        </p:blipFill>
        <p:spPr>
          <a:xfrm>
            <a:off x="900000" y="404640"/>
            <a:ext cx="7197840" cy="4722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660640"/>
            <a:ext cx="82440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66"/>
                </a:solidFill>
                <a:latin typeface="Arial"/>
              </a:rPr>
              <a:t>Fechadura de  segurança</a:t>
            </a:r>
            <a:r>
              <a:rPr b="1" i="1" lang="el-GR" sz="4400" spc="-1" strike="noStrike">
                <a:solidFill>
                  <a:srgbClr val="006666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5" descr="Automobiles131"/>
          <p:cNvPicPr/>
          <p:nvPr/>
        </p:nvPicPr>
        <p:blipFill>
          <a:blip r:embed="rId1"/>
          <a:stretch/>
        </p:blipFill>
        <p:spPr>
          <a:xfrm>
            <a:off x="1042920" y="333360"/>
            <a:ext cx="7050240" cy="515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1280" y="5638320"/>
            <a:ext cx="61200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Boowling</a:t>
            </a:r>
            <a:r>
              <a:rPr b="1" i="1" lang="el-GR" sz="4400" spc="-1" strike="noStrike">
                <a:solidFill>
                  <a:srgbClr val="006699"/>
                </a:solidFill>
                <a:latin typeface="Palatino Linotype"/>
              </a:rPr>
              <a:t>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4" descr="pic21076"/>
          <p:cNvPicPr/>
          <p:nvPr/>
        </p:nvPicPr>
        <p:blipFill>
          <a:blip r:embed="rId1"/>
          <a:stretch/>
        </p:blipFill>
        <p:spPr>
          <a:xfrm>
            <a:off x="1785960" y="838080"/>
            <a:ext cx="5572080" cy="446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5805000"/>
            <a:ext cx="6120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6699"/>
                </a:solidFill>
                <a:latin typeface="Palatino Linotype"/>
              </a:rPr>
              <a:t>O</a:t>
            </a:r>
            <a:r>
              <a:rPr b="1" i="1" lang="fr-FR" sz="4400" spc="-1" strike="noStrike">
                <a:solidFill>
                  <a:srgbClr val="006699"/>
                </a:solidFill>
                <a:latin typeface="Palatino Linotype"/>
              </a:rPr>
              <a:t> tunning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8" name="Picture 4" descr="RománMadMax"/>
          <p:cNvPicPr/>
          <p:nvPr/>
        </p:nvPicPr>
        <p:blipFill>
          <a:blip r:embed="rId1"/>
          <a:stretch/>
        </p:blipFill>
        <p:spPr>
          <a:xfrm>
            <a:off x="1219320" y="549360"/>
            <a:ext cx="6696000" cy="485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5805000"/>
            <a:ext cx="69850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006699"/>
                </a:solidFill>
                <a:latin typeface="Palatino Linotype"/>
              </a:rPr>
              <a:t>Esquí…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extrémsport"/>
          <p:cNvPicPr/>
          <p:nvPr/>
        </p:nvPicPr>
        <p:blipFill>
          <a:blip r:embed="rId1"/>
          <a:stretch/>
        </p:blipFill>
        <p:spPr>
          <a:xfrm>
            <a:off x="1116000" y="40464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47:13Z</dcterms:created>
  <dc:creator>Jose Santos</dc:creator>
  <dc:description/>
  <dc:language>en-US</dc:language>
  <cp:lastModifiedBy>Jose Santos</cp:lastModifiedBy>
  <dcterms:modified xsi:type="dcterms:W3CDTF">2010-10-14T23:05:33Z</dcterms:modified>
  <cp:revision>2</cp:revision>
  <dc:subject/>
  <dc:title>Roménia hoje…  O Cigano se moderniza</dc:title>
</cp:coreProperties>
</file>