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9F0F-E090-4F00-896B-C67E522E6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9475-0133-40AF-8BEC-69BDD6DC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62E9-BAB9-4A65-BD84-93BC6543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FA22-D8A8-4AC3-90CA-A1A7369B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BACA-0400-4359-B7B3-83888858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DCAE-77D5-413E-A889-42CF6B82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8205-6EBA-46EC-BA81-B945542B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15D0-6A82-452F-8218-D85ED9EE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9FC1-8709-4E2A-83F0-E4C0F32A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155D-91B5-492F-B3C8-235D655A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6BB1-86F3-4F7D-B848-9A621591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CEE9-13F9-4F33-87F4-DB1832E7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89AF-C83B-47DA-8CC8-15FB2F34AD19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54080"/>
            <a:ext cx="9144000" cy="65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1280" y="0"/>
            <a:ext cx="8964720" cy="69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2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81080"/>
            <a:ext cx="914400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249120"/>
            <a:ext cx="914400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252360"/>
            <a:ext cx="914400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84320"/>
            <a:ext cx="914400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6360" y="54000"/>
            <a:ext cx="9144000" cy="66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209520"/>
            <a:ext cx="9144000" cy="62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325440"/>
            <a:ext cx="914400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252360"/>
            <a:ext cx="914400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85760"/>
            <a:ext cx="914400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239760"/>
            <a:ext cx="91440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237960"/>
            <a:ext cx="914400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1280" y="0"/>
            <a:ext cx="896472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279360"/>
            <a:ext cx="9144000" cy="62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98360"/>
            <a:ext cx="9144000" cy="65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243000"/>
            <a:ext cx="9144000" cy="62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344520"/>
            <a:ext cx="914400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2682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85760"/>
            <a:ext cx="914400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266760"/>
            <a:ext cx="914400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98280"/>
            <a:ext cx="91440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246240"/>
            <a:ext cx="9144000" cy="62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69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2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252360"/>
            <a:ext cx="914400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2920" y="0"/>
            <a:ext cx="88930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2920" y="0"/>
            <a:ext cx="88930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682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82600"/>
            <a:ext cx="91440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60360" y="0"/>
            <a:ext cx="845964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5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12:00:16Z</dcterms:created>
  <dc:creator>User</dc:creator>
  <dc:description/>
  <dc:language>en-US</dc:language>
  <cp:lastModifiedBy>Travel Idea Emp. de Turismo</cp:lastModifiedBy>
  <dcterms:modified xsi:type="dcterms:W3CDTF">2007-04-26T12:14:43Z</dcterms:modified>
  <cp:revision>2</cp:revision>
  <dc:subject/>
  <dc:title>Slide 1</dc:title>
</cp:coreProperties>
</file>