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47E-7049-4062-B740-522B9283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1D4-B3EB-4D56-9BC0-85688E66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368-B791-43BA-861A-DE88A371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602-A2D5-46F3-9CDF-EEC5E235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FDF-5908-4349-B360-066EFA7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62F-2C76-4410-A812-D524208D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C26-D337-4D03-8920-930D424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B40-EA8F-4CA2-99CD-4FA53D7D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4AE-20A5-48CE-84F3-20D5F268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45F-2650-4CEE-8EF8-B938E6A4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501-4898-4A3C-8C6F-CA722497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EAE-0CC0-490F-BFC8-FB7E5098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177-23A6-41E6-9177-8E1FB8D3AC4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896472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523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360" y="54000"/>
            <a:ext cx="914400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523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39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89647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4452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523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88930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8893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8260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0360" y="0"/>
            <a:ext cx="845964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2:00:16Z</dcterms:created>
  <dc:creator>User</dc:creator>
  <dc:description/>
  <dc:language>en-US</dc:language>
  <cp:lastModifiedBy>Travel Idea Emp. de Turismo</cp:lastModifiedBy>
  <dcterms:modified xsi:type="dcterms:W3CDTF">2007-04-26T12:14:43Z</dcterms:modified>
  <cp:revision>2</cp:revision>
  <dc:subject/>
  <dc:title>Slide 1</dc:title>
</cp:coreProperties>
</file>