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93D-A603-41C0-A894-6F2A9A83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F8A-A15C-4F24-9154-ADF2C7B9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042-A3CC-43FD-871A-D075B563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D3E-40FD-460C-9AE1-5982AFD8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AC14-C3B0-4224-B5DD-DAA40CCF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EEDE-29EA-4E31-803C-38F4D4F4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F21F-B3B1-4EF4-80AD-23329461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10D4-F30E-45C1-96A4-F882DA93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2584-9CFA-4E44-B076-94BF0E74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4361-CDCF-4DAD-A70B-89F1A56C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CABB-D7BF-42EC-9258-0E7D3453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33D-82F4-4B7F-869E-8C084AA8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D24F-E8F0-4AD8-89DF-53FF294A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A957-7737-4850-8C4F-B532E2E2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206A-7F64-40C4-99CF-85310F7A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0420-9991-4A52-ABA1-4624B6A1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3666-1A57-4987-AC02-077FD706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B2D-33ED-4E82-AADE-7CCA1CE6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EE7-9594-4A67-AA3D-1E5A3BB7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3B7-19AF-480C-837E-C01DF5F9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3F2-9E7A-482A-B461-B6462561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027-E77E-4653-9ACD-BEB7C8BD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A9D-9F52-4DE9-AFAC-BB74F029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184-921B-4DFF-90C1-0D3EB15D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E012-561D-43CE-A477-9D8BC79B665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D787-79D0-4FE1-898A-93DB58CCFF9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faa8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3d5f45"/>
                </a:solidFill>
                <a:latin typeface="Comic Sans MS"/>
              </a:rPr>
              <a:t>Cinco coisas importantes que a vida ensina: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d5f45"/>
                </a:solidFill>
                <a:latin typeface="Comic Sans MS"/>
              </a:rPr>
              <a:t>1.- A pregunta mais importante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333333"/>
                </a:solidFill>
                <a:latin typeface="Comic Sans MS"/>
              </a:rPr>
              <a:t>Durante o meu segundo semestre na  Escola de Enfermagem, o nosso professor deu-nos um exame surpresa. Eu era um estudante consciente e li rapidamente todas as perguntas, até que cheguei à última: QUAL É O NOME DA SENHORA QUE LIMPA A ESCOLA?”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333333"/>
                </a:solidFill>
                <a:latin typeface="Comic Sans MS"/>
              </a:rPr>
              <a:t>Seguramente que era alguma “armadilha”. Eu já tinha visto muitas vezes a senhora das limpezas.</a:t>
            </a:r>
            <a:br>
              <a:rPr sz="1900"/>
            </a:br>
            <a:r>
              <a:rPr b="1" lang="es-AR" sz="1900" spc="-1" strike="noStrike">
                <a:solidFill>
                  <a:srgbClr val="333333"/>
                </a:solidFill>
                <a:latin typeface="Comic Sans MS"/>
              </a:rPr>
              <a:t>Ela era alta, tinha cabelo escuro, na casa dos cinquenta anos, mas… como ia eu saber o seu nome?</a:t>
            </a:r>
            <a:br>
              <a:rPr sz="1900"/>
            </a:br>
            <a:r>
              <a:rPr b="1" lang="es-AR" sz="1900" spc="-1" strike="noStrike">
                <a:solidFill>
                  <a:srgbClr val="333333"/>
                </a:solidFill>
                <a:latin typeface="Comic Sans MS"/>
              </a:rPr>
              <a:t>Entreguei o exame deixando a última pregunta por responder.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333333"/>
                </a:solidFill>
                <a:latin typeface="Comic Sans MS"/>
              </a:rPr>
              <a:t>Antes de terminar a aula, alguém perguntou se a última pregunta contaria para a nota do exame. "ABSOLUTAMENTE", disse o professor. “Nas vossas carreiras conhecerão muitas pessoas. Todas são importantes. Elas merecem a vossa atenção e cuidado, ainda que apenas lhes sorriam.</a:t>
            </a:r>
            <a:br>
              <a:rPr sz="1900"/>
            </a:br>
            <a:r>
              <a:rPr b="1" lang="es-AR" sz="1900" spc="-1" strike="noStrike">
                <a:solidFill>
                  <a:srgbClr val="333333"/>
                </a:solidFill>
                <a:latin typeface="Comic Sans MS"/>
              </a:rPr>
              <a:t>NUNCA ESQUECI ESSA LIÇÃO. Também aprendi que o seu nome era DOROTHY.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100" spc="-1" strike="noStrike" u="sng">
                <a:solidFill>
                  <a:srgbClr val="f77b27"/>
                </a:solidFill>
                <a:uFillTx/>
                <a:latin typeface="Comic Sans MS"/>
              </a:rPr>
              <a:t>TODOS SOMOS IMPORTANTES</a:t>
            </a:r>
            <a:endParaRPr b="0" lang="en-US" sz="21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d5f45"/>
                </a:solidFill>
                <a:latin typeface="Comic Sans MS"/>
              </a:rPr>
              <a:t>2.- AUXILIO NO TEMPORAL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3333"/>
                </a:solidFill>
                <a:latin typeface="Comic Sans MS"/>
              </a:rPr>
              <a:t>Uma noite, às 11:30h, uma mulher Afro-americana, de idade avançada estava parada na berma de uma autoestrada do Alabama, enfrentando uma forte tempestade. O seu carro havia avariado e ela necessitava desesperadamente de boleia. Completamente encharcada, ela deciciu fazer paragem ao carro seguinte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3333"/>
                </a:solidFill>
                <a:latin typeface="Comic Sans MS"/>
              </a:rPr>
              <a:t>Um jovem branco parou para a auxiliar, apesar de todos os conflitos que haviam ocorrido nos anos 60. O jovem transportou-a a um lugar seguro, ajudou-a a obter assistência e colocou-a num taxi. Ela parecia bastante angustiada. Ela anotou o endereço do jovem, agradeceu e partiu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3333"/>
                </a:solidFill>
                <a:latin typeface="Comic Sans MS"/>
              </a:rPr>
              <a:t>Passados sete dias tocaram à porta de sua casa. Para sua surpresa, entregaram um televisor de ecran gigante. Tinha uma mensagem junto ao embrulho. Esta dizia: “Muitíssimo obrigada por me ter ajudado naquela noite. A chuva encharcou não só a minha roupa mas também o meu espirito.</a:t>
            </a:r>
            <a:br>
              <a:rPr sz="1600"/>
            </a:br>
            <a:r>
              <a:rPr b="1" lang="es-AR" sz="1600" spc="-1" strike="noStrike">
                <a:solidFill>
                  <a:srgbClr val="333333"/>
                </a:solidFill>
                <a:latin typeface="Comic Sans MS"/>
              </a:rPr>
              <a:t>Então apareceu o senhor. Graças a si pude chegar ao lado da cama do meu marido agonizante, imediatamente antes de ele morrer. Deus o abençoe por me ter ajudado e por servir a outros desinteressadamente.</a:t>
            </a:r>
            <a:br>
              <a:rPr sz="1600"/>
            </a:br>
            <a:r>
              <a:rPr b="1" lang="es-AR" sz="1600" spc="-1" strike="noStrike">
                <a:solidFill>
                  <a:srgbClr val="333333"/>
                </a:solidFill>
                <a:latin typeface="Comic Sans MS"/>
              </a:rPr>
              <a:t>SINCERAMENTE: A ESPOSA DE NAT KING COLE."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77b27"/>
                </a:solidFill>
                <a:uFillTx/>
                <a:latin typeface="Comic Sans MS"/>
              </a:rPr>
              <a:t>NÃO ESPERES NADA EM TROCA E RECEBÊ-LO-Á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d5f45"/>
                </a:solidFill>
                <a:latin typeface="Comic Sans MS"/>
              </a:rPr>
              <a:t>3.- RECORDA SEMPRE AQUELES A QUEM SERVES.</a:t>
            </a: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100" spc="-1" strike="noStrike">
                <a:solidFill>
                  <a:srgbClr val="333333"/>
                </a:solidFill>
                <a:latin typeface="Comic Sans MS"/>
              </a:rPr>
              <a:t>No tempo em que um gelado custava muito menos, em menino de 10 anos entrou num estabelecimento e sentou-se. A empregada colocou um copo de água à sua frente. “Quanto custa um gelado de chocolate com amêndoas?" perguntou o menino. “Cinquenta centavos", respondeu a empregada. O miúdo tirou a mão do bolso e observou as moedas que tinha.  “Quanto custa um gelado simples?", voltou a perguntar.</a:t>
            </a:r>
            <a:endParaRPr b="0" lang="en-US" sz="21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100" spc="-1" strike="noStrike">
                <a:solidFill>
                  <a:srgbClr val="333333"/>
                </a:solidFill>
                <a:latin typeface="Comic Sans MS"/>
              </a:rPr>
              <a:t>Alguns clientes já estava à espera de mesa e a empregada ficou um pouco impaciente. “Trinta e cinco centavos", disse ela bruscamente. O menino voltou a contar as moedas. “Quero um gelado simples!", disse o menino. A empregada trouxo o gelado, pousou a conta na mesa e retirou-se.</a:t>
            </a:r>
            <a:endParaRPr b="0" lang="en-US" sz="21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100" spc="-1" strike="noStrike">
                <a:solidFill>
                  <a:srgbClr val="333333"/>
                </a:solidFill>
                <a:latin typeface="Comic Sans MS"/>
              </a:rPr>
              <a:t>O miúdo terminou o gelado, pagou na caixa e saiu. Quando a empregada voltou, limpou a mesa e, então, custou-lhe engolir a saliva com o que viu. Ali, colocado ordenadamente junto ao prato vazio, estavam vinte e cinco centavos... A sua gorjeta.</a:t>
            </a:r>
            <a:br>
              <a:rPr sz="2100"/>
            </a:br>
            <a:r>
              <a:rPr b="1" lang="es-AR" sz="2100" spc="-1" strike="noStrike">
                <a:solidFill>
                  <a:srgbClr val="333333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 u="sng">
                <a:solidFill>
                  <a:srgbClr val="f77b27"/>
                </a:solidFill>
                <a:uFillTx/>
                <a:latin typeface="Comic Sans MS"/>
              </a:rPr>
              <a:t>JAMAIS JULGUES ALGUÉM APRESSADAMENTE</a:t>
            </a:r>
            <a:endParaRPr b="0" lang="en-US" sz="25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d5f45"/>
                </a:solidFill>
                <a:latin typeface="Comic Sans MS"/>
              </a:rPr>
              <a:t>4.- OS OBSTÁCULOS NO NOSSO CAMINHO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333333"/>
                </a:solidFill>
                <a:latin typeface="Comic Sans MS"/>
              </a:rPr>
              <a:t>Há muito, muito tempo, um Rei colocou uma enorme pedra no meio de um caminho. Escondeu-se e ficou a observar se alguém removia aquele obstáculo.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333333"/>
                </a:solidFill>
                <a:latin typeface="Comic Sans MS"/>
              </a:rPr>
              <a:t>Alguns dos comerciantes mais endinheirados e cortesão dos reino chegaram e simplesmente contornaram a pedra. Muitos culparam veementemente o rei por não manter os caminhos desempedidos, mas nenhum fez nada para retirar a pedra do caminho.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333333"/>
                </a:solidFill>
                <a:latin typeface="Comic Sans MS"/>
              </a:rPr>
              <a:t>Então chegou um camponês com uma carga de verduras. Ao aproximar-se da pedra, o homem pousou a sua carga e tratou de remover a pedra para a berma. Depois de um grande esforço, consegui desimpedir o caminho. Enquanto recolhia a sua carga de vegetais, avistou uma carteira no chão, exactamente onde estava a pedra.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333333"/>
                </a:solidFill>
                <a:latin typeface="Comic Sans MS"/>
              </a:rPr>
              <a:t>A carteira continha muitas moedas de ouro e uma nota do rei indicando que as moedas pertenciam à pessoa que removesse a pedra. O camponês aprendeu o que os outros nunca entenderam. 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s-AR" sz="1900" spc="-1" strike="noStrike">
                <a:solidFill>
                  <a:srgbClr val="f77b27"/>
                </a:solidFill>
                <a:latin typeface="Comic Sans MS"/>
              </a:rPr>
              <a:t>CADA OBSTÁCULO REPRESENTA UMA OPORTUNIDADE PARA MELHORAR A CONDIÇÃO DE CADA UM.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d5f45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3d5f45"/>
                </a:solidFill>
                <a:latin typeface="Comic Sans MS"/>
              </a:rPr>
              <a:t>5.- DANDO SANGUE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33"/>
                </a:solidFill>
                <a:latin typeface="Comic Sans MS"/>
              </a:rPr>
              <a:t>Há muitos anos, quando trabalhava como voluntário num hospital de Stanford, conheci uma menina chamada Liz que sofria de uma doença rara. A sua única possibilidade de recuperação era, aparentemente, uma transfusão de sangue do seu irmão de 5 anos, que havia sobrevivido milagrosamente à mesma doença e tinha desenvolvido os anti-corpos necessários para combatê-la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33"/>
                </a:solidFill>
                <a:latin typeface="Comic Sans MS"/>
              </a:rPr>
              <a:t>O médico explicou a situação ao irmão da menina e perguntou se estaria disposto a dar o seu sangue à sua irmã. Vi-o duvidar por apenas um instante antes de dar um grande suspiro e dizer: “Sim, darei se isso servir para salvar a Liz.”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33"/>
                </a:solidFill>
                <a:latin typeface="Comic Sans MS"/>
              </a:rPr>
              <a:t>Enquanto decorria a transfusão, ele estava deitado numa cama ao lado da sua irmã, sorridente enquanto nós o observavamos e à sua irmã, vendo as cores retornar ás faces da menina. Então a cara do menino ficou pálida e o seu sorriso desapareceu. Olhou o médico e perguntou numa voz embargada: “Quando é que começo a morrer?”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33"/>
                </a:solidFill>
                <a:latin typeface="Comic Sans MS"/>
              </a:rPr>
              <a:t>SENDO APENAS UMA CRIANÇA, NÃO TINHA COMPREENDIDO O MÉDICO: PENSAVA QUE IRIA DAR TODO O SANGUE À SUA IRMÃ. MESMO ASSIM DAVA-O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77b27"/>
                </a:solidFill>
                <a:uFillTx/>
                <a:latin typeface="Comic Sans MS"/>
              </a:rPr>
              <a:t>DÁ TUDO POR QUEM AMA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2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333333"/>
                </a:solidFill>
                <a:latin typeface="Comic Sans MS"/>
              </a:rPr>
              <a:t>A atitude, depois de tudo, é TUDO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33"/>
                </a:solidFill>
                <a:latin typeface="Comic Sans MS"/>
              </a:rPr>
              <a:t>Tens agora duas opçõe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33"/>
                </a:solidFill>
                <a:latin typeface="Comic Sans MS"/>
              </a:rPr>
              <a:t>1.-Guardar ou apagar este e-mail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33"/>
                </a:solidFill>
                <a:latin typeface="Comic Sans MS"/>
              </a:rPr>
              <a:t>2.-Enviar a alguém que aprecie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33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333333"/>
                </a:solidFill>
                <a:latin typeface="Comic Sans MS"/>
              </a:rPr>
              <a:t>ESPERO QUE ESCOLHAS A OPÇÃO NÚMERO DOI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77b27"/>
                </a:solidFill>
                <a:uFillTx/>
                <a:latin typeface="Comic Sans MS"/>
              </a:rPr>
              <a:t>AMA COMO NUNCA IMAGINAS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77b27"/>
                </a:solidFill>
                <a:uFillTx/>
                <a:latin typeface="Comic Sans MS"/>
              </a:rPr>
              <a:t>NÃO DESVALORIZES A AMIZADE DOS TEUS AMIG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77b27"/>
                </a:solidFill>
                <a:uFillTx/>
                <a:latin typeface="Comic Sans MS"/>
              </a:rPr>
              <a:t>VIVE OS DIAS COM FÉ, AMOR E PAZ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77b27"/>
                </a:solidFill>
                <a:uFillTx/>
                <a:latin typeface="Comic Sans MS"/>
              </a:rPr>
              <a:t>TRABALHA COMO SE NÃO NECESSITASSES DE DINHEIR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77b27"/>
                </a:solidFill>
                <a:uFillTx/>
                <a:latin typeface="Comic Sans MS"/>
              </a:rPr>
              <a:t>DANÇA COMO SE NINGUÉM TE ESTIVESSE A V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12:42:14Z</dcterms:created>
  <dc:creator>COMANDO DE PERSONAL</dc:creator>
  <dc:description/>
  <dc:language>en-US</dc:language>
  <cp:lastModifiedBy>CARLOS</cp:lastModifiedBy>
  <dcterms:modified xsi:type="dcterms:W3CDTF">2008-05-24T18:32:08Z</dcterms:modified>
  <cp:revision>10</cp:revision>
  <dc:subject/>
  <dc:title>Cinco cosas importantes que te enseña la vida:</dc:title>
</cp:coreProperties>
</file>