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CAD-1AE5-4598-B8E2-AA96B34E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E4D-C96B-494C-9137-4A3FC19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C7D-6E30-41B5-85F4-80DD9174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85E-9D8B-4A8B-86A2-A92F69D4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CC4A-495A-4433-9536-E86895EA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79AF-45AE-48F6-8914-34AEC33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47CE-A872-434B-BDD6-BD5E77E5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651E-7EF4-40DD-8DE2-E50600B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43CA-BDF6-457D-BCFB-A76EF94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D07-4B36-4D5C-B932-CB05E1A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4D9D-5815-4F50-B71C-8250FAF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7C6-CBEC-402A-8990-90C37E36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86D4-AE0A-4C2F-AC1C-DF84F97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DE89-A71A-40C6-83FC-96A13A5B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275-5454-46C3-B0DC-D290848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886-2F64-4D96-910B-3B81459C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506E-FF69-4042-BE60-2B0C774F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C04-3227-4E06-A0A7-883596A8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B65-D98D-441D-B5FD-42A71F9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EF5-8710-473C-B9AD-05C45DDB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1B3-E759-47D3-9702-856F6D6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961-1562-40D2-8537-40151F29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B7B-C893-4FFE-8248-8F3FA93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511-6368-42EB-9F30-54F7002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DD58-8767-47F3-B506-5EA2D6450AD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A0C-833B-491E-B962-C78352142F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faa8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3d5f45"/>
                </a:solidFill>
                <a:latin typeface="Comic Sans MS"/>
              </a:rPr>
              <a:t>Cinco coisas importantes que a vida ensina: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d5f45"/>
                </a:solidFill>
                <a:latin typeface="Comic Sans MS"/>
              </a:rPr>
              <a:t>1.- A pregunta mais importante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Durante o meu segundo semestre na  Escola de Enfermagem, o nosso professor deu-nos um exame surpresa. Eu era um estudante consciente e li rapidamente todas as perguntas, até que cheguei à última: QUAL É O NOME DA SENHORA QUE LIMPA A ESCOLA?”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Seguramente que era alguma “armadilha”. Eu já tinha visto muitas vezes a senhora das limpezas.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Ela era alta, tinha cabelo escuro, na casa dos cinquenta anos, mas… como ia eu saber o seu nome?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Entreguei o exame deixando a última pregunta por responder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Antes de terminar a aula, alguém perguntou se a última pregunta contaria para a nota do exame. "ABSOLUTAMENTE", disse o professor. “Nas vossas carreiras conhecerão muitas pessoas. Todas são importantes. Elas merecem a vossa atenção e cuidado, ainda que apenas lhes sorriam.</a:t>
            </a:r>
            <a:br>
              <a:rPr sz="1900"/>
            </a:br>
            <a:r>
              <a:rPr b="1" lang="es-AR" sz="1900" spc="-1" strike="noStrike">
                <a:solidFill>
                  <a:srgbClr val="333333"/>
                </a:solidFill>
                <a:latin typeface="Comic Sans MS"/>
              </a:rPr>
              <a:t>NUNCA ESQUECI ESSA LIÇÃO. Também aprendi que o seu nome era DOROTHY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 u="sng">
                <a:solidFill>
                  <a:srgbClr val="f77b27"/>
                </a:solidFill>
                <a:uFillTx/>
                <a:latin typeface="Comic Sans MS"/>
              </a:rPr>
              <a:t>TODOS SOMOS IMPORTANTES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d5f45"/>
                </a:solidFill>
                <a:latin typeface="Comic Sans MS"/>
              </a:rPr>
              <a:t>2.- AUXILIO NO TEMPORAL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Uma noite, às 11:30h, uma mulher Afro-americana, de idade avançada estava parada na berma de uma autoestrada do Alabama, enfrentando uma forte tempestade. O seu carro havia avariado e ela necessitava desesperadamente de boleia. Completamente encharcada, ela deciciu fazer paragem ao carro seguinte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Um jovem branco parou para a auxiliar, apesar de todos os conflitos que haviam ocorrido nos anos 60. O jovem transportou-a a um lugar seguro, ajudou-a a obter assistência e colocou-a num taxi. Ela parecia bastante angustiada. Ela anotou o endereço do jovem, agradeceu e partiu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Passados sete dias tocaram à porta de sua casa. Para sua surpresa, entregaram um televisor de ecran gigante. Tinha uma mensagem junto ao embrulho. Esta dizia: “Muitíssimo obrigada por me ter ajudado naquela noite. A chuva encharcou não só a minha roupa mas também o meu espirito.</a:t>
            </a:r>
            <a:br>
              <a:rPr sz="1600"/>
            </a:b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Então apareceu o senhor. Graças a si pude chegar ao lado da cama do meu marido agonizante, imediatamente antes de ele morrer. Deus o abençoe por me ter ajudado e por servir a outros desinteressadamente.</a:t>
            </a:r>
            <a:br>
              <a:rPr sz="1600"/>
            </a:br>
            <a:r>
              <a:rPr b="1" lang="es-AR" sz="1600" spc="-1" strike="noStrike">
                <a:solidFill>
                  <a:srgbClr val="333333"/>
                </a:solidFill>
                <a:latin typeface="Comic Sans MS"/>
              </a:rPr>
              <a:t>SINCERAMENTE: A ESPOSA DE NAT KING COLE."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77b27"/>
                </a:solidFill>
                <a:uFillTx/>
                <a:latin typeface="Comic Sans MS"/>
              </a:rPr>
              <a:t>NÃO ESPERES NADA EM TROCA E RECEBÊ-LO-Á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d5f45"/>
                </a:solidFill>
                <a:latin typeface="Comic Sans MS"/>
              </a:rPr>
              <a:t>3.- RECORDA SEMPRE AQUELES A QUEM SERVES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No tempo em que um gelado custava muito menos, em menino de 10 anos entrou num estabelecimento e sentou-se. A empregada colocou um copo de água à sua frente. “Quanto custa um gelado de chocolate com amêndoas?" perguntou o menino. “Cinquenta centavos", respondeu a empregada. O miúdo tirou a mão do bolso e observou as moedas que tinha.  “Quanto custa um gelado simples?", voltou a perguntar.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Alguns clientes já estava à espera de mesa e a empregada ficou um pouco impaciente. “Trinta e cinco centavos", disse ela bruscamente. O menino voltou a contar as moedas. “Quero um gelado simples!", disse o menino. A empregada trouxo o gelado, pousou a conta na mesa e retirou-se.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O miúdo terminou o gelado, pagou na caixa e saiu. Quando a empregada voltou, limpou a mesa e, então, custou-lhe engolir a saliva com o que viu. Ali, colocado ordenadamente junto ao prato vazio, estavam vinte e cinco centavos... A sua gorjeta.</a:t>
            </a:r>
            <a:br>
              <a:rPr sz="2100"/>
            </a:br>
            <a:r>
              <a:rPr b="1" lang="es-AR" sz="21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f77b27"/>
                </a:solidFill>
                <a:uFillTx/>
                <a:latin typeface="Comic Sans MS"/>
              </a:rPr>
              <a:t>JAMAIS JULGUES ALGUÉM APRESSADAMENTE</a:t>
            </a:r>
            <a:endParaRPr b="0" lang="en-US" sz="25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d5f45"/>
                </a:solidFill>
                <a:latin typeface="Comic Sans MS"/>
              </a:rPr>
              <a:t>4.- OS OBSTÁCULOS NO NOSSO CAMINHO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Há muito, muito tempo, um Rei colocou uma enorme pedra no meio de um caminho. Escondeu-se e ficou a observar se alguém removia aquele obstáculo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Alguns dos comerciantes mais endinheirados e cortesão dos reino chegaram e simplesmente contornaram a pedra. Muitos culparam veementemente o rei por não manter os caminhos desempedidos, mas nenhum fez nada para retirar a pedra do caminho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Então chegou um camponês com uma carga de verduras. Ao aproximar-se da pedra, o homem pousou a sua carga e tratou de remover a pedra para a berma. Depois de um grande esforço, consegui desimpedir o caminho. Enquanto recolhia a sua carga de vegetais, avistou uma carteira no chão, exactamente onde estava a pedra.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33"/>
                </a:solidFill>
                <a:latin typeface="Comic Sans MS"/>
              </a:rPr>
              <a:t>A carteira continha muitas moedas de ouro e uma nota do rei indicando que as moedas pertenciam à pessoa que removesse a pedra. O camponês aprendeu o que os outros nunca entenderam. 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s-AR" sz="1900" spc="-1" strike="noStrike">
                <a:solidFill>
                  <a:srgbClr val="f77b27"/>
                </a:solidFill>
                <a:latin typeface="Comic Sans MS"/>
              </a:rPr>
              <a:t>CADA OBSTÁCULO REPRESENTA UMA OPORTUNIDADE PARA MELHORAR A CONDIÇÃO DE CADA UM.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d5f45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3d5f45"/>
                </a:solidFill>
                <a:latin typeface="Comic Sans MS"/>
              </a:rPr>
              <a:t>5.- DANDO SANGUE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Há muitos anos, quando trabalhava como voluntário num hospital de Stanford, conheci uma menina chamada Liz que sofria de uma doença rara. A sua única possibilidade de recuperação era, aparentemente, uma transfusão de sangue do seu irmão de 5 anos, que havia sobrevivido milagrosamente à mesma doença e tinha desenvolvido os anti-corpos necessários para combatê-la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O médico explicou a situação ao irmão da menina e perguntou se estaria disposto a dar o seu sangue à sua irmã. Vi-o duvidar por apenas um instante antes de dar um grande suspiro e dizer: “Sim, darei se isso servir para salvar a Liz.”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Enquanto decorria a transfusão, ele estava deitado numa cama ao lado da sua irmã, sorridente enquanto nós o observavamos e à sua irmã, vendo as cores retornar ás faces da menina. Então a cara do menino ficou pálida e o seu sorriso desapareceu. Olhou o médico e perguntou numa voz embargada: “Quando é que começo a morrer?”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33"/>
                </a:solidFill>
                <a:latin typeface="Comic Sans MS"/>
              </a:rPr>
              <a:t>SENDO APENAS UMA CRIANÇA, NÃO TINHA COMPREENDIDO O MÉDICO: PENSAVA QUE IRIA DAR TODO O SANGUE À SUA IRMÃ. MESMO ASSIM DAVA-O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f77b27"/>
                </a:solidFill>
                <a:uFillTx/>
                <a:latin typeface="Comic Sans MS"/>
              </a:rPr>
              <a:t>DÁ TUDO POR QUEM AM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333333"/>
                </a:solidFill>
                <a:latin typeface="Comic Sans MS"/>
              </a:rPr>
              <a:t>A atitude, depois de tudo, é TUDO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Tens agora duas opçõ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33"/>
                </a:solidFill>
                <a:latin typeface="Comic Sans MS"/>
              </a:rPr>
              <a:t>1.-Guardar ou apagar este e-mai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33"/>
                </a:solidFill>
                <a:latin typeface="Comic Sans MS"/>
              </a:rPr>
              <a:t>2.-Enviar a alguém que apreci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es-AR" sz="2400" spc="-1" strike="noStrike">
                <a:solidFill>
                  <a:srgbClr val="333333"/>
                </a:solidFill>
                <a:latin typeface="Comic Sans MS"/>
              </a:rPr>
              <a:t>ESPERO QUE ESCOLHAS A OPÇÃO NÚMERO DOI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AMA COMO NUNCA IMAGINA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NÃO DESVALORIZES A AMIZADE DOS TEUS AMIG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VIVE OS DIAS COM FÉ, AMOR E PA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TRABALHA COMO SE NÃO NECESSITASSES DE DINHEIR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77b27"/>
                </a:solidFill>
                <a:uFillTx/>
                <a:latin typeface="Comic Sans MS"/>
              </a:rPr>
              <a:t>DANÇA COMO SE NINGUÉM TE ESTIVESSE A V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2:42:14Z</dcterms:created>
  <dc:creator>COMANDO DE PERSONAL</dc:creator>
  <dc:description/>
  <dc:language>en-US</dc:language>
  <cp:lastModifiedBy>CARLOS</cp:lastModifiedBy>
  <dcterms:modified xsi:type="dcterms:W3CDTF">2008-05-24T18:32:08Z</dcterms:modified>
  <cp:revision>10</cp:revision>
  <dc:subject/>
  <dc:title>Cinco cosas importantes que te enseña la vida:</dc:title>
</cp:coreProperties>
</file>