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ntimate%20Liaison%20-%20E.%20Cortazar%20263%20Kb.wav" ContentType="audio/x-wav"/>
  <Override PartName="/ppt/media/image4.gif" ContentType="image/gif"/>
  <Override PartName="/ppt/media/chimes.wav" ContentType="audio/x-wav"/>
  <Override PartName="/ppt/media/image3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Intimate%20Liaison%20-%20E.%20Cortazar%20263%20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916280" cy="249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04000" y="0"/>
            <a:ext cx="2124000" cy="19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981000"/>
            <a:ext cx="8424720" cy="413064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Hoje  é   </a:t>
            </a:r>
            <a:fld id="{D58DAF1E-FE60-451D-A686-F9DF98E807B3}" type="datetime2"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sexta-feira, 31 de julho de 20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Agora  neste momento  são   </a:t>
            </a:r>
            <a:fld id="{14683A83-AE3B-4CB3-A53E-05A1DABB4494}" type="datetime10"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16:41</a:t>
            </a:fld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 h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Relaxe  por  alguns  inst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e curta esta linda mensagem !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Intimate%20Liaison%20-%20E.%20Cortazar%20263%20K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1066680"/>
            <a:ext cx="33116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rá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e recebo de volt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34178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304920"/>
            <a:ext cx="3124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zer um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é um Dom,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2971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er um amig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é uma Graç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666880"/>
            <a:ext cx="39625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rvar um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 uma Virtude,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343400"/>
            <a:ext cx="312444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s, ter  VOC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omo amigo(a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alo a sério!!!!!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5181480"/>
            <a:ext cx="29718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..É uma Honra!!!!!"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52480"/>
            <a:ext cx="3886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UM GRANDE BEIJ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09708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40384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mos brincar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OGO DO CORAÇÃ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3429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 esse cor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429000"/>
            <a:ext cx="7010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15 pessoas que você tem certeza que gostam de você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876920"/>
            <a:ext cx="8610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se você estiver dentro do coração delas e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ão que enviar esse coração de volta pra você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990720"/>
            <a:ext cx="4343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mos 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 quantos co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cê está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6200" y="3733920"/>
            <a:ext cx="3445920" cy="17128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CÊ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á está no meu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181480"/>
            <a:ext cx="2438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BE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68760" cy="34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io</cp:lastModifiedBy>
  <dcterms:modified xsi:type="dcterms:W3CDTF">2007-05-15T02:02:52Z</dcterms:modified>
  <cp:revision>3</cp:revision>
  <dc:subject/>
  <dc:title>Slide 1</dc:title>
</cp:coreProperties>
</file>