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4.jpeg" ContentType="image/jpeg"/>
  <Override PartName="/ppt/media/image25.jpeg" ContentType="image/jpeg"/>
  <Override PartName="/ppt/media/image3.jpeg" ContentType="image/jpeg"/>
  <Override PartName="/ppt/media/image26.jpeg" ContentType="image/jpeg"/>
  <Override PartName="/ppt/media/image2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A0C8-559A-4D1A-A579-E0627DA4B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0958-08F4-40D2-B360-D1214BBD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534A-117F-4C3D-AA37-A47192E69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44B2-7DA4-463D-B8B6-3D659E3BA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382F-FBAE-45B5-B760-EAD0D043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4E1D-5847-4C82-86B1-B2BB7270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72DE-C738-4029-AB60-0261AE62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ACF5-239D-4C23-8738-DA9C18E9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0D03-ED69-4EC8-B46C-FD1256C9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41D1-D84C-4606-BFAF-77D53B16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455E-3B0C-4F35-8A87-3A89FB9C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2971-911A-4B67-ADC4-5F5FFEFD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C0A2-A073-4FEF-BF12-9A2B95D82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692280"/>
            <a:ext cx="8532720" cy="61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queçam lá o dia da Mulher!!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rque os homens também merecem..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r homem é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0920" y="404640"/>
            <a:ext cx="38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esviar os olhos do decote da secretária, que se faz distraída 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ixa a blusa desabotoada até ao umbigo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984920" y="333360"/>
            <a:ext cx="3600360" cy="5256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3672000" cy="4951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64000" y="595008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er a obrigação de ser um atleta sexu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24000" y="333360"/>
            <a:ext cx="403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er a suspeita de que ela, com to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queles suspiros e gemidos, só est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tentar incentivar-nos 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3816360" cy="29685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564000" y="5734080"/>
            <a:ext cx="52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Ouvir um NÃO, virar para o lado conformado e dormir, apesar da vontade de partir o quarto todo e fazer um escândalo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356000" y="2060640"/>
            <a:ext cx="445788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9640" y="1052640"/>
            <a:ext cx="820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 Ter de ouvi-la dizer que está sem roupa, quando o problema é onde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locar novos armários para guardar mais roupa  ;</a:t>
            </a:r>
            <a:br>
              <a:rPr sz="1800"/>
            </a:b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 Ter de almoçar aos domingos na casa dos sogros, discutir política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m aquele velho reaça, tratar bem os sobrinhos,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62120" y="3049560"/>
            <a:ext cx="4314600" cy="3237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africano-americano, &#10;  família,   dizendo, &#10;  graça,   jantar, &#10;  sala. fotosearch &#10;- busca de fotos, &#10;imagens e clipart"/>
          <p:cNvPicPr/>
          <p:nvPr/>
        </p:nvPicPr>
        <p:blipFill>
          <a:blip r:embed="rId2"/>
          <a:stretch/>
        </p:blipFill>
        <p:spPr>
          <a:xfrm>
            <a:off x="5292720" y="3500280"/>
            <a:ext cx="285768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24000" y="1484280"/>
            <a:ext cx="8569080" cy="52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 Controlar-se para não olhar para o decote da irmã dela e não arrea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m arraial de porrada ao irmão dela, sacana do caraças que vem sempre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edir dinheiro emprestado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pois Elas ainda acham que é fácil, só porque NÃO TEMOS O PERÍOD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979640" y="2349360"/>
            <a:ext cx="4032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24000" y="907920"/>
            <a:ext cx="842472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ande este mail a todos os seus amigos, eles merecem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 a todas as suas amigas... aquelas que v/ ache que têm  poder de encaixe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TOOOOOOOOOO!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916360" y="4005360"/>
            <a:ext cx="331308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68360" y="333360"/>
            <a:ext cx="8424720" cy="66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sculpem estar a estragar o mail, mas falta uma coisa muito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mportante que acontecia e ainda acontece a quem usa calç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m fecho em vez de botões,</a:t>
            </a:r>
            <a:br>
              <a:rPr sz="1800"/>
            </a:b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 Entalar a gaita na porcaria do fecho. São duas dores...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É o entalanço e depois abrir o fecho outra vez..... 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stão a ver. Ter um filho só custa no parto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00000" y="3213000"/>
            <a:ext cx="3289320" cy="2467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716360" y="3284640"/>
            <a:ext cx="361944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333360"/>
            <a:ext cx="59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 tortura de ter de usar fato e gravata no Verão 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3913200" cy="4923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076720" y="5516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entir a dor física de uma bolada nos tomates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356000" y="1268280"/>
            <a:ext cx="453096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5280" y="26028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oucura que é fingir indiferença diante de uma mulher sem souti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347508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364000" y="333360"/>
            <a:ext cx="2830680" cy="5337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284720" y="551664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 A loucura de resistir olhar para umas belas  pernas com uma mini-sa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5280" y="90792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 O suplício de fazer a barba todos os dias 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3306960" cy="4529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651640" y="404640"/>
            <a:ext cx="3098520" cy="5042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716360" y="5734080"/>
            <a:ext cx="41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O desespero das cuecas apertad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95280" y="476280"/>
            <a:ext cx="52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Ir à praia com a sua mulher e resistir olhar para aquele mulherã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está deitada ao 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4762440" cy="3981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292720" y="5373720"/>
            <a:ext cx="36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Viver sob o permanente risco de ter de andar à porrada com outro homem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260280"/>
            <a:ext cx="547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igiar o grelhador no churrasco ao fim de seman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nquanto todos se divertem 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4032360" cy="4103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716360" y="595008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er sempre de resolver os problemas do carr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72000" y="2781360"/>
            <a:ext cx="435780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95280" y="105264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er de reparar na roupa nova dela;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3029040" cy="4537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219640" y="1125360"/>
            <a:ext cx="3272040" cy="4307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643280" y="5734080"/>
            <a:ext cx="42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er de reparar que ela mudou de perfu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0920" y="47628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 Ter de reparar que ela mudou a tinta do cabelo de media 713 para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731 loiro/bege 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64000" y="260280"/>
            <a:ext cx="3497400" cy="5667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3960720" cy="4376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572000" y="6165720"/>
            <a:ext cx="43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er de reparar que ela cortou o cabelo, mesmo que seja só 1c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95280" y="26028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 de jamais reparar que ela está com um pouco de celuli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140360" y="2133720"/>
            <a:ext cx="4827600" cy="3321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3543480" cy="5239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572000" y="566100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 Ter de jamais dizer que ela engordou, mesmo que seja a pura verdade 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4:21:44Z</dcterms:created>
  <dc:creator/>
  <dc:description/>
  <dc:language>en-US</dc:language>
  <cp:lastModifiedBy>@</cp:lastModifiedBy>
  <dcterms:modified xsi:type="dcterms:W3CDTF">2008-03-24T23:13:11Z</dcterms:modified>
  <cp:revision>5</cp:revision>
  <dc:subject/>
  <dc:title>Diapositivo 1</dc:title>
</cp:coreProperties>
</file>