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770-09AE-46E0-892A-E4E5A041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8B0-AD65-43CE-B137-F876F2C8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1D7-B217-43C4-B0AC-18C6BE57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286-1AD6-4B3D-AD43-16C8C2FA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4EC-7D87-4921-BCE7-668D563D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215-C4E7-4E40-B27C-0C06C04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F66-183F-4517-98E4-39564774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5CC-CC16-4AC6-A1D6-167AF56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3B2-5F9B-4712-A419-5404B85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1ED-9B91-486A-A900-051A4DF5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0D2-2F8C-4C82-8A7E-117372E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A98-F049-4D1F-A9D7-96EE64A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B95E-A343-4008-885A-F69E7B41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92280"/>
            <a:ext cx="853272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queçam lá o dia da Mulher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que os homens também merecem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 homem 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404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sviar os olhos do decote da secretária, que se faz distraída 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ixa a blusa desabotoada até ao umbig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84920" y="333360"/>
            <a:ext cx="360036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672000" cy="495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64000" y="5950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a obrigação de ser um atleta sex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333360"/>
            <a:ext cx="40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r a suspeita de que ela, com to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queles suspiros e gemidos, só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tentar incentivar-nos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816360" cy="2968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64000" y="573408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uvir um NÃO, virar para o lado conformado e dormir, apesar da vontade de partir o quarto todo e fazer um escândal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4578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10526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ouvi-la dizer que está sem roupa, quando o problema é ond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locar novos armários para guardar mais roupa  ;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almoçar aos domingos na casa dos sogros, discutir polític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aquele velho reaça, tratar bem os sobrinhos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3049560"/>
            <a:ext cx="4314600" cy="3237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africano-americano, &#10;  família,   dizendo, &#10;  graça,   jantar, &#10;  sala. fotosearch &#10;- busca de fotos, &#10;imagens e clipart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484280"/>
            <a:ext cx="856908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ontrolar-se para não olhar para o decote da irmã dela e não arrear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arraial de porrada ao irmão dela, sacana do caraças que vem sempre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edir dinheiro emprestad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pois Elas ainda acham que é fácil, só porque NÃO TEMOS O PERÍO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907920"/>
            <a:ext cx="84247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nde este mail a todos os seus amigos, eles merecem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 a todas as suas amigas... aquelas que v/ ache que têm  poder de encaixe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LTOOOOOOOOOO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331308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333360"/>
            <a:ext cx="842472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esculpem estar a estragar o mail, mas falta uma coisa muit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mportante que acontecia e ainda acontece a quem usa cal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m fecho em vez de botões,</a:t>
            </a:r>
            <a:br>
              <a:rPr sz="1800"/>
            </a:b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Entalar a gaita na porcaria do fecho. São duas dores..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É o entalanço e depois abrir o fecho outra vez.....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ão a ver. Ter um filho só custa no part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328932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619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3336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tortura de ter de usar fato e gravata no Verão 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913200" cy="492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76720" y="5516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ntir a dor física de uma bolada nos tomat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5309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ucura que é fingir indiferença diante de uma mulher sem sout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7508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64000" y="333360"/>
            <a:ext cx="2830680" cy="533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5516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A loucura de resistir olhar para umas belas  pernas com uma mini-sa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907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O suplício de fazer a barba todos os dias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306960" cy="4529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3098520" cy="504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5734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 desespero das cuecas apert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7628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r à praia com a sua mulher e resistir olhar para aquele mulherã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stá deitada ao 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762440" cy="398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2720" y="537372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iver sob o permanente risco de ter de andar à porrada com outro homem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260280"/>
            <a:ext cx="54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igiar o grelhador no churrasco ao fim de sema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nquanto todos se divertem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03236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6360" y="59500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sempre de resolver os problemas do car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3578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052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de reparar na roupa nova dela;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029040" cy="453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272040" cy="4307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de reparar que ela mudou de perfu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7628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reparar que ela mudou a tinta do cabelo de media 713 para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31 loiro/bege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64000" y="260280"/>
            <a:ext cx="3497400" cy="5667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960720" cy="437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0" y="616572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r de reparar que ela cortou o cabelo, mesmo que seja só 1c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de jamais reparar que ela está com um pouco de celuli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827600" cy="332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543480" cy="5239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0" y="5661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Ter de jamais dizer que ela engordou, mesmo que seja a pura verdade 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21:44Z</dcterms:created>
  <dc:creator/>
  <dc:description/>
  <dc:language>en-US</dc:language>
  <cp:lastModifiedBy>@</cp:lastModifiedBy>
  <dcterms:modified xsi:type="dcterms:W3CDTF">2008-03-24T23:13:11Z</dcterms:modified>
  <cp:revision>5</cp:revision>
  <dc:subject/>
  <dc:title>Diapositivo 1</dc:title>
</cp:coreProperties>
</file>