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1605-5D5B-46BE-808B-6C45F4BB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0260-33A2-4347-AE36-0EE1AF70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0192-BD7E-4CCF-B635-E976F841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F2BC-56A1-4DE4-8E63-282503EC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559C-8564-4359-9B20-0C63BA7D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924-8373-4809-B425-892501FE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21F-F862-4ABE-A9C3-BC96C245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424-E005-4F39-9406-B92BD029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98F4-2A93-4583-AB34-BF9B6750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44F7-C881-4028-AB5A-616CA488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781-E5A3-4654-AA4B-0FFBC088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C9A-ECC9-4BA6-9ED4-520826AA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86A6-501B-411D-9D64-ACA572453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 Unicode MS"/>
              </a:rPr>
              <a:t>Teste para Intelig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35640" y="4005360"/>
            <a:ext cx="3213000" cy="2565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2181240" cy="1847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2160" y="1844640"/>
            <a:ext cx="60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R: Obtiveste 5000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É que a resposta certa é mesmo 4100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Não acreditas??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Dah... Vá, faz a conta na calculador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Decididamente, hoje não é o teu dia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Talvez acertes a última pergunta, certo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04400" y="1868400"/>
            <a:ext cx="544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Última pergun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O pai da Maria tem cinco filh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Nana, 2. Nene, 3. Nini, 4.No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Qual é o nome da quinta filh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02560" y="1940040"/>
            <a:ext cx="491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R: Nunu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NÃO! Claro que nã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O nome dela é Ma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Lê a pergunta de novo, bronco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56200" y="2421000"/>
            <a:ext cx="729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Vá lá, esta é fácil para saíres daqui bem-dispos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or isso que é a pergunta de bónus..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13760" y="1681200"/>
            <a:ext cx="727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Pergunta de Bónus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Um mudo quer comprar uma escova de d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o imitar o movimento que se faz ao escovar os dentes, conse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fazer-se entender, e assim, o dono da loja, percebendo o cli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vende o produto pretend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gora, tens um cego que quer comprar uns óculos escuros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Como se deve exprimir ao vendedor da loj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03840" y="2077920"/>
            <a:ext cx="763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R: Abre a boca e pede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Não é preciso tirar um curso para saber isto, certo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Eh eh eh eh eh eh eh eh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50280" y="2155680"/>
            <a:ext cx="734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TENHAM ESTE E-MAIL A RO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FRUSTRAR OS "INTELIGENTES" DA VIDA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04760" y="1768320"/>
            <a:ext cx="80582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Em baixo estão 4 perguntas mais uma de bónu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ens que responder instantane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Não podes levar tempo a pensar, responde logo. O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Vamos descobrir se realmente és tão inteligente co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ens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reparad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7120" y="1868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8880" y="1916280"/>
            <a:ext cx="6487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1ª Pergunta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Estás a participar numa corrida. Ultrapas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o segundo concorr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Em que lugar estás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66760" y="1868400"/>
            <a:ext cx="7228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R: Se respondeste que estavas em 1º lug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estás absolutamente errado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 ultrapassares o 2º concorrente, tiras-lhe o lugar, logo estás em 2º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enta não errares esta pergunta, vá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98160" y="2565360"/>
            <a:ext cx="709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ara responder a esta pergunta, não leves ta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empo como levaste na primeira..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71320" y="1940040"/>
            <a:ext cx="725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2ª Pergun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 ultrapassares o último concorrente da corri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então estás em... 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6200" y="2133720"/>
            <a:ext cx="810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R: Se respondeste que estavas em penúltimo, ent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desta vez estás completamente errado (eh eh) de no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A sério, como podes ultrapassar o último concorr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Bookman Old Style"/>
              </a:rPr>
              <a:t>se ele era o último?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32000" y="2349360"/>
            <a:ext cx="72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Não és muito bom neste tipo de questõ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ois não?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1773360"/>
            <a:ext cx="8745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ª Pergun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atemática complicadíssima... Não podes usar calculadora 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apel e caneta, utiliza apenas a cabecinha... Faz um esforço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ega em 1000 e soma-lhe 4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gora soma mais 1000. Agora soma 30. Soma mais 1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gora adiciona 20.Volta a juntar 100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oma mais 10. Qual é o total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7:11:02Z</dcterms:created>
  <dc:creator>Alice Oliveira Gomes</dc:creator>
  <dc:description/>
  <dc:language>en-US</dc:language>
  <cp:lastModifiedBy>Patricia Soares</cp:lastModifiedBy>
  <dcterms:modified xsi:type="dcterms:W3CDTF">2007-10-10T15:27:03Z</dcterms:modified>
  <cp:revision>5</cp:revision>
  <dc:subject/>
  <dc:title>Teste para Inteligentes</dc:title>
</cp:coreProperties>
</file>