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fart.wav" ContentType="audio/x-wav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692-8184-4559-B382-2A854C4D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501-E8AA-4D97-8E8E-38D64518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9D8-40DD-48B5-A925-97695D2B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68B-62D4-48EC-8F42-71A005FB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F653-9303-4918-88A7-BFDA2C3B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F6EA-AF8D-47C0-BEE2-0C774B5F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D47D-D58F-4976-8DC4-083C455E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6B30-9CFE-49BF-B993-49232DBC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7C2F-2AD8-4FD6-8925-A8803154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260E-4AE1-4344-AEF2-857881DF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14F4-CC05-472C-8428-0679F09E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AA9-B9B5-4B32-BE01-A0A7D719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76E9-5A08-4C25-B604-4EA3941F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E783-2362-4099-849C-F03A496C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E5D3-1E36-4661-8518-441AE2B5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982C-8056-4B16-BCC5-D0BF3C9D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E39F-A744-4B2E-B91F-B1F78A49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8F5-C1B9-44E7-AA77-A55E031C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CCB-7BF2-46C1-83DA-7EEB88C9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374-4AD0-4DA9-AA4B-7C4D5968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E9A-EF02-4DD3-8D75-F98AB303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3B5-580F-47DF-B181-CF950E05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4DB-591B-43AA-BAF0-0284B15D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2C7-A04F-4B1D-AB01-036D1170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E460-C8CE-4A77-834D-648C9DDAAC0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FAA-B9CB-4628-8067-F3CCE8B0A28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audio" Target="../media/fart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47640" y="56196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1. APROXIME-SE A CERCA DE  10 CM DO MONITOR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2. FIXAR O PONTO VERMELHO DO CENTRO DURANTE ALGUNS SEGUND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3. VERÁ ENTÃO A IMAGEM MISTERIOSA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23960" y="1969920"/>
            <a:ext cx="7619760" cy="4582800"/>
            <a:chOff x="723960" y="1969920"/>
            <a:chExt cx="7619760" cy="4582800"/>
          </a:xfrm>
        </p:grpSpPr>
        <p:grpSp>
          <p:nvGrpSpPr>
            <p:cNvPr id="84" name=""/>
            <p:cNvGrpSpPr/>
            <p:nvPr/>
          </p:nvGrpSpPr>
          <p:grpSpPr>
            <a:xfrm>
              <a:off x="729000" y="1974600"/>
              <a:ext cx="7608960" cy="4572720"/>
              <a:chOff x="729000" y="1974600"/>
              <a:chExt cx="7608960" cy="4572720"/>
            </a:xfrm>
          </p:grpSpPr>
          <p:sp>
            <p:nvSpPr>
              <p:cNvPr id="85" name=""/>
              <p:cNvSpPr/>
              <p:nvPr/>
            </p:nvSpPr>
            <p:spPr>
              <a:xfrm>
                <a:off x="729000" y="1974600"/>
                <a:ext cx="7608960" cy="457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====]]\\\\\///////*****&lt;&lt;&lt;&lt;&lt;&lt;&lt;{}{}{}{}{}{}{}{}{}%%%%~~~~~~~~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 ////////^^!~~~~~::---))))*****+++@@@@@@@@&lt;%||||||@@@@@444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+=+=****&amp;^"""""""}}}}}}}]]]]]]]&lt;&lt;&lt;&lt;&lt;&lt;&lt;%%{{{{{{===**++++**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***++++++++++++++?????????????/////////////%||||||@@@@@444+=+=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****&amp;^"""""""}}}}}}}]]]]]]]&lt;&lt;&lt;&lt;&lt;&lt;&lt;%%////////^^!~~~~~::---))))*****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+++@@@@@@@@&lt;%||||||@@@@@444+=+=****&amp;^"""""""}}}}}}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}]]]]]]]&lt;&lt;&lt;&lt;&lt;&lt;&lt;%%////////^^!~~~~~::---))))*****+++@@@@@@@@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&lt;%/%||||||@@@@@444+=+=***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.</a:t>
                </a: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&amp;^"""""""}}}}}}}]]]]]]]&lt;&lt;&lt;&lt;&lt;&lt;&lt;%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%{{{{{{===**++++*****++++++++++++++?????????????/////////////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====]]\\\\\///////*****&lt;&lt;&lt;&lt;&lt;&lt;&lt;{}{}{}{}{}{}{}{}{}%%%%~~~~~~~~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 ////////^^!~~~~~::---))))*****+++@@@@@@@@&lt;%||||||@@@@@444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+=+=****&amp;^"""""""}}}}}}}]]]]]]]&lt;&lt;&lt;&lt;&lt;&lt;&lt;%%{{{{{{===**++++**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***++++++++++++++?????????????/////////////%||||||@@@@@444+=+=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****&amp;^"""""""}}}}}}}]]]]]]]&lt;&lt;&lt;&lt;&lt;&lt;&lt;%%////////^^!~~~~~::---))))*****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+++@@@@@@@@&lt;%||||||@@@@@444+=+=****&amp;^"""""""}}}}}}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}]]]]]]]&lt;&lt;&lt;&lt;&lt;&lt;&lt;%%////////^^!~~~~~::---))))*****+++@@@@@@@@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&lt;%/%||||||@@@@@444+=+=****&amp;^"""""""}}}}}}}]]]]]]]&lt;&lt;&lt;&lt;&lt;&lt;&lt;%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80"/>
                    </a:solidFill>
                    <a:latin typeface="Times New Roman"/>
                  </a:rPr>
                  <a:t>%{{{{{{===**++++*****++++++++++++++?????????????/////////////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29000" y="1974600"/>
                <a:ext cx="7608960" cy="4572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723960" y="1969920"/>
              <a:ext cx="7619760" cy="4582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752480" y="152280"/>
            <a:ext cx="537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LUSÃO de ÓPTICA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ixe de ser curioso(a) e regresse ao trabalho!...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71800" y="1905120"/>
            <a:ext cx="2477880" cy="4383000"/>
            <a:chOff x="2971800" y="1905120"/>
            <a:chExt cx="2477880" cy="4383000"/>
          </a:xfrm>
        </p:grpSpPr>
        <p:grpSp>
          <p:nvGrpSpPr>
            <p:cNvPr id="92" name=""/>
            <p:cNvGrpSpPr/>
            <p:nvPr/>
          </p:nvGrpSpPr>
          <p:grpSpPr>
            <a:xfrm>
              <a:off x="2976480" y="1909800"/>
              <a:ext cx="2468520" cy="4373640"/>
              <a:chOff x="2976480" y="1909800"/>
              <a:chExt cx="2468520" cy="4373640"/>
            </a:xfrm>
          </p:grpSpPr>
          <p:sp>
            <p:nvSpPr>
              <p:cNvPr id="93" name=""/>
              <p:cNvSpPr/>
              <p:nvPr/>
            </p:nvSpPr>
            <p:spPr>
              <a:xfrm>
                <a:off x="2976480" y="1909800"/>
                <a:ext cx="2468520" cy="43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  </a:t>
                </a:r>
                <a:r>
                  <a:rPr b="0" lang="en-US" sz="23300" spc="-1" strike="noStrike">
                    <a:solidFill>
                      <a:srgbClr val="333333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                                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76480" y="1909800"/>
                <a:ext cx="2468520" cy="437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971800" y="1905120"/>
              <a:ext cx="2477880" cy="4383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248520"/>
            <a:ext cx="914400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569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400800" cy="6058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 flipH="1" rot="16957800">
            <a:off x="7740360" y="530064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32000" y="223920"/>
            <a:ext cx="6192720" cy="3914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92160" y="4653000"/>
            <a:ext cx="9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Segoe UI"/>
              </a:rPr>
              <a:t>Você acha que eu não ia repassar? Kakakakakak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Segoe UI"/>
              </a:rPr>
              <a:t>Se eu caí, que caiam todos os amigos! Kakakakak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Segoe UI"/>
              </a:rPr>
              <a:t>Fiquei igual a uma idiota bem próxima do monitor! Kakakak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37:51Z</dcterms:created>
  <dc:creator>FIANÇA - DPTO. CONTABILIDADE</dc:creator>
  <dc:description/>
  <dc:language>en-US</dc:language>
  <cp:lastModifiedBy>Mylene</cp:lastModifiedBy>
  <dcterms:modified xsi:type="dcterms:W3CDTF">2009-08-13T13:01:03Z</dcterms:modified>
  <cp:revision>33</cp:revision>
  <dc:subject/>
  <dc:title>Apresentação do PowerPoint</dc:title>
</cp:coreProperties>
</file>