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fart.wav" ContentType="audio/x-wav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5EA-FCC9-43E4-AB48-E523258A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BEB-656B-444F-B666-12DDAAF0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EDA-2EFF-4CBB-8901-2E2E1A1C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64D-A358-4306-97CE-1DB1F205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7D84-1FED-4120-BDA2-05B0091D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758-E4BB-40E0-9EFC-1C7921ED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E741-26CD-4CCD-93D1-5E1D48AA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D372-6E23-4BE8-841D-9165EB3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E40C-04D1-480E-A26C-74D97F7B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5F0D-790A-45B8-85E3-C16B3F44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79F3-9CD0-4A77-B337-4151D55E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B7F-DAF2-4931-9FFE-E3EBC7B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150A-04AC-41A0-A26B-94F7EF17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1E50-D4F2-4B08-BCF0-5F3E2199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3CA2-2FE6-44FC-8848-C68E9428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74C0-327A-41D3-93CC-87B69847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BB44-4E52-4A1F-B2B3-611C2E4F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D43-CD2B-47C2-AC72-CA729D71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F0F-0973-4CA3-B686-3349E4DB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CEB-A65F-4F69-849B-CF0D9F15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B82-B09A-4BC7-9573-36E0A62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E71-76D4-41D5-A3A3-A182D980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158-FA54-4A2B-8A59-E01D78E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81A-53CA-4428-B3D4-AF8A2F1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D1A0-CA14-466B-B11C-41310429BAA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1313-1AF3-493E-80BC-BD07CA84BBB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audio" Target="../media/fart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47640" y="5619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1. APROXIME-SE A CERCA DE  10 CM DO MONITOR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2. FIXAR O PONTO VERMELHO DO CENTRO DURANTE ALGUNS SEGUND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3. VERÁ ENTÃO A IMAGEM MISTERIOSA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23960" y="1969920"/>
            <a:ext cx="7619760" cy="4582800"/>
            <a:chOff x="723960" y="1969920"/>
            <a:chExt cx="7619760" cy="4582800"/>
          </a:xfrm>
        </p:grpSpPr>
        <p:grpSp>
          <p:nvGrpSpPr>
            <p:cNvPr id="84" name=""/>
            <p:cNvGrpSpPr/>
            <p:nvPr/>
          </p:nvGrpSpPr>
          <p:grpSpPr>
            <a:xfrm>
              <a:off x="729000" y="1974600"/>
              <a:ext cx="7608960" cy="4572720"/>
              <a:chOff x="729000" y="1974600"/>
              <a:chExt cx="7608960" cy="4572720"/>
            </a:xfrm>
          </p:grpSpPr>
          <p:sp>
            <p:nvSpPr>
              <p:cNvPr id="85" name=""/>
              <p:cNvSpPr/>
              <p:nvPr/>
            </p:nvSpPr>
            <p:spPr>
              <a:xfrm>
                <a:off x="729000" y="1974600"/>
                <a:ext cx="7608960" cy="45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====]]\\\\\///////*****&lt;&lt;&lt;&lt;&lt;&lt;&lt;{}{}{}{}{}{}{}{}{}%%%%~~~~~~~~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 ////////^^!~~~~~::---))))*****+++@@@@@@@@&lt;%||||||@@@@@444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+=+=****&amp;^"""""""}}}}}}}]]]]]]]&lt;&lt;&lt;&lt;&lt;&lt;&lt;%%{{{{{{===**++++**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***++++++++++++++?????????????/////////////%||||||@@@@@444+=+=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****&amp;^"""""""}}}}}}}]]]]]]]&lt;&lt;&lt;&lt;&lt;&lt;&lt;%%////////^^!~~~~~::---))))*****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+++@@@@@@@@&lt;%||||||@@@@@444+=+=****&amp;^"""""""}}}}}}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}]]]]]]]&lt;&lt;&lt;&lt;&lt;&lt;&lt;%%////////^^!~~~~~::---))))*****+++@@@@@@@@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&lt;%/%||||||@@@@@444+=+=***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.</a:t>
                </a: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&amp;^"""""""}}}}}}}]]]]]]]&lt;&lt;&lt;&lt;&lt;&lt;&lt;%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%{{{{{{===**++++*****++++++++++++++?????????????/////////////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====]]\\\\\///////*****&lt;&lt;&lt;&lt;&lt;&lt;&lt;{}{}{}{}{}{}{}{}{}%%%%~~~~~~~~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 ////////^^!~~~~~::---))))*****+++@@@@@@@@&lt;%||||||@@@@@444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+=+=****&amp;^"""""""}}}}}}}]]]]]]]&lt;&lt;&lt;&lt;&lt;&lt;&lt;%%{{{{{{===**++++**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***++++++++++++++?????????????/////////////%||||||@@@@@444+=+=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****&amp;^"""""""}}}}}}}]]]]]]]&lt;&lt;&lt;&lt;&lt;&lt;&lt;%%////////^^!~~~~~::---))))*****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+++@@@@@@@@&lt;%||||||@@@@@444+=+=****&amp;^"""""""}}}}}}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}]]]]]]]&lt;&lt;&lt;&lt;&lt;&lt;&lt;%%////////^^!~~~~~::---))))*****+++@@@@@@@@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&lt;%/%||||||@@@@@444+=+=****&amp;^"""""""}}}}}}}]]]]]]]&lt;&lt;&lt;&lt;&lt;&lt;&lt;%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%{{{{{{===**++++*****++++++++++++++?????????????/////////////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29000" y="1974600"/>
                <a:ext cx="7608960" cy="4572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23960" y="1969920"/>
              <a:ext cx="7619760" cy="4582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752480" y="152280"/>
            <a:ext cx="537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LUSÃO de ÓPTICA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ixe de ser curioso(a) e regresse ao trabalho!...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71800" y="1905120"/>
            <a:ext cx="2477880" cy="4383000"/>
            <a:chOff x="2971800" y="1905120"/>
            <a:chExt cx="2477880" cy="4383000"/>
          </a:xfrm>
        </p:grpSpPr>
        <p:grpSp>
          <p:nvGrpSpPr>
            <p:cNvPr id="92" name=""/>
            <p:cNvGrpSpPr/>
            <p:nvPr/>
          </p:nvGrpSpPr>
          <p:grpSpPr>
            <a:xfrm>
              <a:off x="2976480" y="1909800"/>
              <a:ext cx="2468520" cy="4373640"/>
              <a:chOff x="2976480" y="1909800"/>
              <a:chExt cx="2468520" cy="4373640"/>
            </a:xfrm>
          </p:grpSpPr>
          <p:sp>
            <p:nvSpPr>
              <p:cNvPr id="93" name=""/>
              <p:cNvSpPr/>
              <p:nvPr/>
            </p:nvSpPr>
            <p:spPr>
              <a:xfrm>
                <a:off x="2976480" y="1909800"/>
                <a:ext cx="2468520" cy="43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0" lang="en-US" sz="23300" spc="-1" strike="noStrike">
                    <a:solidFill>
                      <a:srgbClr val="333333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                                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76480" y="1909800"/>
                <a:ext cx="2468520" cy="437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971800" y="1905120"/>
              <a:ext cx="2477880" cy="4383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248520"/>
            <a:ext cx="914400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569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400800" cy="6058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 flipH="1" rot="16957800">
            <a:off x="7740360" y="530064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32000" y="223920"/>
            <a:ext cx="6192720" cy="3914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92160" y="4653000"/>
            <a:ext cx="9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Segoe UI"/>
              </a:rPr>
              <a:t>Você acha que eu não ia repassar? Kakakakakak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Segoe UI"/>
              </a:rPr>
              <a:t>Se eu caí, que caiam todos os amigos! Kakakakak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Segoe UI"/>
              </a:rPr>
              <a:t>Fiquei igual a uma idiota bem próxima do monitor! Kakakak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37:51Z</dcterms:created>
  <dc:creator>FIANÇA - DPTO. CONTABILIDADE</dc:creator>
  <dc:description/>
  <dc:language>en-US</dc:language>
  <cp:lastModifiedBy>Mylene</cp:lastModifiedBy>
  <dcterms:modified xsi:type="dcterms:W3CDTF">2009-08-13T13:01:03Z</dcterms:modified>
  <cp:revision>33</cp:revision>
  <dc:subject/>
  <dc:title>Apresentação do PowerPoint</dc:title>
</cp:coreProperties>
</file>