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gif" ContentType="image/gif"/>
  <Override PartName="/ppt/media/image8.jpeg" ContentType="image/jpeg"/>
  <Override PartName="/ppt/media/image7.gif" ContentType="image/gif"/>
  <Override PartName="/ppt/media/image12.jpeg" ContentType="image/jpeg"/>
  <Override PartName="/ppt/media/image6.png" ContentType="image/png"/>
  <Override PartName="/ppt/media/image5.gif" ContentType="image/gif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gif" ContentType="image/gif"/>
  <Override PartName="/ppt/media/image3.jpeg" ContentType="image/jpeg"/>
  <Override PartName="/ppt/media/image16.jpeg" ContentType="image/jpeg"/>
  <Override PartName="/ppt/media/image13.gif" ContentType="image/gif"/>
  <Override PartName="/ppt/media/DEUS%20EST%C3%81%20Aqui%20-%20J.Antonio-Saxs.wav" ContentType="audio/x-wav"/>
  <Override PartName="/ppt/media/image1.png" ContentType="image/png"/>
  <Override PartName="/ppt/media/image19.gif" ContentType="image/gi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4CB-4D8A-4495-A111-24D43ADC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036-BE89-4092-8B39-2E2C1D9C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2C80-B883-4780-87FC-10D59996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CE5-7AA7-4D97-BDEA-D915CBF2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B67-F2C3-4684-87B3-331F58D1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18E-9863-4B05-9ABF-B91B51A6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77A-BB53-439B-A3CC-E9E5127C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C6FB-A7D2-4911-B4F7-657A0148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BAF-7203-4D0C-9FA4-42496433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8594-B9C6-4056-B7BD-C346E122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CEA-D96E-4C13-9E1C-E493459C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A67-33D4-4855-BD0E-F3240A8B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A0E8-3673-490D-A805-E88273347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DEUS%20EST&#193;%20Aqui%20-%20J.Antonio-Sax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547640" y="1413000"/>
            <a:ext cx="64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O TEMPO DE 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DEUS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03280" y="1125360"/>
            <a:ext cx="633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quela noite fui salvo duas vezes e, para nunca mais m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quecer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pre que vou até piscina molho o dedão do pé antes. Deus tem um plano na vida de cada um de nós e não adian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ermos apressar, ou retardar as coisas, poi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do acontecerá no seu devido tempo e esse tempo é o temp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 e não o nosso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47628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asse, alguém pode esta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cisando ler este texto hoje!!!!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3196440"/>
            <a:ext cx="78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orqu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EUS amou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ao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undo de tal maneira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que deu o seu Filho unigênito, para que todo aquele que Nele crê não pereça, mas tenha a vida eterna”. João 3:16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..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1413000"/>
            <a:ext cx="72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m excelente nadador tinha o costume de correr até a água 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 molha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mente o dedão do pé antes de qualquer mergulho. Algu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rigado com aquel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ortamento, lhe perguntou qual a razão daquele hábi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564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dador sorri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eu: Há alguns anos eu era um professor de natação.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 os ensinava a nadar e a saltar do trampolim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rta noite, eu não conseguia dormir, e fui até a piscin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nadar um pouc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497800" cy="626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55640" y="83664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ão acendi a luz, pois a lua brilhava através do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to de vidr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clube. Quando eu estava no trampolim, vi minha sombra n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ede da frente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 os braços abertos, minha imagem formava uma magnífic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uz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6191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765000"/>
            <a:ext cx="73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 vez de saltar, fiquei ali parado, contemplando minha imagem.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sse momento pensei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cruz de Jesus Cristo e em seu significado. Eu não era um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stão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 quando criança aprendi que Jesus tinha morrido na cruz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no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lvar pelo seu precioso sangue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6264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836640"/>
            <a:ext cx="7777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aquele momento as palavras daquele ensinamento me vieram a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nte 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fizeram recordar do que eu havia aprendido sobre a mort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 Jesu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18440" cy="6048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5640" y="620640"/>
            <a:ext cx="7561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Não sei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quanto tempo fiquei ali parado com os braços estendidos.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inalmente desci do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ampolim e fui até a escada para mergulhar na água.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esci a escada e meus pés tocaram o piso duro e liso do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undo da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iscina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9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218440" cy="6120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58920" y="1341360"/>
            <a:ext cx="669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iam esvaziado a piscina e eu não tinha percebido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mi todo, e senti um calafrio na espinha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 eu tivesse saltado seria meu último salto. Naquela noi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image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 cruz na parede salvou a minha vid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569080" cy="6337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1280" y="83664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quei tão agradecido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Deus, qu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joelhei na beira da piscina, confessei os meus pecados e m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treguei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Ele, consciente de que foi exatamente em uma cruz qu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esus morreu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ra me salvar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7T11:14:41Z</dcterms:created>
  <dc:creator>altair</dc:creator>
  <dc:description/>
  <dc:language>en-US</dc:language>
  <cp:lastModifiedBy>José P.Franciss</cp:lastModifiedBy>
  <dcterms:modified xsi:type="dcterms:W3CDTF">2008-03-09T12:04:59Z</dcterms:modified>
  <cp:revision>5</cp:revision>
  <dc:subject/>
  <dc:title>Slide 1</dc:title>
</cp:coreProperties>
</file>