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gif" ContentType="image/gif"/>
  <Override PartName="/ppt/media/image8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5.gif" ContentType="image/gif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gif" ContentType="image/gif"/>
  <Override PartName="/ppt/media/image3.jpeg" ContentType="image/jpeg"/>
  <Override PartName="/ppt/media/image16.jpeg" ContentType="image/jpeg"/>
  <Override PartName="/ppt/media/image13.gif" ContentType="image/gif"/>
  <Override PartName="/ppt/media/DEUS%20EST%C3%81%20Aqui%20-%20J.Antonio-Saxs.wav" ContentType="audio/x-wav"/>
  <Override PartName="/ppt/media/image1.png" ContentType="image/png"/>
  <Override PartName="/ppt/media/image19.gif" ContentType="image/gi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BA7-23C1-400F-8B16-4225CD11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7AF-A42D-409F-9467-EBF08395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ED6-C102-4B85-89B0-A5B5AD12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56B-2AF8-46E9-9E59-BD59A7E0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180-7A1A-4B5F-B411-7A014F43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87C-FAA6-4907-97C7-4089016C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D92-746D-4CE6-826B-534ED541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3FD-2D75-4E51-A03A-5B140CA9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8A1-F0D3-4F91-80D8-D39A9963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4CC-B8F7-49CA-B7E5-B8988632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EF4-40FF-444E-BDBD-B87EC4A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6A6-7358-45C8-89DB-7A80A070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4BF4-5443-48D6-B0F7-4B0B907E2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EUS%20EST&#193;%20Aqui%20-%20J.Antonio-Sax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547640" y="141300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O TEMPO DE 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DEUS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1125360"/>
            <a:ext cx="63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quela noite fui salvo duas vezes e, para nunca mais m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ce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pre que vou até piscina molho o dedão do pé antes. Deus tem um plano na vida de cada um de nós e não adian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ermos apressar, ou retardar as coisas, poi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do acontecerá no seu devido tempo e esse tempo é o temp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 e não o nosso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47628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asse, alguém pode esta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cisando ler este texto hoje!!!!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3196440"/>
            <a:ext cx="78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orqu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US amou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a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undo de tal maneira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que deu o seu Filho unigênito, para que todo aquele que Nele crê não pereça, mas tenha a vida eterna”. João 3:16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..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1413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m excelente nadador tinha o costume de correr até a água 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molha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nte o dedão do pé antes de qualquer mergulho. Algu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igado com aquel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ortamento, lhe perguntou qual a razão daquele hábi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dador sorri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eu: Há alguns anos eu era um professor de natação.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 os ensinava a nadar e a saltar do trampolim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ta noite, eu não conseguia dormir, e fui até a piscin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nadar um pouc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83664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ão acendi a luz, pois a lua brilhava através d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to de vidr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clube. Quando eu estava no trampolim, vi minha sombra n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ede da frente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 os braços abertos, minha imagem formava uma magnífic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uz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765000"/>
            <a:ext cx="73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 vez de saltar, fiquei ali parado, contemplando minha imagem.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sse momento pensei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cruz de Jesus Cristo e em seu significado. Eu não era u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stão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 quando criança aprendi que Jesus tinha morrido na cruz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n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var pelo seu precioso sangue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626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836640"/>
            <a:ext cx="7777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quele momento as palavras daquele ensinamento me vieram a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e 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fizeram recordar do que eu havia aprendido sobre a mort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 Jesu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18440" cy="604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620640"/>
            <a:ext cx="756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ão sei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quanto tempo fiquei ali parado com os braços estendidos.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inalmente desci do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mpolim e fui até a escada para mergulhar na água.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esci a escada e meus pés tocaram o piso duro e liso do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do da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iscina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9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18440" cy="612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58920" y="1341360"/>
            <a:ext cx="66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iam esvaziado a piscina e eu não tinha percebido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mi todo, e senti um calafrio na espinha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eu tivesse saltado seria meu último salto. Naquela noi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image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 cruz na parede salvou a minha vid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83664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quei tão agradecido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Deus, qu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joelhei na beira da piscina, confessei os meus pecados e m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treguei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Ele, consciente de que foi exatamente em uma cruz qu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esus morre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ra me salvar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1:14:41Z</dcterms:created>
  <dc:creator>altair</dc:creator>
  <dc:description/>
  <dc:language>en-US</dc:language>
  <cp:lastModifiedBy>José P.Franciss</cp:lastModifiedBy>
  <dcterms:modified xsi:type="dcterms:W3CDTF">2008-03-09T12:04:59Z</dcterms:modified>
  <cp:revision>5</cp:revision>
  <dc:subject/>
  <dc:title>Slide 1</dc:title>
</cp:coreProperties>
</file>