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___________Son_of_the_Light_-_Mike_Rowland6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8CF-A94D-49FE-90BF-1632BFD1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699-423C-4E7C-BDB9-E0651A89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0FA-6515-4695-A35B-7AA7611C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9EA-ADCF-4ADA-B9B4-4C455372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A37-9BF4-4CAC-8CFA-E2CF650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D38-6186-469D-B186-DA6CE8C5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8F4-F566-483F-885A-C1106CC9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7C5-B950-4DBB-B6D2-731519A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C4C-5D8C-4CB2-9591-65229F1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2FF-14E0-441A-B174-9438DEB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E71-0648-44C3-975E-9FD13E7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711-26CE-491F-B5C3-6ED8DBC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800-6E66-49C0-A36C-48C4075A44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___________Son_of_the_Light_-_Mike_Rowland6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it to your friends, so our friends and all people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reenvie-o aos seus amigos, para que, eles e toda a g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9322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G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for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ey already have.</a:t>
            </a:r>
            <a:br>
              <a:rPr sz="2400"/>
            </a:b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agradeçam a 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a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águ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 alimentos que têm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3760" y="434880"/>
            <a:ext cx="9178920" cy="598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460" r="0" b="1510"/>
          <a:stretch/>
        </p:blipFill>
        <p:spPr>
          <a:xfrm>
            <a:off x="0" y="457200"/>
            <a:ext cx="91566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29640" cy="595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94520" cy="593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one more rea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Esta é mais uma raz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895480"/>
            <a:ext cx="9144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have to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nk G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food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a qual temos que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agradecer a 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os alimentos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easi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obtemos facilment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n th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h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ronica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mas,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por outro la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…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ironicamente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 friends let this not come to you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Meus Amigos, que isto não chegue até nós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9718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til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od that w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continuamos a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estragar</a:t>
            </a: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 os alimentos que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compram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eel very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T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Sinto-me muito </a:t>
            </a:r>
            <a:r>
              <a:rPr b="0" lang="pt-PT" sz="7200" spc="-1" strike="noStrike">
                <a:solidFill>
                  <a:srgbClr val="f0e500"/>
                </a:solidFill>
                <a:latin typeface="Arial Black"/>
              </a:rPr>
              <a:t>GRA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 hav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que tenho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hoje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124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so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les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k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Somos tão </a:t>
            </a:r>
            <a:r>
              <a:rPr b="0" lang="pt-PT" sz="2400" spc="-1" strike="noStrike">
                <a:solidFill>
                  <a:srgbClr val="f0e500"/>
                </a:solidFill>
                <a:latin typeface="Arial Black"/>
              </a:rPr>
              <a:t>abençoad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o </a:t>
            </a:r>
            <a:r>
              <a:rPr b="0" lang="pt-PT" sz="3200" spc="-1" strike="noStrike">
                <a:solidFill>
                  <a:srgbClr val="f0e500"/>
                </a:solidFill>
                <a:latin typeface="Arial"/>
              </a:rPr>
              <a:t>maravilhos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trabalho 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d'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 in our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da mão de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a nos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526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think of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pense nisto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6443"/>
          <a:stretch/>
        </p:blipFill>
        <p:spPr>
          <a:xfrm>
            <a:off x="-76320" y="457200"/>
            <a:ext cx="926964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9718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 felt very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tun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live in this part of the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"Sinto-me afortunado por viver neste lado do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mun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" 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m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wil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te my food no mat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Prome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0e500"/>
                </a:solidFill>
                <a:latin typeface="Arial"/>
              </a:rPr>
              <a:t>nunc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mais desperdiçar os meus alimentos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971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can taste and how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may b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or </a:t>
            </a:r>
            <a:r>
              <a:rPr b="0" lang="pt-PT" sz="2800" spc="-1" strike="noStrike">
                <a:solidFill>
                  <a:srgbClr val="f0e500"/>
                </a:solidFill>
                <a:latin typeface="Arial Black"/>
              </a:rPr>
              <a:t>pi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les sejam, e por mais </a:t>
            </a: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chei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u estej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2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urpr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uma </a:t>
            </a:r>
            <a:r>
              <a:rPr b="0" lang="en-US" sz="6000" spc="-1" strike="noStrike">
                <a:solidFill>
                  <a:srgbClr val="f0e500"/>
                </a:solidFill>
                <a:latin typeface="Arial Black"/>
              </a:rPr>
              <a:t>surpre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89548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m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to wast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Prome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ão estragar </a:t>
            </a:r>
            <a:r>
              <a:rPr b="0" lang="pt-PT" sz="4400" spc="-1" strike="noStrike">
                <a:solidFill>
                  <a:srgbClr val="f0e500"/>
                </a:solidFill>
                <a:latin typeface="Arial"/>
              </a:rPr>
              <a:t>águ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320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pr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is little boy b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evi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0e500"/>
                </a:solidFill>
                <a:latin typeface="Arial Black"/>
              </a:rPr>
              <a:t>rez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ara que este menino seja </a:t>
            </a:r>
            <a:r>
              <a:rPr b="0" lang="pt-PT" sz="5400" spc="-1" strike="noStrike">
                <a:solidFill>
                  <a:srgbClr val="f0e500"/>
                </a:solidFill>
                <a:latin typeface="Arial"/>
              </a:rPr>
              <a:t>aliviado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no seu </a:t>
            </a: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sofrimen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40520" cy="59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9718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we will be more sensitive towards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Rez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ara que sejamos mais sensíveis perante o </a:t>
            </a: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sofrimento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2004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ound u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do </a:t>
            </a:r>
            <a:r>
              <a:rPr b="0" lang="pt-PT" sz="2800" spc="-1" strike="noStrike">
                <a:solidFill>
                  <a:srgbClr val="f0e500"/>
                </a:solidFill>
                <a:latin typeface="Arial Black"/>
              </a:rPr>
              <a:t>mun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nos rodeia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our own selfish nature and intere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não ficar </a:t>
            </a:r>
            <a:r>
              <a:rPr b="0" lang="pt-PT" sz="4000" spc="-1" strike="noStrike">
                <a:solidFill>
                  <a:srgbClr val="f0e500"/>
                </a:solidFill>
                <a:latin typeface="Arial"/>
              </a:rPr>
              <a:t>ceg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a nossa natureza egoísta e interesseir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751120"/>
            <a:ext cx="9144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picture will always serve as a reminder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Esper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stas fotos sirvam sempre para nos lembr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how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un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ar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Como somos </a:t>
            </a:r>
            <a:r>
              <a:rPr b="0" lang="pt-PT" sz="3600" spc="-1" strike="noStrike">
                <a:solidFill>
                  <a:srgbClr val="f0e500"/>
                </a:solidFill>
                <a:latin typeface="Arial"/>
              </a:rPr>
              <a:t>afortunad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048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we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ver ever take things for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n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que não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devem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unca, pensar que temos tudo de </a:t>
            </a:r>
            <a:r>
              <a:rPr b="0" lang="pt-PT" sz="3600" spc="-1" strike="noStrike">
                <a:solidFill>
                  <a:srgbClr val="f0e500"/>
                </a:solidFill>
                <a:latin typeface="Arial"/>
              </a:rPr>
              <a:t>mão beijada.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3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t'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mas sim uma</a:t>
            </a:r>
            <a:r>
              <a:rPr b="0" lang="en-US" sz="4000" spc="-1" strike="noStrike">
                <a:solidFill>
                  <a:srgbClr val="f0e500"/>
                </a:solidFill>
                <a:latin typeface="Arial"/>
              </a:rPr>
              <a:t> realida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111560" cy="591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971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&amp; look at this... when you complain about your food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od we waste daily..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Olhe e medite sobre isto...quando se queixa da sua comida, e quando a estragamos diariamente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819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ALL HUMAN BEINGS BE FREE FROM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 Black"/>
              </a:rPr>
              <a:t>QUE TODOS OS SERES HUMANOS SEJAM LIVRES DE </a:t>
            </a:r>
            <a:r>
              <a:rPr b="0" lang="en-US" sz="3600" spc="-1" strike="noStrike">
                <a:solidFill>
                  <a:srgbClr val="f0e500"/>
                </a:solidFill>
                <a:latin typeface="Arial Black"/>
              </a:rPr>
              <a:t>SOFRIM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n't break th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on forwarding it to all our frie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is good da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's make a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ny place ar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e and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friendly reminder to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Por fav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 não quebre esta corren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reenvie a todos os amigos. Hoje vamos fazer uma ora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o sofrimento, onde quer que ele esteja, neste planet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e </a:t>
            </a: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envia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ste pensamento a outr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4575"/>
          <a:stretch/>
        </p:blipFill>
        <p:spPr>
          <a:xfrm>
            <a:off x="1249200" y="0"/>
            <a:ext cx="6599520" cy="68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0e500"/>
                </a:solidFill>
                <a:latin typeface="Arial"/>
              </a:rPr>
              <a:t>A Fotografia anteri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ulitzer 1994 - Kevin C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Esta foto foi vencedora do "Prémio Pulitzer", e foi tirada em 1994, durante a grande crise de fome que avassalou o Sud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A foto mostra uma criança faminta e agonizante, que rasteja na direcção dum campo de alimentos das Nações Unidas, situado a 1km de distâ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O abutre espera que a criança morra, para a poder comer. Esta foto chocou o mundo inteiro. Ninguém sabe o que aconteceu à criança, nem mesmo o fotografo Kevin carter, que deixou o local logo que terminou a fo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Três meses mais tarde, Carter suicidou-se devido a uma depress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287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0e500"/>
                </a:solidFill>
                <a:latin typeface="Arial Black"/>
              </a:rPr>
              <a:t>POR FAV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85640"/>
            <a:ext cx="91440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 FRIEND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'T BREAK THIS CH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LY SEND IT TO SOMEONE YOU LOVE, TO ENABLE HIM OR HER SEE WHAT GOD HAS DONE IN HIS/HER LIFE COMPARED WITH THESE KIDS' DEPLORABLE COND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0e500"/>
                </a:solidFill>
                <a:latin typeface="Arial Black"/>
              </a:rPr>
              <a:t>POR FAV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MEUS BONS AMIG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NÃO QUEBREM ESTA CORRENTE 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TENHAM A BONDADE DE A REENVIAR A ALGUÉM QUE ESTIM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PARA QUE ELE/ELA VEJA O QUE DEUS FEZ NAS SUAS VID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EM COMPARAÇÃO COM AS CONDIÇÕ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DEPLORÁVEIS DESTA CRIANÇ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500"/>
                </a:solidFill>
                <a:latin typeface="Arial Black"/>
              </a:rPr>
              <a:t>FI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124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hem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ound us and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eles </a:t>
            </a:r>
            <a:r>
              <a:rPr b="0" lang="en-US" sz="2400" spc="-1" strike="noStrike">
                <a:solidFill>
                  <a:srgbClr val="f0e500"/>
                </a:solidFill>
                <a:latin typeface="Arial Black"/>
              </a:rPr>
              <a:t>vivem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à nossa vo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3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ur neighbourhood today,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no nosso bairro ho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49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hange it with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ay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podemos modificar isto com </a:t>
            </a:r>
            <a:r>
              <a:rPr b="0" lang="en-US" sz="4800" spc="-1" strike="noStrike">
                <a:solidFill>
                  <a:srgbClr val="f0e500"/>
                </a:solidFill>
                <a:latin typeface="Arial"/>
              </a:rPr>
              <a:t>orações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9480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ending a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lping h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ose in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prestando sempre </a:t>
            </a:r>
            <a:r>
              <a:rPr b="0" lang="en-US" sz="3600" spc="-1" strike="noStrike">
                <a:solidFill>
                  <a:srgbClr val="f0e500"/>
                </a:solidFill>
                <a:latin typeface="Arial Black"/>
              </a:rPr>
              <a:t>auxilio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aos que dele </a:t>
            </a: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necessit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911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eep this email to yourself, </a:t>
            </a:r>
            <a:br>
              <a:rPr sz="2400"/>
            </a:b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Não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guarde este e-mail cons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7:02:58Z</dcterms:created>
  <dc:creator>terence lee</dc:creator>
  <dc:description/>
  <dc:language>en-US</dc:language>
  <cp:lastModifiedBy>ag</cp:lastModifiedBy>
  <dcterms:modified xsi:type="dcterms:W3CDTF">2007-12-03T21:57:46Z</dcterms:modified>
  <cp:revision>7</cp:revision>
  <dc:subject/>
  <dc:title>PowerPoint Presentation</dc:title>
</cp:coreProperties>
</file>