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497-219A-4966-8F6A-9EA8A089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7B63-C9A7-4D28-8DA9-9A82BB8D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E61-C15D-4E77-A1DC-B679FAE4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E1CC-F9E6-45AD-8AA8-BB6514A4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F37-BD77-4E37-843F-0995800E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BA4B-B83A-4687-BFB5-9BD7C529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CE20-7551-4F71-AFC0-082E6453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C96-3978-4CAD-8249-FB1231DA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8C6-3629-471E-ABE3-F564569A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9A3A-8A8F-453B-A91A-B9226ED7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9BC4-9D02-4326-A353-1E3D5059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7C2-6152-4A0C-BE8B-DEE1C955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99F5-7A2D-4DBE-8A64-895B91BBF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Australian Sunrise"/>
              </a:rPr>
              <a:t>GENTE RARA II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41600" y="0"/>
            <a:ext cx="586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54320" y="0"/>
            <a:ext cx="463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37960"/>
            <a:ext cx="9144000" cy="638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89160" y="0"/>
            <a:ext cx="656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4360" y="17640"/>
            <a:ext cx="7775280" cy="68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-7920"/>
            <a:ext cx="7417080" cy="69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03520" y="0"/>
            <a:ext cx="573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60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3320" y="0"/>
            <a:ext cx="533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23760"/>
            <a:ext cx="705816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11160"/>
            <a:ext cx="7775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63720" y="0"/>
            <a:ext cx="541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2:39:44Z</dcterms:created>
  <dc:creator>Juan</dc:creator>
  <dc:description/>
  <dc:language>en-US</dc:language>
  <cp:lastModifiedBy>Juan</cp:lastModifiedBy>
  <dcterms:modified xsi:type="dcterms:W3CDTF">2007-11-30T21:46:18Z</dcterms:modified>
  <cp:revision>4</cp:revision>
  <dc:subject/>
  <dc:title>GENTE RARA I</dc:title>
</cp:coreProperties>
</file>