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2D5-38DA-4C9D-AEAA-CBB298AE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A22-561B-4E1A-9ACB-C6D25BC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296-4DD1-4AE0-8EE2-A6D50EA5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FF5-4A08-4961-83A1-D67E391F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2E2-A706-443B-890C-03A8882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CCB-DDDC-42B7-9C71-1F8089B0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2D6-8D52-4174-829C-46AE503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3BD-7A97-41F6-A6F4-9B20176E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69D-2839-4CC7-A24B-DB2E29F4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177-AD42-48FF-9378-FE0A94D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469-7861-4771-9A6B-3AB5CE7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9C3-EBC4-4FB4-B740-8486E43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2C1A-6C2A-45B4-A328-741F8900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Australian Sunrise"/>
              </a:rPr>
              <a:t>GENTE RARA II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41600" y="0"/>
            <a:ext cx="58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5432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89160" y="0"/>
            <a:ext cx="65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7640"/>
            <a:ext cx="777528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-7920"/>
            <a:ext cx="741708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3320" y="0"/>
            <a:ext cx="533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23760"/>
            <a:ext cx="70581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1160"/>
            <a:ext cx="7775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0"/>
            <a:ext cx="54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39:44Z</dcterms:created>
  <dc:creator>Juan</dc:creator>
  <dc:description/>
  <dc:language>en-US</dc:language>
  <cp:lastModifiedBy>Juan</cp:lastModifiedBy>
  <dcterms:modified xsi:type="dcterms:W3CDTF">2007-11-30T21:46:18Z</dcterms:modified>
  <cp:revision>4</cp:revision>
  <dc:subject/>
  <dc:title>GENTE RARA I</dc:title>
</cp:coreProperties>
</file>