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Andr%C3%A9%20Rieu%20-%20M%C3%A9ditat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222-BA90-42E8-AB16-020C216A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03A-9121-40D0-89C6-8B7F84E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ABF-C6CB-45CD-B8BE-43D36CF7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E8A-8D8F-4509-93AA-B05770C9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C0824-20E7-466F-8A87-AA0C7DD2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AF14F-CB78-4C56-A7B9-DA0AD45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0675F-A5BA-42A8-9D9C-C50DE3FD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5E09-3A53-42A3-879E-6AAFF85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7DCE7-0F97-46B1-B374-286DB1CE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40A03-050B-49FA-9793-E561BDC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5AFDD-88E5-43CE-ABB3-6843E37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AC0-8C30-475F-B7F1-BBA0803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2BC2A-5E2F-481A-926B-7B6754C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A8570-9DE8-4C07-9C04-C98757A2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414E6-719F-4C2B-8812-B1A92644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04E2F-501A-4BFA-BB4C-4777DC5A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A107-4297-449A-B3DC-5F30CEEB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31D3-A678-4811-A3FC-B09795C3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B810-E7A6-4BEF-BB98-1603F512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5D87-3EEF-4B09-8320-41D77D9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B7C7-4CDE-4075-934E-5107EA2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9E5A-A90D-4406-B4FF-3C6CB1F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E0B-85D0-4349-81E7-2A29B038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2533-61CD-420B-B167-88F5EB4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3083-49CC-466B-BDCB-CE7BE3F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621D-60BA-4EA9-A6C1-1AA1479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066F-7787-44A2-885E-E3D601F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DB4B-728C-40F7-A5EE-290BFD4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909C-C3DC-49BF-914F-22D4C542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35DD-B30D-47DD-A441-E41B2410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F1CEB-7D90-496F-9DDA-492CAF65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20D8D-12E7-4452-A1D9-C7B75B07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C6144-634A-4FC3-A88A-86EC5BD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66B-DB9F-4748-B2EE-B0F4D1A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CBAAD-C5A2-492D-89AC-FE31E1D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D1EB9-6F38-4267-B5D9-8674260F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E1650-C6A7-4147-B2FD-325D56F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026C6-02AF-4C7C-8753-D266F7A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2CBEC-0CE4-4A8F-A1BE-A695549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90467-050E-477B-9668-F4375FA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6DFBB-7214-4F88-98C1-83BB6A34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406ED-53EA-4AC2-B417-511D9F2F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127DE-B2B2-4CFD-8AFC-054D632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0CA-0E99-4068-AA26-E017FA54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CA7-9977-4C6C-983A-C200E5A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52E-E6BF-4B86-B98C-8568DA0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C10-70B1-448B-B326-0CD0AB2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FE6-C50E-4606-A16E-DD1321E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E86-F365-4CEE-BADA-5E3A7EA9FF52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6CF9-B711-47F9-AEDB-6046E6A8809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9674-D7FC-45B9-9E6D-800899B4AF3E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25C4-E44B-457D-8FDA-5B57D821588F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dr&#233;%20Rieu%20-%20M&#233;ditati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sibaltimore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Rectángulo"/>
          <p:cNvSpPr/>
          <p:nvPr/>
        </p:nvSpPr>
        <p:spPr>
          <a:xfrm>
            <a:off x="0" y="4133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Este fruto chama-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Anona ou Chirimoi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5 Imagen" descr="guanabana.jpg"/>
          <p:cNvPicPr/>
          <p:nvPr/>
        </p:nvPicPr>
        <p:blipFill>
          <a:blip r:embed="rId2"/>
          <a:stretch/>
        </p:blipFill>
        <p:spPr>
          <a:xfrm>
            <a:off x="2714760" y="285840"/>
            <a:ext cx="3786120" cy="3857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60404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em som e o avanço é autom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Andr%C3%A9%20Rieu%20-%20M%C3%A9dita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Rectángulo"/>
          <p:cNvSpPr/>
          <p:nvPr/>
        </p:nvSpPr>
        <p:spPr>
          <a:xfrm>
            <a:off x="214200" y="21420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fonte desta informação é fascinante: procede de um dos maiores fabricantes de remédios do mundo, afirmando que depois de mais de 200 provas de laboratório, realizadas a partir de 1970, as conclusões revelaram que: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destrói as células malignas em 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12</a:t>
            </a: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 tipos de câncer, incluindo as do cólon, do peito, da próstata, dos pulmões e do pâncre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2.bp.blogspot.com/_A7uge5LtAnY/RxjGjM1fc-I/AAAAAAAACdQ/XoAHFSuIngs/s400/cancer-imagen.jpg"/>
          <p:cNvPicPr/>
          <p:nvPr/>
        </p:nvPicPr>
        <p:blipFill>
          <a:blip r:embed="rId2"/>
          <a:stretch/>
        </p:blipFill>
        <p:spPr>
          <a:xfrm>
            <a:off x="3071880" y="4786200"/>
            <a:ext cx="2714400" cy="183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Rectángulo"/>
          <p:cNvSpPr/>
          <p:nvPr/>
        </p:nvSpPr>
        <p:spPr>
          <a:xfrm>
            <a:off x="214200" y="285840"/>
            <a:ext cx="8643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Instituto de Ciências da Saúde,                      L.L.C. 819 N. Charles Street Baltimore, MD  1201</a:t>
            </a:r>
            <a:br>
              <a:rPr sz="3200"/>
            </a:br>
            <a:r>
              <a:rPr b="0" lang="es-ES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hsibaltimo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4 Rectángulo"/>
          <p:cNvSpPr/>
          <p:nvPr/>
        </p:nvSpPr>
        <p:spPr>
          <a:xfrm>
            <a:off x="214200" y="535788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¡¡¡¡POR FAVOR REENVIE PARA TODOS OS SEUS CONTACTOS...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http://toxiccrow.net/home/wp-content/uploads/2010/03/cancer-child.jpg"/>
          <p:cNvPicPr/>
          <p:nvPr/>
        </p:nvPicPr>
        <p:blipFill>
          <a:blip r:embed="rId3"/>
          <a:stretch/>
        </p:blipFill>
        <p:spPr>
          <a:xfrm>
            <a:off x="4071960" y="2500200"/>
            <a:ext cx="4062240" cy="290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2.bp.blogspot.com/_A7uge5LtAnY/RxjGjM1fc-I/AAAAAAAACdQ/XoAHFSuIngs/s400/cancer-imagen.jpg"/>
          <p:cNvPicPr/>
          <p:nvPr/>
        </p:nvPicPr>
        <p:blipFill>
          <a:blip r:embed="rId4"/>
          <a:srcRect l="18424" t="0" r="18424" b="0"/>
          <a:stretch/>
        </p:blipFill>
        <p:spPr>
          <a:xfrm>
            <a:off x="928800" y="2643120"/>
            <a:ext cx="2428920" cy="2597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raduzido do Castelhano por Luís Pi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Rectángulo"/>
          <p:cNvSpPr/>
          <p:nvPr/>
        </p:nvSpPr>
        <p:spPr>
          <a:xfrm>
            <a:off x="2786040" y="428760"/>
            <a:ext cx="6143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Anona, ou seja o fruto da árvore Graviola é um produto milagroso para matar as células cancerosas. É 10,000 vezes mais potente do que a quimioterapia. ¿Porque não estamos inteirados disto? Porque há organizações  interessadas em encontrar uma versão sintética, que lhes permitam obter fabulosos luc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inglesparatodos.webs.com/img/fruitspicsvocabulary/custardapple.jpg"/>
          <p:cNvPicPr/>
          <p:nvPr/>
        </p:nvPicPr>
        <p:blipFill>
          <a:blip r:embed="rId2"/>
          <a:stretch/>
        </p:blipFill>
        <p:spPr>
          <a:xfrm>
            <a:off x="214200" y="1643040"/>
            <a:ext cx="2643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Rectángulo"/>
          <p:cNvSpPr/>
          <p:nvPr/>
        </p:nvSpPr>
        <p:spPr>
          <a:xfrm>
            <a:off x="357120" y="69228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sssim, de agora em diante, você poderá  ajudar um amigo que  necessite, fazendo-lhe saber que convém  beber sumo de anona, para  curar a enfermidade.                 O seu sabor é  agradáv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não produz os efeitos horríveis da  quimi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http://static.consumer.es/frutas/imgs/fotografias/chirimoya/recetatif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643720" y="135720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Rectángulo"/>
          <p:cNvSpPr/>
          <p:nvPr/>
        </p:nvSpPr>
        <p:spPr>
          <a:xfrm>
            <a:off x="214200" y="357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¿Quantas pessoas morrem enquanto este segredo permanece guardado a sete chaves, para não pôr em risco os lucros multimilionários de gran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mpres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peynado1.com/blog/wp-content/uploads/2010/06/Se-abre-la-primera-unidad-de-terapia-molecular-para-el-c%C3%A1ncer-en-Espa%C3%B1a.jpg"/>
          <p:cNvPicPr/>
          <p:nvPr/>
        </p:nvPicPr>
        <p:blipFill>
          <a:blip r:embed="rId2"/>
          <a:stretch/>
        </p:blipFill>
        <p:spPr>
          <a:xfrm>
            <a:off x="1571760" y="228600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Rectángulo"/>
          <p:cNvSpPr/>
          <p:nvPr/>
        </p:nvSpPr>
        <p:spPr>
          <a:xfrm>
            <a:off x="285840" y="571680"/>
            <a:ext cx="8572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Convém saber que a árvore das anonas é de pequeno porte. Não ocupa muito  espaço. Conhece-se pelo nome de  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RAVIOL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 Brasil,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UANÁBAN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 hispano-americanos, e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SOURSOP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de expressão ingles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O fruto é grande e a sua polpa branca, doce, come-se directamente, ou é utilizado normalmente, para fazer  bebidas, sorvetes, doces, etc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Rectángulo"/>
          <p:cNvSpPr/>
          <p:nvPr/>
        </p:nvSpPr>
        <p:spPr>
          <a:xfrm>
            <a:off x="214200" y="28584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se tiver a possibilidade de o fazer, plante uma árvore de anonas no pátio traseiro da sua casa. Todas as suas partes são úteis.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próxima vez que quiser beber um sumo, peça um de anonas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http://t1.gstatic.com/images?q=tbn:ANd9GcQzbFD9ap1b1CJ19xSgJrH7_wkAa4bsE0h44spBbqrmCtvtH1A&amp;t=1&amp;usg=__8KgpSK2TLleOu5G1xInd2aIc_VQ="/>
          <p:cNvPicPr/>
          <p:nvPr/>
        </p:nvPicPr>
        <p:blipFill>
          <a:blip r:embed="rId2"/>
          <a:stretch/>
        </p:blipFill>
        <p:spPr>
          <a:xfrm>
            <a:off x="1571760" y="2786040"/>
            <a:ext cx="591336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Rectángulo"/>
          <p:cNvSpPr/>
          <p:nvPr/>
        </p:nvSpPr>
        <p:spPr>
          <a:xfrm>
            <a:off x="214200" y="357120"/>
            <a:ext cx="85010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nstantia"/>
              </a:rPr>
              <a:t>O interesse nesta planta deve-se aos seus fortes efeitos anti-cancerígenos. E ainda se lhe atribuem muitas mais propriedades, sendo a mais interessante o efeito que produz sobre os tumores. Está provado que esta planta é um remédio contra todos os tipos de câncer. Há mesmo quem afirme ser de grande utilidade no combate para todos os tipos de cânc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http://t1.gstatic.com/images?q=tbn:bLE5PRYgflA8_M:http://www.laverdad.es/murcia/interactivo/imagenes_del_dia/imagenes/chirimoya230906.jpg&amp;t=1"/>
          <p:cNvPicPr/>
          <p:nvPr/>
        </p:nvPicPr>
        <p:blipFill>
          <a:blip r:embed="rId2"/>
          <a:stretch/>
        </p:blipFill>
        <p:spPr>
          <a:xfrm>
            <a:off x="480960" y="4214880"/>
            <a:ext cx="2876760" cy="2193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4.bp.blogspot.com/_peArSKMd5Lc/S5ezGuQm9oI/AAAAAAAAAv0/PN4fAsK70R4/s320/chirimoya3.jpg"/>
          <p:cNvPicPr/>
          <p:nvPr/>
        </p:nvPicPr>
        <p:blipFill>
          <a:blip r:embed="rId3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Rectángulo"/>
          <p:cNvSpPr/>
          <p:nvPr/>
        </p:nvSpPr>
        <p:spPr>
          <a:xfrm>
            <a:off x="285840" y="76500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Considera-se que é um  agente anti-micróbios, de largo espectro, contra as infecções bacterianas e por fungos. É eficaz contra os parasitas internos  e vermes, baixa a tensão arterial e é um  anti-depressivo, combatendo a tensão e as desordens nerv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http://estaticos.elmundo.es/elmundosalud/especiales/2008/09/dermocosmetica/img/fotos/grandes/5_9.jpg"/>
          <p:cNvPicPr/>
          <p:nvPr/>
        </p:nvPicPr>
        <p:blipFill>
          <a:blip r:embed="rId2"/>
          <a:stretch/>
        </p:blipFill>
        <p:spPr>
          <a:xfrm>
            <a:off x="5429160" y="69696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labgeminis.com/ver_imagen.php?id_imagen=189"/>
          <p:cNvPicPr/>
          <p:nvPr/>
        </p:nvPicPr>
        <p:blipFill>
          <a:blip r:embed="rId3"/>
          <a:stretch/>
        </p:blipFill>
        <p:spPr>
          <a:xfrm>
            <a:off x="5357880" y="3929040"/>
            <a:ext cx="3390840" cy="2070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Rectángulo"/>
          <p:cNvSpPr/>
          <p:nvPr/>
        </p:nvSpPr>
        <p:spPr>
          <a:xfrm>
            <a:off x="2928960" y="376200"/>
            <a:ext cx="6000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Os  componente desta árvore  demonstraram actuar 10,000 vezes melhor, retardando o crescimento das células do câncer do que o produto  Adriamycin, uma droga quimioterapêutica, normalmente utilizada no mundo. 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 o que é </a:t>
            </a: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todavia mais assombro-so: este tipo de terapia, com o extracto  de Graviola, ou Guanábana, destrói  somente as células malignas do câncer 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não afecta as células sã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http://www.vitaminac.com.pe/images/cancer.jpg"/>
          <p:cNvPicPr/>
          <p:nvPr/>
        </p:nvPicPr>
        <p:blipFill>
          <a:blip r:embed="rId2"/>
          <a:srcRect l="7012" t="1797" r="4203" b="4903"/>
          <a:stretch/>
        </p:blipFill>
        <p:spPr>
          <a:xfrm>
            <a:off x="214200" y="928800"/>
            <a:ext cx="271476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1:40:42Z</dcterms:created>
  <dc:creator>USUARIO</dc:creator>
  <dc:description/>
  <dc:language>en-US</dc:language>
  <cp:lastModifiedBy>Win</cp:lastModifiedBy>
  <dcterms:modified xsi:type="dcterms:W3CDTF">2010-11-20T17:48:17Z</dcterms:modified>
  <cp:revision>13</cp:revision>
  <dc:subject/>
  <dc:title>Diapositiva 1</dc:title>
</cp:coreProperties>
</file>