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Andr%C3%A9%20Rieu%20-%20M%C3%A9ditation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860-A0B4-4F1D-AC3F-52251F28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0F5-6194-4F60-A347-A33FF21F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F20-F097-42AE-9BC5-D2BAE905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5F1-0D78-491C-A9C1-548130BC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760EE-F2B5-4E8B-9ABC-AF8017B3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B18A1-A450-47C3-9931-45DAF139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EBE73-BFC1-4BE5-AB63-21C67183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1AB08-E684-4868-B9D3-1DA5B088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20DC4-D5E0-4DAA-8853-27B47604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D9A48-DFDE-43BE-80F7-25E226ED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4DD29-F3B2-4F52-80CF-5061BD06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DFC-D203-47BB-ACC0-BA6199DB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AAD49-BB34-4090-8BB7-A8A4217C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A4AA8-1766-48AD-BECB-2021FF33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FFA96-26AD-40E2-B9A7-4030685B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4A160-928F-4ED2-8A59-55EF74CD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0DF84-A847-44BB-934F-E1CE33AF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F2669-6EB2-4D4A-97E6-8D2A1D4E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76525-2276-4BC3-AB23-1720D505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C7E2-2087-433C-8720-39BFB18E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C8EC-3A30-42A1-A957-4ED2109F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4F126-EB13-4ADC-83C8-1A4B9611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06E-EC87-4AB4-A0A5-9DD7ED0D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69042-27D3-4D78-8AC2-D3A93826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3F93E-4EE5-4051-8C4A-E0308B57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78563-00B6-459A-BD28-8AA68391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6AE8-317D-405B-A8A9-2D9AA5CF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4A1AF-2E9A-4076-8700-932673A2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CB26D-976B-4786-9AE8-F5BB09E5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5316-58C3-49C0-8CCD-C141FA43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89F6E-EE9A-49B0-B56F-977138F7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EFC05B-AFFC-4E21-9C38-77B52EC8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5E0ADA-DBD3-4DAD-8419-A8A912F3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D29-53FA-4708-9D76-93F4DE36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A76F63-005E-44F3-B67B-FF5497FC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76613-E461-4469-84E1-AC0E48DF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FFAF2A-6D1D-4CFB-9E8F-68E9E3BF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EFC0B6-570E-44F7-9487-7836D4F7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1A15BF-CEB7-4346-AE13-8575ADD1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7EFC9F-E12F-4D9B-ABEF-53236C29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3FA285-71DB-4102-88B4-FCE5F32D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F674D0-0260-4D2C-BECD-A0272AF8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A6C322-FB82-48A6-BB88-212272E6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141-6754-4CED-8A2A-C7C64D00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054-E415-412E-8392-4D417685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4F7-8653-4B55-A4EE-82E5ED10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7E8-4C43-4552-895C-9E6FC2A3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AE4-EAE9-4615-A774-89F80CA6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82BD-BAC3-413A-9BC8-141A2D03E6E8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AEAA-C296-41E8-93D2-1FB1F764E793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1B09-0618-49AE-ABB7-3D67F288028D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7C86-8EDF-46FD-A037-332B892195AE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ndr&#233;%20Rieu%20-%20M&#233;ditatio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sibaltimore.com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Rectángulo"/>
          <p:cNvSpPr/>
          <p:nvPr/>
        </p:nvSpPr>
        <p:spPr>
          <a:xfrm>
            <a:off x="0" y="4133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nstantia"/>
              </a:rPr>
              <a:t>Este fruto chama-se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nstantia"/>
              </a:rPr>
              <a:t>Anona ou Chirimoia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5 Imagen" descr="guanabana.jpg"/>
          <p:cNvPicPr/>
          <p:nvPr/>
        </p:nvPicPr>
        <p:blipFill>
          <a:blip r:embed="rId2"/>
          <a:stretch/>
        </p:blipFill>
        <p:spPr>
          <a:xfrm>
            <a:off x="2714760" y="285840"/>
            <a:ext cx="3786120" cy="3857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26920" y="60404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Tem som e o avanço é automá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random/>
    <p:sndAc>
      <p:stSnd>
        <p:snd r:embed="rId3" name="Andr%C3%A9%20Rieu%20-%20M%C3%A9ditatio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Rectángulo"/>
          <p:cNvSpPr/>
          <p:nvPr/>
        </p:nvSpPr>
        <p:spPr>
          <a:xfrm>
            <a:off x="214200" y="214200"/>
            <a:ext cx="85726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 fonte desta informação é fascinante: procede de um dos maiores fabricantes de remédios do mundo, afirmando que depois de mais de 200 provas de laboratório, realizadas a partir de 1970, as conclusões revelaram que: 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destrói as células malignas em </a:t>
            </a: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12</a:t>
            </a: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 tipos de câncer, incluindo as do cólon, do peito, da próstata, dos pulmões e do pâncrea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http://2.bp.blogspot.com/_A7uge5LtAnY/RxjGjM1fc-I/AAAAAAAACdQ/XoAHFSuIngs/s400/cancer-imagen.jpg"/>
          <p:cNvPicPr/>
          <p:nvPr/>
        </p:nvPicPr>
        <p:blipFill>
          <a:blip r:embed="rId2"/>
          <a:stretch/>
        </p:blipFill>
        <p:spPr>
          <a:xfrm>
            <a:off x="3071880" y="4786200"/>
            <a:ext cx="2714400" cy="1833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Rectángulo"/>
          <p:cNvSpPr/>
          <p:nvPr/>
        </p:nvSpPr>
        <p:spPr>
          <a:xfrm>
            <a:off x="214200" y="285840"/>
            <a:ext cx="86439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Instituto de Ciências da Saúde,                      L.L.C. 819 N. Charles Street Baltimore, MD  1201</a:t>
            </a:r>
            <a:br>
              <a:rPr sz="3200"/>
            </a:br>
            <a:r>
              <a:rPr b="0" lang="es-ES" sz="32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http://www.hsibaltimor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4 Rectángulo"/>
          <p:cNvSpPr/>
          <p:nvPr/>
        </p:nvSpPr>
        <p:spPr>
          <a:xfrm>
            <a:off x="214200" y="535788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¡¡¡¡POR FAVOR REENVIE PARA TODOS OS SEUS CONTACTOS...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http://toxiccrow.net/home/wp-content/uploads/2010/03/cancer-child.jpg"/>
          <p:cNvPicPr/>
          <p:nvPr/>
        </p:nvPicPr>
        <p:blipFill>
          <a:blip r:embed="rId3"/>
          <a:stretch/>
        </p:blipFill>
        <p:spPr>
          <a:xfrm>
            <a:off x="4071960" y="2500200"/>
            <a:ext cx="4062240" cy="2900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2.bp.blogspot.com/_A7uge5LtAnY/RxjGjM1fc-I/AAAAAAAACdQ/XoAHFSuIngs/s400/cancer-imagen.jpg"/>
          <p:cNvPicPr/>
          <p:nvPr/>
        </p:nvPicPr>
        <p:blipFill>
          <a:blip r:embed="rId4"/>
          <a:srcRect l="18424" t="0" r="18424" b="0"/>
          <a:stretch/>
        </p:blipFill>
        <p:spPr>
          <a:xfrm>
            <a:off x="928800" y="2643120"/>
            <a:ext cx="2428920" cy="2597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6308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Traduzido do Castelhano por Luís Pi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Rectángulo"/>
          <p:cNvSpPr/>
          <p:nvPr/>
        </p:nvSpPr>
        <p:spPr>
          <a:xfrm>
            <a:off x="2786040" y="428760"/>
            <a:ext cx="61437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 Anona, ou seja o fruto da árvore Graviola é um produto milagroso para matar as células cancerosas. É 10,000 vezes mais potente do que a quimioterapia. ¿Porque não estamos inteirados disto? Porque há organizações  interessadas em encontrar uma versão sintética, que lhes permitam obter fabulosos lucr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" descr="http://www.inglesparatodos.webs.com/img/fruitspicsvocabulary/custardapple.jpg"/>
          <p:cNvPicPr/>
          <p:nvPr/>
        </p:nvPicPr>
        <p:blipFill>
          <a:blip r:embed="rId2"/>
          <a:stretch/>
        </p:blipFill>
        <p:spPr>
          <a:xfrm>
            <a:off x="214200" y="1643040"/>
            <a:ext cx="264348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Rectángulo"/>
          <p:cNvSpPr/>
          <p:nvPr/>
        </p:nvSpPr>
        <p:spPr>
          <a:xfrm>
            <a:off x="357120" y="692280"/>
            <a:ext cx="5072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sssim, de agora em diante, você poderá  ajudar um amigo que  necessite, fazendo-lhe saber que convém  beber sumo de anona, para  curar a enfermidade.                 O seu sabor é  agradáve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e não produz os efeitos horríveis da  quimioterap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" descr="http://static.consumer.es/frutas/imgs/fotografias/chirimoya/recetatiff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643720" y="135720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Rectángulo"/>
          <p:cNvSpPr/>
          <p:nvPr/>
        </p:nvSpPr>
        <p:spPr>
          <a:xfrm>
            <a:off x="214200" y="35712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nstantia"/>
              </a:rPr>
              <a:t>¿Quantas pessoas morrem enquanto este segredo permanece guardado a sete chaves, para não pôr em risco os lucros multimilionários de gran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nstantia"/>
              </a:rPr>
              <a:t>empres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http://peynado1.com/blog/wp-content/uploads/2010/06/Se-abre-la-primera-unidad-de-terapia-molecular-para-el-c%C3%A1ncer-en-Espa%C3%B1a.jpg"/>
          <p:cNvPicPr/>
          <p:nvPr/>
        </p:nvPicPr>
        <p:blipFill>
          <a:blip r:embed="rId2"/>
          <a:stretch/>
        </p:blipFill>
        <p:spPr>
          <a:xfrm>
            <a:off x="1571760" y="2286000"/>
            <a:ext cx="6215040" cy="41432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Rectángulo"/>
          <p:cNvSpPr/>
          <p:nvPr/>
        </p:nvSpPr>
        <p:spPr>
          <a:xfrm>
            <a:off x="285840" y="571680"/>
            <a:ext cx="85723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Convém saber que a árvore das anonas é de pequeno porte. Não ocupa muito  espaço. Conhece-se pelo nome de   “</a:t>
            </a:r>
            <a:r>
              <a:rPr b="1" lang="es-ES" sz="3600" spc="-1" strike="noStrike">
                <a:solidFill>
                  <a:srgbClr val="ff0000"/>
                </a:solidFill>
                <a:latin typeface="Constantia"/>
              </a:rPr>
              <a:t>GRAVIOLA</a:t>
            </a: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” no Brasil, por “</a:t>
            </a:r>
            <a:r>
              <a:rPr b="1" lang="es-ES" sz="3600" spc="-1" strike="noStrike">
                <a:solidFill>
                  <a:srgbClr val="ff0000"/>
                </a:solidFill>
                <a:latin typeface="Constantia"/>
              </a:rPr>
              <a:t>GUANÁBANA</a:t>
            </a: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” nos países  hispano-americanos, e por “</a:t>
            </a:r>
            <a:r>
              <a:rPr b="1" lang="es-ES" sz="3600" spc="-1" strike="noStrike">
                <a:solidFill>
                  <a:srgbClr val="ff0000"/>
                </a:solidFill>
                <a:latin typeface="Constantia"/>
              </a:rPr>
              <a:t>SOURSOP</a:t>
            </a: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” nos países de expressão inglesa.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O fruto é grande e a sua polpa branca, doce, come-se directamente, ou é utilizado normalmente, para fazer  bebidas, sorvetes, doces, etc.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Rectángulo"/>
          <p:cNvSpPr/>
          <p:nvPr/>
        </p:nvSpPr>
        <p:spPr>
          <a:xfrm>
            <a:off x="214200" y="285840"/>
            <a:ext cx="871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E se tiver a possibilidade de o fazer, plante uma árvore de anonas no pátio traseiro da sua casa. Todas as suas partes são úteis. 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 próxima vez que quiser beber um sumo, peça um de anonas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http://t1.gstatic.com/images?q=tbn:ANd9GcQzbFD9ap1b1CJ19xSgJrH7_wkAa4bsE0h44spBbqrmCtvtH1A&amp;t=1&amp;usg=__8KgpSK2TLleOu5G1xInd2aIc_VQ="/>
          <p:cNvPicPr/>
          <p:nvPr/>
        </p:nvPicPr>
        <p:blipFill>
          <a:blip r:embed="rId2"/>
          <a:stretch/>
        </p:blipFill>
        <p:spPr>
          <a:xfrm>
            <a:off x="1571760" y="2786040"/>
            <a:ext cx="5913360" cy="37861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Rectángulo"/>
          <p:cNvSpPr/>
          <p:nvPr/>
        </p:nvSpPr>
        <p:spPr>
          <a:xfrm>
            <a:off x="214200" y="357120"/>
            <a:ext cx="850104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onstantia"/>
              </a:rPr>
              <a:t>O interesse nesta planta deve-se aos seus fortes efeitos anti-cancerígenos. E ainda se lhe atribuem muitas mais propriedades, sendo a mais interessante o efeito que produz sobre os tumores. Está provado que esta planta é um remédio contra todos os tipos de câncer. Há mesmo quem afirme ser de grande utilidade no combate para todos os tipos de cânc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http://t1.gstatic.com/images?q=tbn:bLE5PRYgflA8_M:http://www.laverdad.es/murcia/interactivo/imagenes_del_dia/imagenes/chirimoya230906.jpg&amp;t=1"/>
          <p:cNvPicPr/>
          <p:nvPr/>
        </p:nvPicPr>
        <p:blipFill>
          <a:blip r:embed="rId2"/>
          <a:stretch/>
        </p:blipFill>
        <p:spPr>
          <a:xfrm>
            <a:off x="480960" y="4214880"/>
            <a:ext cx="2876760" cy="2193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4.bp.blogspot.com/_peArSKMd5Lc/S5ezGuQm9oI/AAAAAAAAAv0/PN4fAsK70R4/s320/chirimoya3.jpg"/>
          <p:cNvPicPr/>
          <p:nvPr/>
        </p:nvPicPr>
        <p:blipFill>
          <a:blip r:embed="rId3"/>
          <a:stretch/>
        </p:blipFill>
        <p:spPr>
          <a:xfrm>
            <a:off x="5572080" y="4214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Rectángulo"/>
          <p:cNvSpPr/>
          <p:nvPr/>
        </p:nvSpPr>
        <p:spPr>
          <a:xfrm>
            <a:off x="285840" y="765000"/>
            <a:ext cx="5072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Considera-se que é um  agente anti-micróbios, de largo espectro, contra as infecções bacterianas e por fungos. É eficaz contra os parasitas internos  e vermes, baixa a tensão arterial e é um  anti-depressivo, combatendo a tensão e as desordens nervo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http://estaticos.elmundo.es/elmundosalud/especiales/2008/09/dermocosmetica/img/fotos/grandes/5_9.jpg"/>
          <p:cNvPicPr/>
          <p:nvPr/>
        </p:nvPicPr>
        <p:blipFill>
          <a:blip r:embed="rId2"/>
          <a:stretch/>
        </p:blipFill>
        <p:spPr>
          <a:xfrm>
            <a:off x="5429160" y="69696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www.labgeminis.com/ver_imagen.php?id_imagen=189"/>
          <p:cNvPicPr/>
          <p:nvPr/>
        </p:nvPicPr>
        <p:blipFill>
          <a:blip r:embed="rId3"/>
          <a:stretch/>
        </p:blipFill>
        <p:spPr>
          <a:xfrm>
            <a:off x="5357880" y="3929040"/>
            <a:ext cx="3390840" cy="20700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3 Rectángulo"/>
          <p:cNvSpPr/>
          <p:nvPr/>
        </p:nvSpPr>
        <p:spPr>
          <a:xfrm>
            <a:off x="2928960" y="376200"/>
            <a:ext cx="60008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nstantia"/>
              </a:rPr>
              <a:t>Os  componente desta árvore  demonstraram actuar 10,000 vezes melhor, retardando o crescimento das células do câncer do que o produto  Adriamycin, uma droga quimioterapêutica, normalmente utilizada no mundo.  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nstantia"/>
              </a:rPr>
              <a:t>E o que é </a:t>
            </a:r>
            <a:r>
              <a:rPr b="1" i="1" lang="es-ES" sz="2800" spc="-1" strike="noStrike">
                <a:solidFill>
                  <a:srgbClr val="ffffff"/>
                </a:solidFill>
                <a:latin typeface="Constantia"/>
              </a:rPr>
              <a:t>todavia mais assombro-so: este tipo de terapia, com o extracto  de Graviola, ou Guanábana, destrói  somente as células malignas do câncer 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nstantia"/>
              </a:rPr>
              <a:t>não afecta as células sã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2" descr="http://www.vitaminac.com.pe/images/cancer.jpg"/>
          <p:cNvPicPr/>
          <p:nvPr/>
        </p:nvPicPr>
        <p:blipFill>
          <a:blip r:embed="rId2"/>
          <a:srcRect l="7012" t="1797" r="4203" b="4903"/>
          <a:stretch/>
        </p:blipFill>
        <p:spPr>
          <a:xfrm>
            <a:off x="214200" y="928800"/>
            <a:ext cx="2714760" cy="50004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01:40:42Z</dcterms:created>
  <dc:creator>USUARIO</dc:creator>
  <dc:description/>
  <dc:language>en-US</dc:language>
  <cp:lastModifiedBy>Win</cp:lastModifiedBy>
  <dcterms:modified xsi:type="dcterms:W3CDTF">2010-11-20T17:48:17Z</dcterms:modified>
  <cp:revision>13</cp:revision>
  <dc:subject/>
  <dc:title>Diapositiva 1</dc:title>
</cp:coreProperties>
</file>