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8EE-198A-483D-AEFB-77CCDE47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F5F-F7AA-49C3-9D7E-134DEC3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7C1-ADEE-48A8-9677-D6DEED64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02A-40E4-4BD6-9BD3-9070CE76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00F-7C55-4D63-8734-670BAB97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3FF-0DBC-45DF-B8BD-2E496C7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55C-8450-471F-9FCF-70D57FEA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633-9777-475A-8D58-8608340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4EE-0FE9-4B68-BBC6-C5243F5A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0D4-8B3C-4021-B7A7-E261E48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D13-D9A4-47E4-82AF-32DE3EDB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5DF-5ACA-4D5F-B277-575B63E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454-199A-42B1-94ED-22A08F1F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6:24:44Z</dcterms:created>
  <dc:creator>Luis Miguel Moreira</dc:creator>
  <dc:description/>
  <dc:language>en-US</dc:language>
  <cp:lastModifiedBy>Luis Miguel Moreira</cp:lastModifiedBy>
  <dcterms:modified xsi:type="dcterms:W3CDTF">2009-07-17T16:25:27Z</dcterms:modified>
  <cp:revision>1</cp:revision>
  <dc:subject/>
  <dc:title>Diapositivo 1</dc:title>
</cp:coreProperties>
</file>