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A6A-C16B-468A-B6E2-C8313D55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C5E-6479-4596-8C30-21C3DB09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47F-B4BD-4DE9-9646-3C36FFED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5E9-037C-4D90-8AE0-8F99C05E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500-E8E7-4C51-8DAD-15ED430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084-0D0F-403A-9EF0-0075AAD9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1B0-0668-40FB-A750-1DB7ACBB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A03-6605-44E9-BD71-6392D877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D56-E420-4F2D-B18E-9A40AE8F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DC1-8BB4-489D-A2F0-29B1652C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699-3B63-415C-A5FE-480AF9A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9DE-D0FA-4F3B-8113-0B26F35E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6DA5-F2FE-404F-9278-40A7018F1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6:24:44Z</dcterms:created>
  <dc:creator>Luis Miguel Moreira</dc:creator>
  <dc:description/>
  <dc:language>en-US</dc:language>
  <cp:lastModifiedBy>Luis Miguel Moreira</cp:lastModifiedBy>
  <dcterms:modified xsi:type="dcterms:W3CDTF">2009-07-17T16:25:27Z</dcterms:modified>
  <cp:revision>1</cp:revision>
  <dc:subject/>
  <dc:title>Diapositivo 1</dc:title>
</cp:coreProperties>
</file>