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sound001.wav" ContentType="audio/x-wav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0.png" ContentType="image/pn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EB5F-1DD5-49A1-A711-0D0E5A3E8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3638-BC4F-4A08-B1EA-C5877E4E7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BE1F-7DEA-443F-89E0-60DF7B6FE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1255-E8C0-4B0D-8A8F-121E61A76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C3A4-FE22-437A-886D-93BDA08C3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EC7D-166D-41C4-9E63-F16CBBB97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2581-A1DA-4384-9922-1AA98D001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8AA6-F395-452B-8642-E77E250D2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DF4B-F2C6-4178-8F90-E4F7C02D6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4B10-2E9C-4121-A1A2-EC672CECC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37E6-1679-4318-9669-DC3BCB255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A318-D264-4EF0-9549-B512E5C1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01356AB-7F37-4547-B516-E4A1BBF9C6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sound001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8600" y="2743200"/>
            <a:ext cx="8915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O SEGREDO DA CEBOL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  <p:sndAc>
      <p:stSnd>
        <p:snd r:embed="rId2" name="sound001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1644480"/>
            <a:ext cx="8229600" cy="443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04920" y="158760"/>
            <a:ext cx="8597880" cy="16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cebola lhe ajudará e a seus entes queridos a não enfermar-se e, se gripar, esta poderia ser bem mais leve... Seja o que seja... Que tem a perder? Só uns trocados em cebolas!!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04920" y="152280"/>
            <a:ext cx="6095880" cy="12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IDE SUA SAÚ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 DA SAÚDE DE SUA FAMÍLIA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44480"/>
            <a:ext cx="8229600" cy="443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57200" y="612720"/>
            <a:ext cx="1981080" cy="23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-131760" y="5181480"/>
            <a:ext cx="317988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FAV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REENVIAR E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ENSAGEM A TO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OS SEUS CONTA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320760"/>
            <a:ext cx="82296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1646280"/>
            <a:ext cx="8229600" cy="44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81640" y="3297240"/>
            <a:ext cx="18072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5410080"/>
            <a:ext cx="9144000" cy="14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m 1919 quando a gripe matou 40 milhões de pessoas, havia um médico que visitava muitos granjeiros para ver se os podia ajudar a combater a gripe. Muitos dos granjeiros e suas famílias haviam contraído a gripe e muitos haviam morrid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44480"/>
            <a:ext cx="8229600" cy="443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486400" y="61920"/>
            <a:ext cx="3657600" cy="31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 médico chegou a uma granja e para sua surpresa, todos estavan muito saudáveis. Quando o médico lhes perguntou que coisa diferente estavam fazendo, a esposa respondeu que ela havia colocado uma cebola com cascas em um prato nas habitações do lug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308560" y="736560"/>
            <a:ext cx="3657600" cy="50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 médico não podia crer…perguntou se podiam lhe dar uma delas para colocar sob o microscóp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la lhe deu e ele encontrou o vírus na cebol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bviamente, ela havia absorvido a bactéria mantendo saudável toda a famíl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44480"/>
            <a:ext cx="8229600" cy="443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5410080"/>
            <a:ext cx="9104400" cy="18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ambém escutei outra história de minha cabelereira. Ela me contou que há vários anos muitas de suas funcionárias caiam enfermas com gripe e suas clientes também. No ano seguinte ela colocou vários pratos com cebolas no local. Para sua surpresa, ninguém de sua equipe caiu enferm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481640" y="3297240"/>
            <a:ext cx="18072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86200" y="2286000"/>
            <a:ext cx="77616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481640" y="3297240"/>
            <a:ext cx="18072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481640" y="3297240"/>
            <a:ext cx="18072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27080" y="0"/>
            <a:ext cx="9016920" cy="19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Mandei esta informação a uma amiga em Oregon, que colabora comigo regularmente com material sobre saúde. Ela me contou esta interessante experiência acerca das cebol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242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4800600"/>
            <a:ext cx="91440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Não sei sobre a história dos granjeiros porém, sei que contraí pneumonia e estive muito enferma... Topei com um artigo que dizia que deveríamos cortar ambos os extremos de uma cebola, furar com um garfo em um dos extremos e colocá-la em um prato ao lado do paciente à noite. Dizia que a cebola se tornaria negra pela manhã por conta dos germes...  Dito e feito, sucedeu tal e qual:... a cebola estava um desastre e eu comecei a sentir-me muito melhor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44480"/>
            <a:ext cx="8229600" cy="443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0"/>
            <a:ext cx="8951760" cy="18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Outra coisa que li no artigo é que cebolas e alhos disseminados nas habitações salvaram da peste negra a muitos, faz anos. Têm poderosas propriedades antibacterianas e antissépticas.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44480"/>
            <a:ext cx="8229600" cy="443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2578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-50760" y="5257800"/>
            <a:ext cx="9372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moral desta história é: compre umas cebolas com cascas e coloque-as em pratos por toda sua casa. Se trabalha em um escritório, coloque uma ou duas em sua oficina ou escritório ou em cima de algo por aí. Nós fizemos isto e nunca contraimos gri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eresa</cp:lastModifiedBy>
  <dcterms:modified xsi:type="dcterms:W3CDTF">2010-01-05T16:41:13Z</dcterms:modified>
  <cp:revision>2</cp:revision>
  <dc:subject/>
  <dc:title>Diapositiva </dc:title>
</cp:coreProperties>
</file>