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sound001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C2A-6D26-42DC-85BF-32D78A85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5EF-24E8-452F-B50F-8C3425B3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477-5B19-4FC5-9A10-2E49A678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101-8856-4D93-854D-D0B2ECA3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860-BC96-4FFF-AA05-44696010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242-90F5-443C-8E75-069EA5F9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5AB-6EFF-4422-8AB3-0FCEB8B5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8C0-F4FD-4A43-AD9C-0C4883D3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056-F587-4F2E-B815-A48E7836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C47-0E5A-4174-9DA7-B7F3FD5C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B65-C501-408F-B727-93DD1ED8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E54-3D9B-4C4C-BEFE-3F196A5A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B8359A-1514-4632-8DE7-90F0F877C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743200"/>
            <a:ext cx="8915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 SEGREDO DA CEBO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sound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158760"/>
            <a:ext cx="85978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ebola lhe ajudará e a seus entes queridos a não enfermar-se e, se gripar, esta poderia ser bem mais leve... Seja o que seja... Que tem a perder? Só uns trocados em cebolas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152280"/>
            <a:ext cx="609588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IDE SU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 DA SAÚDE DE SUA FAMÍLI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612720"/>
            <a:ext cx="198108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131760" y="5181480"/>
            <a:ext cx="31798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A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ENVIAR 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NSAGEM A 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S SEUS CONT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20760"/>
            <a:ext cx="8229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46280"/>
            <a:ext cx="822960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81640" y="3297240"/>
            <a:ext cx="180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410080"/>
            <a:ext cx="914400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 1919 quando a gripe matou 40 milhões de pessoas, havia um médico que visitava muitos granjeiros para ver se os podia ajudar a combater a gripe. Muitos dos granjeiros e suas famílias haviam contraído a gripe e muitos haviam morri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86400" y="61920"/>
            <a:ext cx="36576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 médico chegou a uma granja e para sua surpresa, todos estavan muito saudáveis. Quando o médico lhes perguntou que coisa diferente estavam fazendo, a esposa respondeu que ela havia colocado uma cebola com cascas em um prato nas habitações do lug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08560" y="736560"/>
            <a:ext cx="36576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 médico não podia crer…perguntou se podiam lhe dar uma delas para colocar sob o microscó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a lhe deu e ele encontrou o vírus na cebo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viamente, ela havia absorvido a bactéria mantendo saudável toda a famí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410080"/>
            <a:ext cx="91044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mbém escutei outra história de minha cabelereira. Ela me contou que há vários anos muitas de suas funcionárias caiam enfermas com gripe e suas clientes também. No ano seguinte ela colocou vários pratos com cebolas no local. Para sua surpresa, ninguém de sua equipe caiu enfer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81640" y="3297240"/>
            <a:ext cx="180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2286000"/>
            <a:ext cx="7761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81640" y="3297240"/>
            <a:ext cx="180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81640" y="3297240"/>
            <a:ext cx="180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7080" y="0"/>
            <a:ext cx="901692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Mandei esta informação a uma amiga em Oregon, que colabora comigo regularmente com material sobre saúde. Ela me contou esta interessante experiência acerca das cebol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800600"/>
            <a:ext cx="91440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Não sei sobre a história dos granjeiros porém, sei que contraí pneumonia e estive muito enferma... Topei com um artigo que dizia que deveríamos cortar ambos os extremos de uma cebola, furar com um garfo em um dos extremos e colocá-la em um prato ao lado do paciente à noite. Dizia que a cebola se tornaria negra pela manhã por conta dos germes...  Dito e feito, sucedeu tal e qual:... a cebola estava um desastre e eu comecei a sentir-me muito melho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8951760" cy="18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Outra coisa que li no artigo é que cebolas e alhos disseminados nas habitações salvaram da peste negra a muitos, faz anos. Têm poderosas propriedades antibacterianas e antissépticas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50760" y="5257800"/>
            <a:ext cx="9372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oral desta história é: compre umas cebolas com cascas e coloque-as em pratos por toda sua casa. Se trabalha em um escritório, coloque uma ou duas em sua oficina ou escritório ou em cima de algo por aí. Nós fizemos isto e nunca contraimos gr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resa</cp:lastModifiedBy>
  <dcterms:modified xsi:type="dcterms:W3CDTF">2010-01-05T16:41:13Z</dcterms:modified>
  <cp:revision>2</cp:revision>
  <dc:subject/>
  <dc:title>Diapositiva </dc:title>
</cp:coreProperties>
</file>