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EL%20PESCADOR.wav" ContentType="audio/x-wav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47E-02A8-428C-A3F0-756A0229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3BA-0330-43FC-866D-8CA47905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211-67A7-4041-BFEF-AC2C6B78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F54-746F-4984-95D8-0C596150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68B-2253-47C9-A7F2-A96E7F78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AF8-EB2F-4707-ABEA-30C1DCC1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366-5219-44F1-A7A9-C532AA77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284-3304-43F5-895A-231257BF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6AC-121A-4BBB-A397-F113196D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3BB-B18A-42CC-91DF-7947A98F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53E-D54F-41D0-AA7B-E4D39AE9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402-1391-4014-899C-0CDB4D68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CA09-E0E7-4B27-A35A-72114546CA6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EL%20PESCADOR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20536800">
            <a:off x="304920" y="1066320"/>
            <a:ext cx="8447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16367" dir="2987497" blurRad="0" rotWithShape="0">
                    <a:srgbClr val="3333cc"/>
                  </a:outerShdw>
                </a:effectLst>
                <a:latin typeface="Impact"/>
              </a:rPr>
              <a:t>Curioso N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16367" dir="2987497" blurRad="0" rotWithShape="0">
                  <a:srgbClr val="3333cc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419720" y="3276720"/>
            <a:ext cx="335268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TimpaniHeavy"/>
              </a:rPr>
              <a:t>13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TimpaniHeavy"/>
              <a:ea typeface="TimpaniHeavy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37372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99"/>
                </a:solidFill>
                <a:latin typeface="Academy Engraved LET"/>
              </a:rPr>
              <a:t>CLIQUE PARA MU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316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315200" cy="5462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52280" y="60199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ofreu atentado 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e 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ma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925040" cy="5943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788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" y="203040"/>
            <a:ext cx="8381880" cy="5537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28600" y="5105520"/>
            <a:ext cx="861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5943600"/>
            <a:ext cx="74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Faleceu na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r>
              <a:rPr b="1" lang="pt-BR" sz="3200" spc="-1" strike="noStrike">
                <a:solidFill>
                  <a:srgbClr val="ff0000"/>
                </a:solidFill>
                <a:latin typeface="Arial Black"/>
              </a:rPr>
              <a:t>ª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emana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e 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6228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19320" y="230040"/>
            <a:ext cx="7657920" cy="501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066680" y="53341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Quando faleceu ele tinha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85 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8+5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6861240" cy="4878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258920" y="537372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Data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 da sua morte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02.04.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0+2+0+4+2+0+0+5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7652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1720" y="304920"/>
            <a:ext cx="4124520" cy="6170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5003640" y="1341360"/>
            <a:ext cx="3886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A hora da s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m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21,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2+1+3+7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4724640" cy="6172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9280" y="1413000"/>
            <a:ext cx="3810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Ele era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265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º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pap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2+6+5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95680" y="685800"/>
            <a:ext cx="4343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5335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2362320"/>
            <a:ext cx="4343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99"/>
                </a:solidFill>
                <a:latin typeface="Arial Black"/>
              </a:rPr>
              <a:t>é o nº 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99"/>
                </a:solidFill>
                <a:latin typeface="Arial Black"/>
              </a:rPr>
              <a:t>Mar</a:t>
            </a:r>
            <a:r>
              <a:rPr b="0" lang="pt-BR" sz="4400" spc="-1" strike="noStrike">
                <a:solidFill>
                  <a:srgbClr val="003399"/>
                </a:solidFill>
                <a:latin typeface="Arial Black"/>
              </a:rPr>
              <a:t>i</a:t>
            </a:r>
            <a:r>
              <a:rPr b="0" lang="pl-PL" sz="4400" spc="-1" strike="noStrike">
                <a:solidFill>
                  <a:srgbClr val="003399"/>
                </a:solidFill>
                <a:latin typeface="Arial Black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336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30040" y="230040"/>
            <a:ext cx="6323040" cy="6066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6705720" y="152280"/>
            <a:ext cx="2286000" cy="124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Reenvie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isso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par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out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pesso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aib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iss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336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685800"/>
            <a:ext cx="7772400" cy="280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Faça um pedido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e verás o que acontecer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p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ense o que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esejas de ver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267080"/>
            <a:ext cx="784872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Diga qual é o seu ped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antes que a contagem ter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04960" y="-6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348080" cy="6248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029200" y="533520"/>
            <a:ext cx="3809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Arial Black"/>
              </a:rPr>
              <a:t>Você lembra</a:t>
            </a:r>
            <a:r>
              <a:rPr b="1" lang="pl-PL" sz="40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Arial Black"/>
              </a:rPr>
              <a:t>des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Arial Black"/>
              </a:rPr>
              <a:t>Pessoa</a:t>
            </a:r>
            <a:r>
              <a:rPr b="1" lang="pl-PL" sz="40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Arial Black"/>
              </a:rPr>
              <a:t>querida</a:t>
            </a:r>
            <a:r>
              <a:rPr b="1" lang="pl-PL" sz="4000" spc="-1" strike="noStrike">
                <a:solidFill>
                  <a:srgbClr val="003399"/>
                </a:solidFill>
                <a:latin typeface="Arial Black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10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9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8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7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6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5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4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3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2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1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2424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1720" y="455760"/>
            <a:ext cx="4164120" cy="5562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4956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8320" y="455760"/>
            <a:ext cx="3612960" cy="556092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52480" y="1219320"/>
            <a:ext cx="5257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01022" dir="2082877" blurRad="0" rotWithShape="0">
                    <a:srgbClr val="3333cc"/>
                  </a:outerShdw>
                </a:effectLst>
                <a:latin typeface="Swiss721BlkPL"/>
              </a:rPr>
              <a:t>0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01022" dir="2082877" blurRad="0" rotWithShape="0">
                  <a:srgbClr val="3333cc"/>
                </a:outerShdw>
              </a:effectLst>
              <a:latin typeface="Swiss721BlkPL"/>
              <a:ea typeface="Swiss721BlkP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251460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3399"/>
                </a:solidFill>
                <a:latin typeface="Arial Black"/>
              </a:rPr>
              <a:t>T</a:t>
            </a:r>
            <a:r>
              <a:rPr b="1" lang="pt-BR" sz="4800" spc="-1" strike="noStrike">
                <a:solidFill>
                  <a:srgbClr val="003399"/>
                </a:solidFill>
                <a:latin typeface="Arial Black"/>
              </a:rPr>
              <a:t>eu pedido</a:t>
            </a:r>
            <a:r>
              <a:rPr b="1" lang="pl-PL" sz="4800" spc="-1" strike="noStrike">
                <a:solidFill>
                  <a:srgbClr val="003399"/>
                </a:solidFill>
                <a:latin typeface="Arial Black"/>
              </a:rPr>
              <a:t>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4221000"/>
            <a:ext cx="779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 Unicode MS"/>
              </a:rPr>
              <a:t>Reenvie isso para os seus amig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 Unicode MS"/>
              </a:rPr>
              <a:t>tomara que por um mo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 Unicode MS"/>
              </a:rPr>
              <a:t>de novo eles estarão com E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54936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ffffff"/>
                </a:solidFill>
                <a:latin typeface="Academy Engraved LET"/>
              </a:rPr>
              <a:t>FI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860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2880" y="455760"/>
            <a:ext cx="4232520" cy="54892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6700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494240" y="455760"/>
            <a:ext cx="4332240" cy="5484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7925040" cy="62532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228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456760" cy="61423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950000" cy="6400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410080" y="304920"/>
            <a:ext cx="3581640" cy="39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99"/>
                </a:solidFill>
                <a:latin typeface="Arial Black"/>
              </a:rPr>
              <a:t>JAN PAWEŁ DRUGI</a:t>
            </a:r>
            <a:r>
              <a:rPr b="1" lang="pt-BR" sz="40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 Black"/>
              </a:rPr>
              <a:t>NA LÍN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Arial Black"/>
              </a:rPr>
              <a:t>POLON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 Black"/>
              </a:rPr>
              <a:t>13  l</a:t>
            </a:r>
            <a:r>
              <a:rPr b="1" lang="pt-BR" sz="4000" spc="-1" strike="noStrike">
                <a:solidFill>
                  <a:srgbClr val="ff0000"/>
                </a:solidFill>
                <a:latin typeface="Arial Black"/>
              </a:rPr>
              <a:t>et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970520" cy="6248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05520" y="762120"/>
            <a:ext cx="40384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99"/>
                </a:solidFill>
                <a:latin typeface="Arial Black"/>
              </a:rPr>
              <a:t>Tornou-se P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99"/>
                </a:solidFill>
                <a:latin typeface="Arial Black"/>
              </a:rPr>
              <a:t>tendo</a:t>
            </a:r>
            <a:r>
              <a:rPr b="0" lang="pl-PL" sz="3200" spc="-1" strike="noStrike">
                <a:solidFill>
                  <a:srgbClr val="003399"/>
                </a:solidFill>
                <a:latin typeface="Arial Black"/>
              </a:rPr>
              <a:t> 58 </a:t>
            </a:r>
            <a:r>
              <a:rPr b="0" lang="pt-BR" sz="3200" spc="-1" strike="noStrike">
                <a:solidFill>
                  <a:srgbClr val="003399"/>
                </a:solidFill>
                <a:latin typeface="Arial Black"/>
              </a:rPr>
              <a:t>anos   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99"/>
                </a:solidFill>
                <a:latin typeface="Arial Black"/>
              </a:rPr>
              <a:t>5+8 = 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216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150840"/>
            <a:ext cx="6400800" cy="4800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380880" y="51814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Seu pontificado durou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9301 d</a:t>
            </a:r>
            <a:r>
              <a:rPr b="1" lang="pt-BR" sz="3200" spc="-1" strike="noStrike">
                <a:solidFill>
                  <a:srgbClr val="003399"/>
                </a:solidFill>
                <a:latin typeface="Arial Black"/>
              </a:rPr>
              <a:t>ias</a:t>
            </a:r>
            <a:r>
              <a:rPr b="1" lang="pl-PL" sz="3200" spc="-1" strike="noStrike">
                <a:solidFill>
                  <a:srgbClr val="003399"/>
                </a:solidFill>
                <a:latin typeface="Arial Black"/>
              </a:rPr>
              <a:t> 9+3+0+1=</a:t>
            </a: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21:29:45Z</dcterms:created>
  <dc:creator>.</dc:creator>
  <dc:description/>
  <dc:language>en-US</dc:language>
  <cp:lastModifiedBy>Conde</cp:lastModifiedBy>
  <dcterms:modified xsi:type="dcterms:W3CDTF">2010-05-18T20:45:20Z</dcterms:modified>
  <cp:revision>7</cp:revision>
  <dc:subject/>
  <dc:title>Prezentacja programu PowerPoint</dc:title>
</cp:coreProperties>
</file>