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6.jpeg" ContentType="image/jpeg"/>
  <Override PartName="/ppt/media/EL%20PESCADOR.wav" ContentType="audio/x-wav"/>
  <Override PartName="/ppt/media/image3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0E6C-91D8-4CB0-8FFB-FDD9BA3AF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EDE1-7B63-4EF0-8E7A-CF089ACD5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6C8B-D7E6-43D9-8A05-79EC6E2FE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E10B-EB4D-4819-BDBA-6EB5FC218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C541-1D16-4B9B-B4E2-705D170ED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EB22-6922-4668-AF38-D2B8F68A9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5ACB-62EF-4D33-975E-F32AE7CFD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13B6-4DC1-4EE6-8953-48CA60399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DDD4-D7AD-4CA3-A531-C18F3DA4E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0E1D-432E-48EF-929B-C6530C2A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F8B7-D73C-4293-BB2E-A52B6CC8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A78C-8A2E-4AD8-9881-DC6049EA2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B7E1C-6E76-4524-B131-6FF76BAE353B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audio" Target="../media/EL%20PESCADOR.wav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 rot="20536800">
            <a:off x="304920" y="1066320"/>
            <a:ext cx="844704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216367" dir="2987497" blurRad="0" rotWithShape="0">
                    <a:srgbClr val="3333cc"/>
                  </a:outerShdw>
                </a:effectLst>
                <a:latin typeface="Impact"/>
              </a:rPr>
              <a:t>Curioso Nº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216367" dir="2987497" blurRad="0" rotWithShape="0">
                  <a:srgbClr val="3333cc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419720" y="3276720"/>
            <a:ext cx="3352680" cy="30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25751" dir="18900000" blurRad="0" rotWithShape="0">
                    <a:srgbClr val="000099"/>
                  </a:outerShdw>
                </a:effectLst>
                <a:latin typeface="TimpaniHeavy"/>
              </a:rPr>
              <a:t>13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25751" dir="18900000" blurRad="0" rotWithShape="0">
                  <a:srgbClr val="000099"/>
                </a:outerShdw>
              </a:effectLst>
              <a:latin typeface="TimpaniHeavy"/>
              <a:ea typeface="TimpaniHeavy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373720"/>
            <a:ext cx="30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99"/>
                </a:solidFill>
                <a:latin typeface="Academy Engraved LET"/>
              </a:rPr>
              <a:t>CLIQUE PARA MUD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800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4316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7315200" cy="546264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78" name=""/>
          <p:cNvSpPr/>
          <p:nvPr/>
        </p:nvSpPr>
        <p:spPr>
          <a:xfrm>
            <a:off x="152280" y="601992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99"/>
                </a:solidFill>
                <a:latin typeface="Arial Black"/>
              </a:rPr>
              <a:t>Sofreu atentado </a:t>
            </a:r>
            <a:r>
              <a:rPr b="1" lang="pl-PL" sz="3200" spc="-1" strike="noStrike">
                <a:solidFill>
                  <a:srgbClr val="003399"/>
                </a:solidFill>
                <a:latin typeface="Arial Black"/>
              </a:rPr>
              <a:t> </a:t>
            </a:r>
            <a:r>
              <a:rPr b="1" lang="pl-PL" sz="3200" spc="-1" strike="noStrike">
                <a:solidFill>
                  <a:srgbClr val="ff0000"/>
                </a:solidFill>
                <a:latin typeface="Arial Black"/>
              </a:rPr>
              <a:t>13</a:t>
            </a:r>
            <a:r>
              <a:rPr b="1" lang="pl-PL" sz="3200" spc="-1" strike="noStrike">
                <a:solidFill>
                  <a:srgbClr val="003399"/>
                </a:solidFill>
                <a:latin typeface="Arial Black"/>
              </a:rPr>
              <a:t> </a:t>
            </a:r>
            <a:r>
              <a:rPr b="1" lang="pt-BR" sz="3200" spc="-1" strike="noStrike">
                <a:solidFill>
                  <a:srgbClr val="003399"/>
                </a:solidFill>
                <a:latin typeface="Arial Black"/>
              </a:rPr>
              <a:t>de </a:t>
            </a:r>
            <a:r>
              <a:rPr b="1" lang="pl-PL" sz="3200" spc="-1" strike="noStrike">
                <a:solidFill>
                  <a:srgbClr val="003399"/>
                </a:solidFill>
                <a:latin typeface="Arial Black"/>
              </a:rPr>
              <a:t>ma</a:t>
            </a:r>
            <a:r>
              <a:rPr b="1" lang="pt-BR" sz="3200" spc="-1" strike="noStrike">
                <a:solidFill>
                  <a:srgbClr val="003399"/>
                </a:solidFill>
                <a:latin typeface="Arial Black"/>
              </a:rPr>
              <a:t>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66688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09480" y="380880"/>
            <a:ext cx="7925040" cy="594360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747880" y="22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28600" y="203040"/>
            <a:ext cx="8381880" cy="55375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28600" y="5105520"/>
            <a:ext cx="86104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5943600"/>
            <a:ext cx="74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99"/>
                </a:solidFill>
                <a:latin typeface="Arial Black"/>
              </a:rPr>
              <a:t>Faleceu na</a:t>
            </a:r>
            <a:r>
              <a:rPr b="1" lang="pl-PL" sz="3200" spc="-1" strike="noStrike">
                <a:solidFill>
                  <a:srgbClr val="003399"/>
                </a:solidFill>
                <a:latin typeface="Arial Black"/>
              </a:rPr>
              <a:t> </a:t>
            </a:r>
            <a:r>
              <a:rPr b="1" lang="pl-PL" sz="3200" spc="-1" strike="noStrike">
                <a:solidFill>
                  <a:srgbClr val="ff0000"/>
                </a:solidFill>
                <a:latin typeface="Arial Black"/>
              </a:rPr>
              <a:t>13</a:t>
            </a:r>
            <a:r>
              <a:rPr b="1" lang="pt-BR" sz="3200" spc="-1" strike="noStrike">
                <a:solidFill>
                  <a:srgbClr val="ff0000"/>
                </a:solidFill>
                <a:latin typeface="Arial Black"/>
              </a:rPr>
              <a:t>ª</a:t>
            </a:r>
            <a:r>
              <a:rPr b="1" lang="pl-PL" sz="3200" spc="-1" strike="noStrike">
                <a:solidFill>
                  <a:srgbClr val="003399"/>
                </a:solidFill>
                <a:latin typeface="Arial Black"/>
              </a:rPr>
              <a:t> </a:t>
            </a:r>
            <a:r>
              <a:rPr b="1" lang="pt-BR" sz="3200" spc="-1" strike="noStrike">
                <a:solidFill>
                  <a:srgbClr val="003399"/>
                </a:solidFill>
                <a:latin typeface="Arial Black"/>
              </a:rPr>
              <a:t>semana</a:t>
            </a:r>
            <a:r>
              <a:rPr b="1" lang="pl-PL" sz="3200" spc="-1" strike="noStrike">
                <a:solidFill>
                  <a:srgbClr val="003399"/>
                </a:solidFill>
                <a:latin typeface="Arial Black"/>
              </a:rPr>
              <a:t> </a:t>
            </a:r>
            <a:r>
              <a:rPr b="1" lang="pt-BR" sz="3200" spc="-1" strike="noStrike">
                <a:solidFill>
                  <a:srgbClr val="003399"/>
                </a:solidFill>
                <a:latin typeface="Arial Black"/>
              </a:rPr>
              <a:t>de 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76228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219320" y="230040"/>
            <a:ext cx="7657920" cy="50184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1066680" y="5334120"/>
            <a:ext cx="784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99"/>
                </a:solidFill>
                <a:latin typeface="Arial Black"/>
              </a:rPr>
              <a:t>Quando faleceu ele tinha</a:t>
            </a:r>
            <a:r>
              <a:rPr b="1" lang="pl-PL" sz="3200" spc="-1" strike="noStrike">
                <a:solidFill>
                  <a:srgbClr val="003399"/>
                </a:solidFill>
                <a:latin typeface="Arial Black"/>
              </a:rPr>
              <a:t> 85 </a:t>
            </a:r>
            <a:r>
              <a:rPr b="1" lang="pt-BR" sz="3200" spc="-1" strike="noStrike">
                <a:solidFill>
                  <a:srgbClr val="003399"/>
                </a:solidFill>
                <a:latin typeface="Arial Black"/>
              </a:rPr>
              <a:t>a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99"/>
                </a:solidFill>
                <a:latin typeface="Arial Black"/>
              </a:rPr>
              <a:t>8+5 = </a:t>
            </a:r>
            <a:r>
              <a:rPr b="1" lang="pl-PL" sz="3200" spc="-1" strike="noStrike">
                <a:solidFill>
                  <a:srgbClr val="ff0000"/>
                </a:solidFill>
                <a:latin typeface="Arial Black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43200" y="21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403280" y="404640"/>
            <a:ext cx="6861240" cy="4878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1258920" y="5373720"/>
            <a:ext cx="6934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99"/>
                </a:solidFill>
                <a:latin typeface="Arial Black"/>
              </a:rPr>
              <a:t>Data</a:t>
            </a:r>
            <a:r>
              <a:rPr b="1" lang="pt-BR" sz="3200" spc="-1" strike="noStrike">
                <a:solidFill>
                  <a:srgbClr val="003399"/>
                </a:solidFill>
                <a:latin typeface="Arial Black"/>
              </a:rPr>
              <a:t> da sua morte</a:t>
            </a:r>
            <a:r>
              <a:rPr b="1" lang="pl-PL" sz="3200" spc="-1" strike="noStrike">
                <a:solidFill>
                  <a:srgbClr val="003399"/>
                </a:solidFill>
                <a:latin typeface="Arial Black"/>
              </a:rPr>
              <a:t> 02.04.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99"/>
                </a:solidFill>
                <a:latin typeface="Arial Black"/>
              </a:rPr>
              <a:t>0+2+0+4+2+0+0+5 = </a:t>
            </a:r>
            <a:r>
              <a:rPr b="1" lang="pl-PL" sz="3200" spc="-1" strike="noStrike">
                <a:solidFill>
                  <a:srgbClr val="ff0000"/>
                </a:solidFill>
                <a:latin typeface="Arial Black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7652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31720" y="304920"/>
            <a:ext cx="4124520" cy="61704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98" name=""/>
          <p:cNvSpPr/>
          <p:nvPr/>
        </p:nvSpPr>
        <p:spPr>
          <a:xfrm>
            <a:off x="5003640" y="1341360"/>
            <a:ext cx="38862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99"/>
                </a:solidFill>
                <a:latin typeface="Arial Black"/>
              </a:rPr>
              <a:t>A hora da su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99"/>
                </a:solidFill>
                <a:latin typeface="Arial Black"/>
              </a:rPr>
              <a:t>m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99"/>
                </a:solidFill>
                <a:latin typeface="Arial Black"/>
              </a:rPr>
              <a:t>21,3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99"/>
                </a:solidFill>
                <a:latin typeface="Arial Black"/>
              </a:rPr>
              <a:t>2+1+3+7 = </a:t>
            </a:r>
            <a:r>
              <a:rPr b="1" lang="pl-PL" sz="3200" spc="-1" strike="noStrike">
                <a:solidFill>
                  <a:srgbClr val="ff0000"/>
                </a:solidFill>
                <a:latin typeface="Arial Black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267080" y="228600"/>
            <a:ext cx="4724640" cy="61722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79280" y="1413000"/>
            <a:ext cx="38102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99"/>
                </a:solidFill>
                <a:latin typeface="Arial Black"/>
              </a:rPr>
              <a:t>Ele era</a:t>
            </a:r>
            <a:r>
              <a:rPr b="1" lang="pl-PL" sz="3200" spc="-1" strike="noStrike">
                <a:solidFill>
                  <a:srgbClr val="003399"/>
                </a:solidFill>
                <a:latin typeface="Arial Black"/>
              </a:rPr>
              <a:t> 265</a:t>
            </a:r>
            <a:r>
              <a:rPr b="1" lang="pt-BR" sz="3200" spc="-1" strike="noStrike">
                <a:solidFill>
                  <a:srgbClr val="003399"/>
                </a:solidFill>
                <a:latin typeface="Arial Black"/>
              </a:rPr>
              <a:t>º</a:t>
            </a:r>
            <a:r>
              <a:rPr b="1" lang="pl-PL" sz="3200" spc="-1" strike="noStrike">
                <a:solidFill>
                  <a:srgbClr val="003399"/>
                </a:solidFill>
                <a:latin typeface="Arial Black"/>
              </a:rPr>
              <a:t> pap</a:t>
            </a:r>
            <a:r>
              <a:rPr b="1" lang="pt-BR" sz="3200" spc="-1" strike="noStrike">
                <a:solidFill>
                  <a:srgbClr val="003399"/>
                </a:solidFill>
                <a:latin typeface="Arial Black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99"/>
                </a:solidFill>
                <a:latin typeface="Arial Black"/>
              </a:rPr>
              <a:t>2+6+5 = </a:t>
            </a:r>
            <a:r>
              <a:rPr b="1" lang="pl-PL" sz="3200" spc="-1" strike="noStrike">
                <a:solidFill>
                  <a:srgbClr val="ff0000"/>
                </a:solidFill>
                <a:latin typeface="Arial Black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495680" y="685800"/>
            <a:ext cx="43434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648320" y="53352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 Black"/>
              </a:rPr>
              <a:t>13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495680" y="2362320"/>
            <a:ext cx="43434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99"/>
                </a:solidFill>
                <a:latin typeface="Arial Black"/>
              </a:rPr>
              <a:t>é o nº 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99"/>
                </a:solidFill>
                <a:latin typeface="Arial Black"/>
              </a:rPr>
              <a:t>Mar</a:t>
            </a:r>
            <a:r>
              <a:rPr b="0" lang="pt-BR" sz="4400" spc="-1" strike="noStrike">
                <a:solidFill>
                  <a:srgbClr val="003399"/>
                </a:solidFill>
                <a:latin typeface="Arial Black"/>
              </a:rPr>
              <a:t>i</a:t>
            </a:r>
            <a:r>
              <a:rPr b="0" lang="pl-PL" sz="4400" spc="-1" strike="noStrike">
                <a:solidFill>
                  <a:srgbClr val="003399"/>
                </a:solidFill>
                <a:latin typeface="Arial Black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533680" y="140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30040" y="230040"/>
            <a:ext cx="6323040" cy="606600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sp>
        <p:nvSpPr>
          <p:cNvPr id="109" name=""/>
          <p:cNvSpPr/>
          <p:nvPr/>
        </p:nvSpPr>
        <p:spPr>
          <a:xfrm>
            <a:off x="6705720" y="152280"/>
            <a:ext cx="2286000" cy="124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99"/>
                </a:solidFill>
                <a:latin typeface="Arial Black"/>
              </a:rPr>
              <a:t>Reenvie</a:t>
            </a:r>
            <a:r>
              <a:rPr b="1" lang="pl-PL" sz="3200" spc="-1" strike="noStrike">
                <a:solidFill>
                  <a:srgbClr val="003399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99"/>
                </a:solidFill>
                <a:latin typeface="Arial Black"/>
              </a:rPr>
              <a:t>isso</a:t>
            </a:r>
            <a:r>
              <a:rPr b="1" lang="pl-PL" sz="3200" spc="-1" strike="noStrike">
                <a:solidFill>
                  <a:srgbClr val="003399"/>
                </a:solidFill>
                <a:latin typeface="Arial Black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99"/>
                </a:solidFill>
                <a:latin typeface="Arial Black"/>
              </a:rPr>
              <a:t>par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99"/>
                </a:solidFill>
                <a:latin typeface="Arial Black"/>
              </a:rPr>
              <a:t>out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99"/>
                </a:solidFill>
                <a:latin typeface="Arial Black"/>
              </a:rPr>
              <a:t>pesso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99"/>
                </a:solidFill>
                <a:latin typeface="Arial Black"/>
              </a:rPr>
              <a:t>saib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99"/>
                </a:solidFill>
                <a:latin typeface="Arial Black"/>
              </a:rPr>
              <a:t>diss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33680" y="140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685800"/>
            <a:ext cx="7772400" cy="280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99"/>
                </a:solidFill>
                <a:latin typeface="Arial Black"/>
              </a:rPr>
              <a:t>Faça um pedido</a:t>
            </a:r>
            <a:r>
              <a:rPr b="1" lang="pl-PL" sz="3200" spc="-1" strike="noStrike">
                <a:solidFill>
                  <a:srgbClr val="003399"/>
                </a:solidFill>
                <a:latin typeface="Arial Black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99"/>
                </a:solidFill>
                <a:latin typeface="Arial Black"/>
              </a:rPr>
              <a:t>e verás o que acontecer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99"/>
                </a:solidFill>
                <a:latin typeface="Arial Black"/>
              </a:rPr>
              <a:t>p</a:t>
            </a:r>
            <a:r>
              <a:rPr b="1" lang="pt-BR" sz="3200" spc="-1" strike="noStrike">
                <a:solidFill>
                  <a:srgbClr val="003399"/>
                </a:solidFill>
                <a:latin typeface="Arial Black"/>
              </a:rPr>
              <a:t>ense o que</a:t>
            </a:r>
            <a:r>
              <a:rPr b="1" lang="pl-PL" sz="3200" spc="-1" strike="noStrike">
                <a:solidFill>
                  <a:srgbClr val="003399"/>
                </a:solidFill>
                <a:latin typeface="Arial Black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99"/>
                </a:solidFill>
                <a:latin typeface="Arial Black"/>
              </a:rPr>
              <a:t>desejas de verda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4267080"/>
            <a:ext cx="7848720" cy="132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99"/>
                </a:solidFill>
                <a:latin typeface="Arial Black"/>
              </a:rPr>
              <a:t>Diga qual é o seu ped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99"/>
                </a:solidFill>
                <a:latin typeface="Arial Black"/>
              </a:rPr>
              <a:t>antes que a contagem term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04960" y="-6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4348080" cy="62481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48" name=""/>
          <p:cNvSpPr/>
          <p:nvPr/>
        </p:nvSpPr>
        <p:spPr>
          <a:xfrm>
            <a:off x="5029200" y="533520"/>
            <a:ext cx="38098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3399"/>
                </a:solidFill>
                <a:latin typeface="Arial Black"/>
              </a:rPr>
              <a:t>Você lembra</a:t>
            </a:r>
            <a:r>
              <a:rPr b="1" lang="pl-PL" sz="4000" spc="-1" strike="noStrike">
                <a:solidFill>
                  <a:srgbClr val="003399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3399"/>
                </a:solidFill>
                <a:latin typeface="Arial Black"/>
              </a:rPr>
              <a:t>des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3399"/>
                </a:solidFill>
                <a:latin typeface="Arial Black"/>
              </a:rPr>
              <a:t>Pessoa</a:t>
            </a:r>
            <a:r>
              <a:rPr b="1" lang="pl-PL" sz="4000" spc="-1" strike="noStrike">
                <a:solidFill>
                  <a:srgbClr val="003399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3399"/>
                </a:solidFill>
                <a:latin typeface="Arial Black"/>
              </a:rPr>
              <a:t>querida</a:t>
            </a:r>
            <a:r>
              <a:rPr b="1" lang="pl-PL" sz="4000" spc="-1" strike="noStrike">
                <a:solidFill>
                  <a:srgbClr val="003399"/>
                </a:solidFill>
                <a:latin typeface="Arial Black"/>
              </a:rPr>
              <a:t>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752480" y="1219320"/>
            <a:ext cx="525780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201022" dir="2082877" blurRad="0" rotWithShape="0">
                    <a:srgbClr val="3333cc"/>
                  </a:outerShdw>
                </a:effectLst>
                <a:latin typeface="Swiss721BlkPL"/>
              </a:rPr>
              <a:t>10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201022" dir="2082877" blurRad="0" rotWithShape="0">
                  <a:srgbClr val="3333cc"/>
                </a:outerShdw>
              </a:effectLst>
              <a:latin typeface="Swiss721BlkPL"/>
              <a:ea typeface="Swiss721BlkP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752480" y="1219320"/>
            <a:ext cx="525780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201022" dir="2082877" blurRad="0" rotWithShape="0">
                    <a:srgbClr val="3333cc"/>
                  </a:outerShdw>
                </a:effectLst>
                <a:latin typeface="Swiss721BlkPL"/>
              </a:rPr>
              <a:t>9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201022" dir="2082877" blurRad="0" rotWithShape="0">
                  <a:srgbClr val="3333cc"/>
                </a:outerShdw>
              </a:effectLst>
              <a:latin typeface="Swiss721BlkPL"/>
              <a:ea typeface="Swiss721BlkP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752480" y="1219320"/>
            <a:ext cx="525780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201022" dir="2082877" blurRad="0" rotWithShape="0">
                    <a:srgbClr val="3333cc"/>
                  </a:outerShdw>
                </a:effectLst>
                <a:latin typeface="Swiss721BlkPL"/>
              </a:rPr>
              <a:t>8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201022" dir="2082877" blurRad="0" rotWithShape="0">
                  <a:srgbClr val="3333cc"/>
                </a:outerShdw>
              </a:effectLst>
              <a:latin typeface="Swiss721BlkPL"/>
              <a:ea typeface="Swiss721BlkP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752480" y="1219320"/>
            <a:ext cx="525780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201022" dir="2082877" blurRad="0" rotWithShape="0">
                    <a:srgbClr val="3333cc"/>
                  </a:outerShdw>
                </a:effectLst>
                <a:latin typeface="Swiss721BlkPL"/>
              </a:rPr>
              <a:t>7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201022" dir="2082877" blurRad="0" rotWithShape="0">
                  <a:srgbClr val="3333cc"/>
                </a:outerShdw>
              </a:effectLst>
              <a:latin typeface="Swiss721BlkPL"/>
              <a:ea typeface="Swiss721BlkP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752480" y="1219320"/>
            <a:ext cx="525780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201022" dir="2082877" blurRad="0" rotWithShape="0">
                    <a:srgbClr val="3333cc"/>
                  </a:outerShdw>
                </a:effectLst>
                <a:latin typeface="Swiss721BlkPL"/>
              </a:rPr>
              <a:t>6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201022" dir="2082877" blurRad="0" rotWithShape="0">
                  <a:srgbClr val="3333cc"/>
                </a:outerShdw>
              </a:effectLst>
              <a:latin typeface="Swiss721BlkPL"/>
              <a:ea typeface="Swiss721BlkP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752480" y="1219320"/>
            <a:ext cx="525780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201022" dir="2082877" blurRad="0" rotWithShape="0">
                    <a:srgbClr val="3333cc"/>
                  </a:outerShdw>
                </a:effectLst>
                <a:latin typeface="Swiss721BlkPL"/>
              </a:rPr>
              <a:t>5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201022" dir="2082877" blurRad="0" rotWithShape="0">
                  <a:srgbClr val="3333cc"/>
                </a:outerShdw>
              </a:effectLst>
              <a:latin typeface="Swiss721BlkPL"/>
              <a:ea typeface="Swiss721BlkP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752480" y="1219320"/>
            <a:ext cx="525780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201022" dir="2082877" blurRad="0" rotWithShape="0">
                    <a:srgbClr val="3333cc"/>
                  </a:outerShdw>
                </a:effectLst>
                <a:latin typeface="Swiss721BlkPL"/>
              </a:rPr>
              <a:t>4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201022" dir="2082877" blurRad="0" rotWithShape="0">
                  <a:srgbClr val="3333cc"/>
                </a:outerShdw>
              </a:effectLst>
              <a:latin typeface="Swiss721BlkPL"/>
              <a:ea typeface="Swiss721BlkP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752480" y="1219320"/>
            <a:ext cx="525780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201022" dir="2082877" blurRad="0" rotWithShape="0">
                    <a:srgbClr val="3333cc"/>
                  </a:outerShdw>
                </a:effectLst>
                <a:latin typeface="Swiss721BlkPL"/>
              </a:rPr>
              <a:t>3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201022" dir="2082877" blurRad="0" rotWithShape="0">
                  <a:srgbClr val="3333cc"/>
                </a:outerShdw>
              </a:effectLst>
              <a:latin typeface="Swiss721BlkPL"/>
              <a:ea typeface="Swiss721BlkP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752480" y="1219320"/>
            <a:ext cx="525780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201022" dir="2082877" blurRad="0" rotWithShape="0">
                    <a:srgbClr val="3333cc"/>
                  </a:outerShdw>
                </a:effectLst>
                <a:latin typeface="Swiss721BlkPL"/>
              </a:rPr>
              <a:t>2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201022" dir="2082877" blurRad="0" rotWithShape="0">
                  <a:srgbClr val="3333cc"/>
                </a:outerShdw>
              </a:effectLst>
              <a:latin typeface="Swiss721BlkPL"/>
              <a:ea typeface="Swiss721BlkP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752480" y="1219320"/>
            <a:ext cx="525780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201022" dir="2082877" blurRad="0" rotWithShape="0">
                    <a:srgbClr val="3333cc"/>
                  </a:outerShdw>
                </a:effectLst>
                <a:latin typeface="Swiss721BlkPL"/>
              </a:rPr>
              <a:t>1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201022" dir="2082877" blurRad="0" rotWithShape="0">
                  <a:srgbClr val="3333cc"/>
                </a:outerShdw>
              </a:effectLst>
              <a:latin typeface="Swiss721BlkPL"/>
              <a:ea typeface="Swiss721BlkP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324240" y="17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31720" y="455760"/>
            <a:ext cx="4164120" cy="556236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3495600" y="177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648320" y="455760"/>
            <a:ext cx="3612960" cy="5560920"/>
          </a:xfrm>
          <a:prstGeom prst="rect">
            <a:avLst/>
          </a:prstGeom>
          <a:ln w="57240">
            <a:solidFill>
              <a:srgbClr val="3333cc"/>
            </a:solidFill>
            <a:miter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752480" y="1219320"/>
            <a:ext cx="525780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201022" dir="2082877" blurRad="0" rotWithShape="0">
                    <a:srgbClr val="3333cc"/>
                  </a:outerShdw>
                </a:effectLst>
                <a:latin typeface="Swiss721BlkPL"/>
              </a:rPr>
              <a:t>0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201022" dir="2082877" blurRad="0" rotWithShape="0">
                  <a:srgbClr val="3333cc"/>
                </a:outerShdw>
              </a:effectLst>
              <a:latin typeface="Swiss721BlkPL"/>
              <a:ea typeface="Swiss721BlkP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90720" y="2514600"/>
            <a:ext cx="6781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003399"/>
                </a:solidFill>
                <a:latin typeface="Arial Black"/>
              </a:rPr>
              <a:t>T</a:t>
            </a:r>
            <a:r>
              <a:rPr b="1" lang="pt-BR" sz="4800" spc="-1" strike="noStrike">
                <a:solidFill>
                  <a:srgbClr val="003399"/>
                </a:solidFill>
                <a:latin typeface="Arial Black"/>
              </a:rPr>
              <a:t>eu pedido</a:t>
            </a:r>
            <a:r>
              <a:rPr b="1" lang="pl-PL" sz="4800" spc="-1" strike="noStrike">
                <a:solidFill>
                  <a:srgbClr val="003399"/>
                </a:solidFill>
                <a:latin typeface="Arial Black"/>
              </a:rPr>
              <a:t> 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7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20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71640" y="4221000"/>
            <a:ext cx="77961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 Unicode MS"/>
              </a:rPr>
              <a:t>Reenvie isso para os seus amig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 Unicode MS"/>
              </a:rPr>
              <a:t>tomara que por um mom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 Unicode MS"/>
              </a:rPr>
              <a:t>de novo eles estarão com E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72360" y="549360"/>
            <a:ext cx="252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200" spc="-1" strike="noStrike">
                <a:solidFill>
                  <a:srgbClr val="ffffff"/>
                </a:solidFill>
                <a:latin typeface="Academy Engraved LET"/>
              </a:rPr>
              <a:t>FIM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86080" y="17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72880" y="455760"/>
            <a:ext cx="4232520" cy="548928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3267000" y="17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4494240" y="455760"/>
            <a:ext cx="4332240" cy="548460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43200" y="19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09480" y="228600"/>
            <a:ext cx="7925040" cy="625320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76228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8456760" cy="614232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4950000" cy="640080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5410080" y="304920"/>
            <a:ext cx="3581640" cy="39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99"/>
                </a:solidFill>
                <a:latin typeface="Arial Black"/>
              </a:rPr>
              <a:t>JAN PAWEŁ DRUGI</a:t>
            </a:r>
            <a:r>
              <a:rPr b="1" lang="pt-BR" sz="4000" spc="-1" strike="noStrike">
                <a:solidFill>
                  <a:srgbClr val="003399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99"/>
                </a:solidFill>
                <a:latin typeface="Arial Black"/>
              </a:rPr>
              <a:t>NA LÍN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99"/>
                </a:solidFill>
                <a:latin typeface="Arial Black"/>
              </a:rPr>
              <a:t>POLONE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0000"/>
                </a:solidFill>
                <a:latin typeface="Arial Black"/>
              </a:rPr>
              <a:t>13  l</a:t>
            </a:r>
            <a:r>
              <a:rPr b="1" lang="pt-BR" sz="4000" spc="-1" strike="noStrike">
                <a:solidFill>
                  <a:srgbClr val="ff0000"/>
                </a:solidFill>
                <a:latin typeface="Arial Black"/>
              </a:rPr>
              <a:t>etr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52280" y="228600"/>
            <a:ext cx="4970520" cy="62485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105520" y="762120"/>
            <a:ext cx="403848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99"/>
                </a:solidFill>
                <a:latin typeface="Arial Black"/>
              </a:rPr>
              <a:t>Tornou-se Pa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99"/>
                </a:solidFill>
                <a:latin typeface="Arial Black"/>
              </a:rPr>
              <a:t>tendo</a:t>
            </a:r>
            <a:r>
              <a:rPr b="0" lang="pl-PL" sz="3200" spc="-1" strike="noStrike">
                <a:solidFill>
                  <a:srgbClr val="003399"/>
                </a:solidFill>
                <a:latin typeface="Arial Black"/>
              </a:rPr>
              <a:t> 58 </a:t>
            </a:r>
            <a:r>
              <a:rPr b="0" lang="pt-BR" sz="3200" spc="-1" strike="noStrike">
                <a:solidFill>
                  <a:srgbClr val="003399"/>
                </a:solidFill>
                <a:latin typeface="Arial Black"/>
              </a:rPr>
              <a:t>anos    de v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3399"/>
                </a:solidFill>
                <a:latin typeface="Arial Black"/>
              </a:rPr>
              <a:t>5+8 = </a:t>
            </a:r>
            <a:r>
              <a:rPr b="1" lang="pl-PL" sz="3200" spc="-1" strike="noStrike">
                <a:solidFill>
                  <a:srgbClr val="ff0000"/>
                </a:solidFill>
                <a:latin typeface="Arial Black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74320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150840"/>
            <a:ext cx="6400800" cy="480060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380880" y="518148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99"/>
                </a:solidFill>
                <a:latin typeface="Arial Black"/>
              </a:rPr>
              <a:t>Seu pontificado durou</a:t>
            </a:r>
            <a:r>
              <a:rPr b="1" lang="pl-PL" sz="3200" spc="-1" strike="noStrike">
                <a:solidFill>
                  <a:srgbClr val="003399"/>
                </a:solidFill>
                <a:latin typeface="Arial Black"/>
              </a:rPr>
              <a:t> 9301 d</a:t>
            </a:r>
            <a:r>
              <a:rPr b="1" lang="pt-BR" sz="3200" spc="-1" strike="noStrike">
                <a:solidFill>
                  <a:srgbClr val="003399"/>
                </a:solidFill>
                <a:latin typeface="Arial Black"/>
              </a:rPr>
              <a:t>ias</a:t>
            </a:r>
            <a:r>
              <a:rPr b="1" lang="pl-PL" sz="3200" spc="-1" strike="noStrike">
                <a:solidFill>
                  <a:srgbClr val="003399"/>
                </a:solidFill>
                <a:latin typeface="Arial Black"/>
              </a:rPr>
              <a:t> 9+3+0+1=</a:t>
            </a:r>
            <a:r>
              <a:rPr b="1" lang="pl-PL" sz="3200" spc="-1" strike="noStrike">
                <a:solidFill>
                  <a:srgbClr val="ff0000"/>
                </a:solidFill>
                <a:latin typeface="Arial Black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2T21:29:45Z</dcterms:created>
  <dc:creator>.</dc:creator>
  <dc:description/>
  <dc:language>en-US</dc:language>
  <cp:lastModifiedBy>Conde</cp:lastModifiedBy>
  <dcterms:modified xsi:type="dcterms:W3CDTF">2010-05-18T20:45:20Z</dcterms:modified>
  <cp:revision>7</cp:revision>
  <dc:subject/>
  <dc:title>Prezentacja programu PowerPoint</dc:title>
</cp:coreProperties>
</file>