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B07-0D66-4308-BAB5-6644F1AD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555-C191-4C87-9CEE-CBD5A0E0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0B5-9D27-489E-A44B-9DB55A85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715-3980-4F32-8EB4-37456B1B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40E-0102-49F0-B3A4-06C67D1B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3A7-41E2-4C65-83A4-CC9B0B9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03B-31BB-40D2-833B-C786CA4A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E1C-038E-43BA-8E3A-92BBD99E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C44-F919-410B-BD2E-57A743CA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5E9-D1DD-4E51-A5B3-3B3D56F0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540-5454-4C77-8B1F-929D4CB1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346-A3B6-4441-80BF-5DAF6E1B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8CE1-78E3-41E4-8CD5-4BB75675E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ites exceptionn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MAGNIFIQU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Certains sites déjà vus mais d'autres à découvrir, superb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Image 4" descr="http://www.spi0n.com/wp-content/uploads/2014/06/55-incroyables-endroits-sur-terre-9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572000" y="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talie : Le Restaurant Falaise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restaurant falaise (Grotta Palazzese) a été construit dans une grotte de la région de Pouilles en Itali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Inde : Le Chand Baori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Au Rajasthan, cet édifice datant du 11ème siècle est l'un des premiers baoris (puits) qui a permis de résoudre le problème de manque d’ea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Image 3" descr="http://www.spi0n.com/wp-content/uploads/2014/06/55-incroyables-endroits-sur-terre-26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13320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tats-Unis : Bishop's Castl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ans la San Isabel Forest au Colorado se trouve un château médiéval construit pendant 40 ans par Jim Bishop. Il a débuté la construction à l'âge de 15 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Image 3" descr="http://www.spi0n.com/wp-content/uploads/2014/06/55-incroyables-endroits-sur-terre-50.jpg?c0c871"/>
          <p:cNvPicPr/>
          <p:nvPr/>
        </p:nvPicPr>
        <p:blipFill>
          <a:blip r:embed="rId2"/>
          <a:stretch/>
        </p:blipFill>
        <p:spPr>
          <a:xfrm>
            <a:off x="1332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Russie : Une mine de sel psychédéliqu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Au cœur de la mine de sel abandonnée de Yekaterinburg en Russie. Il s'agit d'une mine de Carnallite désaffectée depuis plusieurs anné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Image 3" descr="http://www.spi0n.com/wp-content/uploads/2014/06/55-incroyables-endroits-sur-terre-21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Image 3" descr="http://www.spi0n.com/wp-content/uploads/2014/06/55-incroyables-endroits-sur-terre-5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0" y="0"/>
            <a:ext cx="2050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résil : La piscine naturelle au sable blanc de Fervedouro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rès du village Mateiros se trouve une piscine naturelle, la Fervedouro. Elle mesure 8 mètres de diamètre, l'eau est bleu cristalline et le sol est du sable blan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Italie : Craco le village médiéval fantôm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raco est une ville italienne à l'abandon qui en fait une destination touristique et un célèbre lieu de tournage cinématographiq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Image 3" descr="http://www.spi0n.com/wp-content/uploads/2014/06/55-incroyables-endroits-sur-terre-27.jpg?c0c871"/>
          <p:cNvPicPr/>
          <p:nvPr/>
        </p:nvPicPr>
        <p:blipFill>
          <a:blip r:embed="rId2"/>
          <a:stretch/>
        </p:blipFill>
        <p:spPr>
          <a:xfrm>
            <a:off x="190440" y="519120"/>
            <a:ext cx="87631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moa : To Sua Ocean Trench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"To Sua Ocean" et un petit coin de paradis qui se trouve dans le village de Lotofaga dans Les Samoa. L'endroit est accessible au public comme zone de baign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Image 3" descr="http://www.spi0n.com/wp-content/uploads/2014/06/55-incroyables-endroits-sur-terre-37.jpg?c0c871"/>
          <p:cNvPicPr/>
          <p:nvPr/>
        </p:nvPicPr>
        <p:blipFill>
          <a:blip r:embed="rId2"/>
          <a:stretch/>
        </p:blipFill>
        <p:spPr>
          <a:xfrm>
            <a:off x="190440" y="595440"/>
            <a:ext cx="876312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Image 3" descr="http://www.spi0n.com/wp-content/uploads/2014/06/55-incroyables-endroits-sur-terre-8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irmanie : Le village de Bagan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agan est un vaste site archéologique bouddhique de près de 50 kilomètres carrés situé dans la Région de Mandalay, dans la plaine centrale de la Birmani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Image 4" descr="http://www.spi0n.com/wp-content/uploads/2014/06/55-incroyables-endroits-sur-terre-11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6119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ortugal : Les parapluies colorés d’Agued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Dans la ville d’Agueda au Portugal, des parapluies de différentes couleurs sont présents en suspension dans les rues commerçan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Image 4" descr="http://www.spi0n.com/wp-content/uploads/2014/06/55-incroyables-endroits-sur-terre-6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572000" y="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anzanie : Le Lac Natron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lac Natron est un lac salé alcalin endoréique d'origine tectonique présent au nord de la Tanzani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1235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Chine : L'escalier spirale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'escalier en spirale sur les Monts Taihang mesure 91 mètres de haut.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Image 4" descr="http://www.spi0n.com/wp-content/uploads/2014/06/55-incroyables-endroits-sur-terre-2.jpg?c0c871"/>
          <p:cNvPicPr/>
          <p:nvPr/>
        </p:nvPicPr>
        <p:blipFill>
          <a:blip r:embed="rId2"/>
          <a:stretch/>
        </p:blipFill>
        <p:spPr>
          <a:xfrm>
            <a:off x="2124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Image 4" descr="http://www.spi0n.com/wp-content/uploads/2014/06/55-incroyables-endroits-sur-terre-3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0" y="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llemagne : Le pont de la Bastei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 pont Bastei est situé dans les montagnes de l’Elbe de la Suisse Saxonne en Allemagn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Image 4" descr="http://www.spi0n.com/wp-content/uploads/2014/06/55-incroyables-endroits-sur-terre-53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0" y="6334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ichuan : Le Grand Bouddha de Leshan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 Grand Bouddha de Leshan est une statue monumentale de Bouddha taillée dans la falaise du mont Lingyun au Sichua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Espagne : L'Alcazar de Ségovie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'alcazar de Ségovie est un château fortifié, situé à l'extrémité de la vieille ville de Ségovie en Espagn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4" name="Image 3" descr="http://www.spi0n.com/wp-content/uploads/2014/06/55-incroyables-endroits-sur-terre-24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urquie : Les Tombeaux de Myre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Dans les rochers lycènes se trouvent les tombeaux rupestres de la cité antique de Myr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Image 3" descr="http://www.spi0n.com/wp-content/uploads/2014/06/55-incroyables-endroits-sur-terre-31.jpg?c0c871"/>
          <p:cNvPicPr/>
          <p:nvPr/>
        </p:nvPicPr>
        <p:blipFill>
          <a:blip r:embed="rId2"/>
          <a:stretch/>
        </p:blipFill>
        <p:spPr>
          <a:xfrm>
            <a:off x="190440" y="519120"/>
            <a:ext cx="87631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Pays-Bas : Le Fort de Bourtange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Bourtange est un village fortifié néerlandais de la province de Groningue qui fut construit en 1580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Image 3" descr="http://www.spi0n.com/wp-content/uploads/2014/06/55-incroyables-endroits-sur-terre-54.jpg?c0c871"/>
          <p:cNvPicPr/>
          <p:nvPr/>
        </p:nvPicPr>
        <p:blipFill>
          <a:blip r:embed="rId2"/>
          <a:stretch/>
        </p:blipFill>
        <p:spPr>
          <a:xfrm>
            <a:off x="190440" y="480960"/>
            <a:ext cx="87631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houtan : Le Monastère Taktshang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aktshang est un monastère bouddhiste du Bhoutan, accroché à une falaise à 3 120 mètres d'altitu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Image 3" descr="http://www.spi0n.com/wp-content/uploads/2014/06/55-incroyables-endroits-sur-terre-39.jpg?c0c871"/>
          <p:cNvPicPr/>
          <p:nvPr/>
        </p:nvPicPr>
        <p:blipFill>
          <a:blip r:embed="rId2"/>
          <a:stretch/>
        </p:blipFill>
        <p:spPr>
          <a:xfrm>
            <a:off x="190440" y="690480"/>
            <a:ext cx="8763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Image 3" descr="http://www.spi0n.com/wp-content/uploads/2014/06/55-incroyables-endroits-sur-terre-13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0" y="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ortugal : L'île de São Miguel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ão Miguel est la plus grande île de l'archipel des Açores et la plus peuplée avec une superficie de 744,6 km²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Italie : Santa Maria dell'Isola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e monastère Santa Maria dell'Isola a été construit sur une petite falaise rocheuse près de la plage de Tropea en Itali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Image 3" descr="http://www.spi0n.com/wp-content/uploads/2014/06/55-incroyables-endroits-sur-terre-28.jpg?c0c871"/>
          <p:cNvPicPr/>
          <p:nvPr/>
        </p:nvPicPr>
        <p:blipFill>
          <a:blip r:embed="rId2"/>
          <a:stretch/>
        </p:blipFill>
        <p:spPr>
          <a:xfrm>
            <a:off x="190440" y="519120"/>
            <a:ext cx="87631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France : Les Jardins de Marqueyssac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s jardins de Marqueyssac - Belvédère de la Dordogne se situent sur la commune de Vézac, dans un parc historique de 22 hectares 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Image 3" descr="http://www.spi0n.com/wp-content/uploads/2014/06/55-incroyables-endroits-sur-terre-47.jpg?c0c871"/>
          <p:cNvPicPr/>
          <p:nvPr/>
        </p:nvPicPr>
        <p:blipFill>
          <a:blip r:embed="rId2"/>
          <a:stretch/>
        </p:blipFill>
        <p:spPr>
          <a:xfrm>
            <a:off x="190440" y="1238400"/>
            <a:ext cx="87631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Image 3" descr="http://www.spi0n.com/wp-content/uploads/2014/06/55-incroyables-endroits-sur-terre-14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2627280" y="0"/>
            <a:ext cx="561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hilippines : Labassin Waterfall Restaurant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e restaurant aux Philippines propose à ses clients de manger les pieds dans l'eau. Une cascade artificielle a été construite pour l'occa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ortugal : Palais de la Regaleir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ne vue intérieure du Palais de la Regaleira situé à Sintra au Portug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Image 3" descr="http://www.spi0n.com/wp-content/uploads/2014/06/55-incroyables-endroits-sur-terre-33.jpg?c0c871"/>
          <p:cNvPicPr/>
          <p:nvPr/>
        </p:nvPicPr>
        <p:blipFill>
          <a:blip r:embed="rId2"/>
          <a:stretch/>
        </p:blipFill>
        <p:spPr>
          <a:xfrm>
            <a:off x="190440" y="523800"/>
            <a:ext cx="87631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ran : La Mosquée Nasir-ol-Molk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a mosquée Nasir-ol-Molk est une mosquée chiite située dans la province de Fars en Iran. Elle a été construite de 1876 à 1888 et regorge de couleu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Image 3" descr="http://www.spi0n.com/wp-content/uploads/2014/06/55-incroyables-endroits-sur-terre-48.jpg?c0c871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Image 3" descr="http://www.spi0n.com/wp-content/uploads/2014/06/55-incroyables-endroits-sur-terre-51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ussie : Parc naturel des colonnes de la Léna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es colonnes de pierre naturelles mesurent plusieurs dizaines de mètres de hauteur et sont formées par un phénomène d'éros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Image 3" descr="http://www.spi0n.com/wp-content/uploads/2014/06/55-incroyables-endroits-sur-terre-4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0" y="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haïlande : Le Temple Blanc Wat Rong Khun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Wat Rong Khun est un lieu de culte entièrement blanc situé au sud de Chiang Rai en Thaïlan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ingapour : Le Parc Gardens by the Bay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n espace vert avec une biodiversité remarquable, construit pour plus de 625 millions d’euros. Ce parc géant mesure 101 hectares et comprend trois jardi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1" name="Image 3" descr="http://www.spi0n.com/wp-content/uploads/2014/06/55-incroyables-endroits-sur-terre-44.jpg?c0c871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tats-Unis : La bibliothèque de Kansas City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ne architecture originale pour la bibliothèque de Kansas City qui propose une façade en forme de grands livres rangé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Image 3" descr="http://www.spi0n.com/wp-content/uploads/2014/06/55-incroyables-endroits-sur-terre-19.jpg?c0c871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kraine et Russie : Le mont Aï-Petri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i-Petri est une montagne de 1230 mètres de hauteur qui se trouve dans la région de Yalta en Crimé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Image 3" descr="http://www.spi0n.com/wp-content/uploads/2014/06/55-incroyables-endroits-sur-terre-25.jpg?c0c871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Égypte : La bibliothèque d'Alexandrie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a bibliothèque d'Alexandrie a été construite en 1995 et a coûté 220 millions de dollars. Elle fût inaugurée en octobre 2002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0" name="Image 3" descr="http://www.spi0n.com/wp-content/uploads/2014/06/55-incroyables-endroits-sur-terre-17.jpg?c0c871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France : Le Moulin de l'Abbaye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Moulin de l'Abbaye est un hôtel de luxe situé à Brantôme-en-Périgord en Dordogne. Il s'agit d'un établissement de luxe du Périgor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Image 3" descr="http://www.spi0n.com/wp-content/uploads/2014/06/55-incroyables-endroits-sur-terre-46.jpg?c0c871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Image 3" descr="http://www.spi0n.com/wp-content/uploads/2014/06/55-incroyables-endroits-sur-terre-10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érou : Oasis de Huacachin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Huacachina est un village dans la région d'Ica , dans le sud-ouest du Pérou qui dispose d'une oasis. En 1999, seulement 115 personnes y vivaie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Mexique : Les Îles Mariet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s îles Marieta est un archipel inhabité près des côtes de Nayarit, au Mexique. C'est une ancienne zone militaire devenue parc national protég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Image 3" descr="http://www.spi0n.com/wp-content/uploads/2014/06/55-incroyables-endroits-sur-terre-34.jpg?c0c871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Bosnie-Herzégovine : la petite cité de Blagaj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La maison Tekija construite au 16e siècle juste à côté de la source de la Bu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Image 3" descr="http://www.spi0n.com/wp-content/uploads/2014/06/55-incroyables-endroits-sur-terre-23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Sri Lanka : Le rocher du lion Sigirîya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Sigirîya (Le Rocher du Lion) est un site archéologique majeur, classé au patrimoine mondial de l'humanité par l'UNESCO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3" name="Image 3" descr="http://www.spi0n.com/wp-content/uploads/2014/06/55-incroyables-endroits-sur-terre-18.jpg?c0c871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ortugal : Le Fort de São João Baptist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Fort de São João Baptista est un fort du XVIIe siècle situé dans l'île de Berlengas en face de la ville portuaire de Peniche au centre du Portug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Image 3" descr="http://www.spi0n.com/wp-content/uploads/2014/06/55-incroyables-endroits-sur-terre-45.jpg?c0c871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Canada : Le jardin botanique de Montréal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e Jardin botanique de Montréal est situé à Montréal au Québec et il est l'un des plus importants jardins botaniques du monde. Il fût créé en juin 1931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9" name="Image 3" descr="http://www.spi0n.com/wp-content/uploads/2014/06/55-incroyables-endroits-sur-terre-16.jpg?c0c871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haïlande : La Grotte de Phraya Nakhon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n temple bouddhiste construit au milieu de la grotte de Phraya Nakhon en Thaïlande est éclairé par la lumière du cie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Image 3" descr="http://www.spi0n.com/wp-content/uploads/2014/06/55-incroyables-endroits-sur-terre-32.jpg?c0c871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Image 3" descr="http://www.spi0n.com/wp-content/uploads/2014/06/55-incroyables-endroits-sur-terre-49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0" y="62118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Australie-Occidentale : Le lac rose de Middle Island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Le lac Hillier sur l’île de Middle Island a une eau de couleur rose, dont la cause reste inexpliquée. Il fût découvert en 1802 par un explorateur britanniq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rée du Sud : L'île Jeju-do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Jeju-do est une province et une île subtropicale de Corée du Sud de forme ova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Image 3" descr="http://www.spi0n.com/wp-content/uploads/2014/06/55-incroyables-endroits-sur-terre-55.jpg?c0c871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France : L'Arche Percée de Chartreuse</a:t>
            </a:r>
            <a:br>
              <a:rPr sz="4000"/>
            </a:b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Découverte seulement en 2005, l 'arche double de la Tour Percée est située dans les Alp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Image 3" descr="http://www.spi0n.com/wp-content/uploads/2014/06/55-incroyables-endroits-sur-terre-52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urkménistan : La porte de l'enfer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a porte de l'enfer (Door to Hell) est un foyer de gaz naturel brûlant en permanence depuis qu'il a été allumé par des scientifiques soviétiques en 197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Image 3" descr="http://www.spi0n.com/wp-content/uploads/2014/06/55-incroyables-endroits-sur-terre-1.jpg?c0c871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hine : La cité engloutie de Shi Cheng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Dans le lac Qiandao repose la cité de Shi Cheng, vieille d'environ 1300 ans, elle est immergée depuis 53 ans dans les profondeurs des eau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Image 3" descr="http://www.spi0n.com/wp-content/uploads/2014/06/55-incroyables-endroits-sur-terre-41.jpg?c0c871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Maroc : Le souk de Fès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Dans le souk de Fès au Maroc se trouve l'une des plus anciennes tanneries dans le mon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1" name="Image 3" descr="http://www.spi0n.com/wp-content/uploads/2014/06/55-incroyables-endroits-sur-terre-30.jpg?c0c871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Roumanie : Le cimetière joyeux de Săpânț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Cimetière joyeux de Săpânța dans la région de Marmatie possède des tombes funéraires en bois, peintes de couleurs viv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Image 3" descr="http://www.spi0n.com/wp-content/uploads/2014/06/55-incroyables-endroits-sur-terre-43.jpg?c0c871"/>
          <p:cNvPicPr/>
          <p:nvPr/>
        </p:nvPicPr>
        <p:blipFill>
          <a:blip r:embed="rId2"/>
          <a:stretch/>
        </p:blipFill>
        <p:spPr>
          <a:xfrm>
            <a:off x="190440" y="80028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États-Unis : Le Fly Geyser</a:t>
            </a:r>
            <a:br>
              <a:rPr sz="1300"/>
            </a:br>
            <a:r>
              <a:rPr b="0" lang="fr-FR" sz="1300" spc="-1" strike="noStrike">
                <a:solidFill>
                  <a:srgbClr val="ffffff"/>
                </a:solidFill>
                <a:latin typeface="Calibri"/>
              </a:rPr>
              <a:t>Le Fly Geyser est un petit geyser dans le comté de Washoe, au Nevada, qui donne l'impression de suinter une couleur marron-verdâtr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4" name="Image 3" descr="http://www.spi0n.com/wp-content/uploads/2014/06/55-incroyables-endroits-sur-la-terre-2.jpg?c0c871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elize : Le Gran Trou Bleu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e Grand Trou Bleu est un cénote sous-marin au large de la côte du Belize. Il est quasiment circulaire avec 300m de diamètre et de 120m de profondeu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7" name="Image 3" descr="http://www.spi0n.com/wp-content/uploads/2014/06/55-incroyables-endroits-sur-la-terre-3.jpg?c0c871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Image 3" descr="http://www.spi0n.com/wp-content/uploads/2014/06/55-incroyables-endroits-sur-la-terre-1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0" y="6334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résil : Le Mont Roraima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 mont Roraima est une montagne d'Amérique du Sud qui surplombe les nuages et s'élève à 2 810 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Image 3" descr="http://www.spi0n.com/wp-content/uploads/2014/06/55-incroyables-endroits-sur-terre-12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talie : La petite île de Procida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rocida est une île et une commune italienne d'environ 10 000 habitants, située dans la province de Nap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Malte : Le village de Popeye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Il a été construit comme décor de cinéma en 1980 pour le film Popeye (Walt Disney). Aujourd'hui, il est ouvert au public comme musé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Image 3" descr="http://www.spi0n.com/wp-content/uploads/2014/06/55-incroyables-endroits-sur-terre-20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Image 4" descr="http://www.spi0n.com/wp-content/uploads/2014/06/55-incroyables-endroits-sur-terre-7.jpg?c0c8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slande : Les chutes de Litlanesfoss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ítlanesfoss est une chute entourée de colonnes de basalte située à Upphéraðsvegur en Islan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Chine : Les montagnes arc-en-ciel</a:t>
            </a:r>
            <a:br>
              <a:rPr sz="1200"/>
            </a:b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Les montagnes de Zhangye Danxia se sont formées sur des couches sédimentaires terrigènes rouges qui ont été érodées durant 24 millions d'anné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Image 3" descr="http://www.spi0n.com/wp-content/uploads/2014/06/55-incroyables-endroits-sur-terre-22.jpg?c0c871"/>
          <p:cNvPicPr/>
          <p:nvPr/>
        </p:nvPicPr>
        <p:blipFill>
          <a:blip r:embed="rId2"/>
          <a:stretch/>
        </p:blipFill>
        <p:spPr>
          <a:xfrm>
            <a:off x="190440" y="514440"/>
            <a:ext cx="87631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08:53:07Z</dcterms:created>
  <dc:creator>JOSEPH</dc:creator>
  <dc:description/>
  <dc:language>en-US</dc:language>
  <cp:lastModifiedBy>JOSEPH</cp:lastModifiedBy>
  <dcterms:modified xsi:type="dcterms:W3CDTF">2014-08-31T10:11:20Z</dcterms:modified>
  <cp:revision>8</cp:revision>
  <dc:subject/>
  <dc:title>Sites exceptionnels</dc:title>
</cp:coreProperties>
</file>