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1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Gipsy%20Kings%20-%20Volare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E22-D887-4C44-AA90-DA906383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0B8-0E2A-4304-8A98-BF74ADB4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285-0DF0-4FA3-A478-3AE6FF03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F2F-F6CD-4B3C-AF85-103B668E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542-412F-4D5E-88D6-966130F8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D19-74F9-4BF4-B377-FD618C26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6CC-AB57-45C7-8D11-A3DE77FB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B0C-F738-49D6-BBEC-4771E3CF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A02-EB61-4C8D-A8A4-3B925016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960-424D-496A-9BAA-B433CEAB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5B3-9B60-4E12-9ACC-16102AC5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44B-4B33-41E2-95EB-C20D3AD1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654A-E142-463A-A12B-ADC9CACFD95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Gipsy%20Kings%20-%20Volar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413000"/>
            <a:ext cx="6553080" cy="28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Forte"/>
              </a:rPr>
              <a:t>Microondas Cigan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48360" y="5175360"/>
            <a:ext cx="1727280" cy="111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2000" y="5661000"/>
            <a:ext cx="936360" cy="585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Gipsy%20Kings%20-%20Volar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ép 1" descr="ATT00006997.jpg"/>
          <p:cNvPicPr/>
          <p:nvPr/>
        </p:nvPicPr>
        <p:blipFill>
          <a:blip r:embed="rId1"/>
          <a:stretch/>
        </p:blipFill>
        <p:spPr>
          <a:xfrm>
            <a:off x="22320" y="0"/>
            <a:ext cx="90993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1" descr="ATT00002101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Kép 1" descr="ATT00001111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ép 1" descr="ATT00011121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979640" y="1341360"/>
            <a:ext cx="4968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Forte"/>
              </a:rPr>
              <a:t>e  esta  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Forte"/>
              <a:ea typeface="Fort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24360" y="4446720"/>
            <a:ext cx="2160720" cy="120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32360" y="5805360"/>
            <a:ext cx="42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ff00"/>
                </a:solidFill>
                <a:latin typeface="Forte"/>
              </a:rPr>
              <a:t>xauzinho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Kép 3" descr="ATT00008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ép 1" descr="ATT0001022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ép 1" descr="ATT000073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ép 1" descr="ATT0000544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ép 1" descr="ATT000095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ép 1" descr="ATT000046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ép 1" descr="ATT000037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ép 1" descr="ATT0001288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8:16:00Z</dcterms:created>
  <dc:creator>Kovács István</dc:creator>
  <dc:description/>
  <dc:language>en-US</dc:language>
  <cp:lastModifiedBy>José Manuel Sotelo</cp:lastModifiedBy>
  <dcterms:modified xsi:type="dcterms:W3CDTF">2010-03-17T08:44:00Z</dcterms:modified>
  <cp:revision>3</cp:revision>
  <dc:subject/>
  <dc:title>1. dia</dc:title>
</cp:coreProperties>
</file>