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1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Gipsy%20Kings%20-%20Volare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74C-ADE0-47B7-A770-B38FB375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EC6-9D73-4C1B-B9FB-B3665EE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886-0215-4F74-A215-6331F5C2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D99-1AAB-4FBC-AE46-97799DF3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BE2-A13B-434A-AB29-A5497945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611-33DA-4827-976A-59F77D1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FC7-9DC8-4584-ADF6-5096C6FC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92E-1DE9-4D20-B40C-3CB5BB0F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762-1D29-46DA-B8B7-8412BC6B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CD0-0E18-461B-999E-8455CAE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070-136F-4FCB-89C7-EA34656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02C-FEE9-4883-8303-38316E61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03B1-E563-4BE6-BD81-4D0DABE75FC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Gipsy%20Kings%20-%20Volar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413000"/>
            <a:ext cx="6553080" cy="28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Forte"/>
              </a:rPr>
              <a:t>Microondas Cigan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48360" y="5175360"/>
            <a:ext cx="1727280" cy="111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5661000"/>
            <a:ext cx="936360" cy="585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Gipsy%20Kings%20-%20Volar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ép 1" descr="ATT00006997.jp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" descr="ATT0000210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ép 1" descr="ATT0000111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ép 1" descr="ATT0001112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979640" y="1341360"/>
            <a:ext cx="4968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orte"/>
              </a:rPr>
              <a:t>e  esta  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orte"/>
              <a:ea typeface="Fort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24360" y="4446720"/>
            <a:ext cx="2160720" cy="120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32360" y="580536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ff00"/>
                </a:solidFill>
                <a:latin typeface="Forte"/>
              </a:rPr>
              <a:t>xauzinho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Kép 3" descr="ATT00008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1" descr="ATT000102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ATT000073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ép 1" descr="ATT000054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ép 1" descr="ATT000095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ép 1" descr="ATT000046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1" descr="ATT000037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ép 1" descr="ATT000128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16:00Z</dcterms:created>
  <dc:creator>Kovács István</dc:creator>
  <dc:description/>
  <dc:language>en-US</dc:language>
  <cp:lastModifiedBy>José Manuel Sotelo</cp:lastModifiedBy>
  <dcterms:modified xsi:type="dcterms:W3CDTF">2010-03-17T08:44:00Z</dcterms:modified>
  <cp:revision>3</cp:revision>
  <dc:subject/>
  <dc:title>1. dia</dc:title>
</cp:coreProperties>
</file>