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13.jpeg" ContentType="image/jpeg"/>
  <Override PartName="/ppt/media/Circo%20-%20Renato%20Carosone%20-The%20Bridge%20Over%20The%20River%20Kwai%20-%20TRECHO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A3E-3FDA-446F-B32D-1CB32502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A84C-7936-4576-9974-351EF6C0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B11-572E-4C0B-AA60-3F7A932F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A0F-9A56-449F-8D5E-3BF50C47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2117-F8C8-4E8F-ACE4-75C21F7E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B0AF-5EDF-470D-A5CE-01244DBF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28E-B850-4DCC-BEF3-D537C393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CB1-313D-48C1-B78E-AC4C2E8F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437-8B51-40C0-83BD-03253DD9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1B4A-2509-462C-A7AC-0B2BEAF8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195-ED9B-4317-9BBA-ED05A573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492-B9D4-4DCD-8804-E1C610A3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0591-6112-4094-8340-2F9353B4948B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audio" Target="../media/Circo%20-%20Renato%20Carosone%20-The%20Bridge%20Over%20The%20River%20Kwai%20-%20TRECHO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aporamas-a-la-con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crianças felizes"/>
          <p:cNvPicPr/>
          <p:nvPr/>
        </p:nvPicPr>
        <p:blipFill>
          <a:blip r:embed="rId1"/>
          <a:stretch/>
        </p:blipFill>
        <p:spPr>
          <a:xfrm>
            <a:off x="755640" y="-316080"/>
            <a:ext cx="2232000" cy="2637000"/>
          </a:xfrm>
          <a:prstGeom prst="rect">
            <a:avLst/>
          </a:prstGeom>
          <a:ln w="0">
            <a:noFill/>
          </a:ln>
        </p:spPr>
      </p:pic>
      <p:pic>
        <p:nvPicPr>
          <p:cNvPr id="42" name="Rectângulo 3" descr=""/>
          <p:cNvPicPr/>
          <p:nvPr/>
        </p:nvPicPr>
        <p:blipFill>
          <a:blip r:embed="rId2"/>
          <a:stretch/>
        </p:blipFill>
        <p:spPr>
          <a:xfrm>
            <a:off x="-695160" y="2236680"/>
            <a:ext cx="10088280" cy="2127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crianças felizes"/>
          <p:cNvPicPr/>
          <p:nvPr/>
        </p:nvPicPr>
        <p:blipFill>
          <a:blip r:embed="rId3"/>
          <a:stretch/>
        </p:blipFill>
        <p:spPr>
          <a:xfrm>
            <a:off x="6012000" y="3933720"/>
            <a:ext cx="2232000" cy="2637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4" name="Circo%20-%20Renato%20Carosone%20-The%20Bridge%20Over%20The%20River%20Kwai%20-%20TRECH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Faz novos amigos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00032880"/>
          <p:cNvPicPr/>
          <p:nvPr/>
        </p:nvPicPr>
        <p:blipFill>
          <a:blip r:embed="rId1"/>
          <a:stretch/>
        </p:blipFill>
        <p:spPr>
          <a:xfrm>
            <a:off x="1636560" y="1682640"/>
            <a:ext cx="6031080" cy="4606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E Faz Favor de ir prá cozinha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00031525"/>
          <p:cNvPicPr/>
          <p:nvPr/>
        </p:nvPicPr>
        <p:blipFill>
          <a:blip r:embed="rId1"/>
          <a:stretch/>
        </p:blipFill>
        <p:spPr>
          <a:xfrm>
            <a:off x="1670040" y="1425600"/>
            <a:ext cx="5926320" cy="5172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99cc00"/>
                </a:solidFill>
                <a:latin typeface="Arial"/>
              </a:rPr>
              <a:t>Não te deixes empurrar </a:t>
            </a:r>
            <a:r>
              <a:rPr b="1" lang="es-ES_tradnl" sz="4000" spc="-1" strike="noStrike">
                <a:solidFill>
                  <a:srgbClr val="99cc00"/>
                </a:solidFill>
                <a:latin typeface="Arial"/>
              </a:rPr>
              <a:t>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0019024"/>
          <p:cNvPicPr/>
          <p:nvPr/>
        </p:nvPicPr>
        <p:blipFill>
          <a:blip r:embed="rId1"/>
          <a:stretch/>
        </p:blipFill>
        <p:spPr>
          <a:xfrm>
            <a:off x="1332000" y="1557360"/>
            <a:ext cx="6391080" cy="4757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1915920"/>
            <a:ext cx="3359160" cy="28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Toma banho de espuma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00031721"/>
          <p:cNvPicPr/>
          <p:nvPr/>
        </p:nvPicPr>
        <p:blipFill>
          <a:blip r:embed="rId1"/>
          <a:stretch/>
        </p:blipFill>
        <p:spPr>
          <a:xfrm>
            <a:off x="3995640" y="160200"/>
            <a:ext cx="5024520" cy="6697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E, especialmente ….. Sê feliz !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Image6"/>
          <p:cNvPicPr/>
          <p:nvPr/>
        </p:nvPicPr>
        <p:blipFill>
          <a:blip r:embed="rId1"/>
          <a:stretch/>
        </p:blipFill>
        <p:spPr>
          <a:xfrm>
            <a:off x="1332000" y="1714680"/>
            <a:ext cx="6715080" cy="4738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3276720" y="90792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Diaporama PPS réalisé pour </a:t>
            </a:r>
            <a:r>
              <a:rPr b="0" lang="fr-FR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iaporamas-a-la-con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3068280"/>
            <a:ext cx="253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Dança !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00034227"/>
          <p:cNvPicPr/>
          <p:nvPr/>
        </p:nvPicPr>
        <p:blipFill>
          <a:blip r:embed="rId2"/>
          <a:stretch/>
        </p:blipFill>
        <p:spPr>
          <a:xfrm>
            <a:off x="3184560" y="44280"/>
            <a:ext cx="5419800" cy="6813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Descansa em paz !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Image1"/>
          <p:cNvPicPr/>
          <p:nvPr/>
        </p:nvPicPr>
        <p:blipFill>
          <a:blip r:embed="rId1"/>
          <a:stretch/>
        </p:blipFill>
        <p:spPr>
          <a:xfrm>
            <a:off x="785880" y="1455840"/>
            <a:ext cx="7572240" cy="4781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Vai Passear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Image2"/>
          <p:cNvPicPr/>
          <p:nvPr/>
        </p:nvPicPr>
        <p:blipFill>
          <a:blip r:embed="rId1"/>
          <a:stretch/>
        </p:blipFill>
        <p:spPr>
          <a:xfrm>
            <a:off x="1582560" y="1501920"/>
            <a:ext cx="5942160" cy="5167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Dorme com algo que adoras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00027214"/>
          <p:cNvPicPr/>
          <p:nvPr/>
        </p:nvPicPr>
        <p:blipFill>
          <a:blip r:embed="rId1"/>
          <a:stretch/>
        </p:blipFill>
        <p:spPr>
          <a:xfrm>
            <a:off x="1547640" y="177336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Beija Muito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Image4"/>
          <p:cNvPicPr/>
          <p:nvPr/>
        </p:nvPicPr>
        <p:blipFill>
          <a:blip r:embed="rId1"/>
          <a:stretch/>
        </p:blipFill>
        <p:spPr>
          <a:xfrm>
            <a:off x="1403280" y="1555920"/>
            <a:ext cx="6418440" cy="4825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_tradnl" sz="4000" spc="-1" strike="noStrike">
                <a:solidFill>
                  <a:srgbClr val="99cc00"/>
                </a:solidFill>
                <a:latin typeface="Arial"/>
              </a:rPr>
              <a:t>Relaxa… na companhia daquele (s) com quem gostas de estar e se possível em contacto com a natureza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Image5"/>
          <p:cNvPicPr/>
          <p:nvPr/>
        </p:nvPicPr>
        <p:blipFill>
          <a:blip r:embed="rId1"/>
          <a:stretch/>
        </p:blipFill>
        <p:spPr>
          <a:xfrm>
            <a:off x="1528920" y="2421000"/>
            <a:ext cx="6086160" cy="4437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Continua… Curioso !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00031418"/>
          <p:cNvPicPr/>
          <p:nvPr/>
        </p:nvPicPr>
        <p:blipFill>
          <a:blip r:embed="rId1"/>
          <a:stretch/>
        </p:blipFill>
        <p:spPr>
          <a:xfrm>
            <a:off x="1187280" y="1509840"/>
            <a:ext cx="6818400" cy="4943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cc00"/>
                </a:solidFill>
                <a:latin typeface="Arial"/>
              </a:rPr>
              <a:t>Dá Boas Risada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Image7"/>
          <p:cNvPicPr/>
          <p:nvPr/>
        </p:nvPicPr>
        <p:blipFill>
          <a:blip r:embed="rId1"/>
          <a:stretch/>
        </p:blipFill>
        <p:spPr>
          <a:xfrm>
            <a:off x="1552680" y="1836720"/>
            <a:ext cx="6038640" cy="4400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21:29:54Z</dcterms:created>
  <dc:creator>Chris pour diaporamas-a-la-con.com</dc:creator>
  <dc:description/>
  <dc:language>en-US</dc:language>
  <cp:lastModifiedBy>Célio Reis</cp:lastModifiedBy>
  <dcterms:modified xsi:type="dcterms:W3CDTF">2011-01-04T21:17:17Z</dcterms:modified>
  <cp:revision>16</cp:revision>
  <dc:subject/>
  <dc:title>En el 2009,  no te tomes  la vida  tan en serio! </dc:title>
</cp:coreProperties>
</file>