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3.jpeg" ContentType="image/jpeg"/>
  <Override PartName="/ppt/media/Circo%20-%20Renato%20Carosone%20-The%20Bridge%20Over%20The%20River%20Kwai%20-%20TRECHO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4FC-6A64-4C40-BBB6-EE8999C4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8C2-1CF5-464B-B1BE-FC0EF3B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918-9290-4854-8455-701AF146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9B3-3633-4024-BB85-FB0341DF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95C-94A6-406E-977D-84A13CAA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EA2-6659-459D-B1AE-253D79F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8AA-F7B6-4D1D-8599-507976D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035-E83E-4EE0-9742-93F0E4B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6AE-5A6B-4623-A6F0-7DD9441B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E42-4D49-414A-A83E-46C7C7B0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47-8569-4B20-B16E-D165724B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5AC-732F-46C6-B075-9CBB501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2CA-7244-4883-8831-39A10A0CF75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audio" Target="../media/Circo%20-%20Renato%20Carosone%20-The%20Bridge%20Over%20The%20River%20Kwai%20-%20TRECH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aporamas-a-la-con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rianças felizes"/>
          <p:cNvPicPr/>
          <p:nvPr/>
        </p:nvPicPr>
        <p:blipFill>
          <a:blip r:embed="rId1"/>
          <a:stretch/>
        </p:blipFill>
        <p:spPr>
          <a:xfrm>
            <a:off x="755640" y="-316080"/>
            <a:ext cx="2232000" cy="2637000"/>
          </a:xfrm>
          <a:prstGeom prst="rect">
            <a:avLst/>
          </a:prstGeom>
          <a:ln w="0">
            <a:noFill/>
          </a:ln>
        </p:spPr>
      </p:pic>
      <p:pic>
        <p:nvPicPr>
          <p:cNvPr id="42" name="Rectângulo 3" descr=""/>
          <p:cNvPicPr/>
          <p:nvPr/>
        </p:nvPicPr>
        <p:blipFill>
          <a:blip r:embed="rId2"/>
          <a:stretch/>
        </p:blipFill>
        <p:spPr>
          <a:xfrm>
            <a:off x="-695160" y="2236680"/>
            <a:ext cx="10088280" cy="212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rianças felizes"/>
          <p:cNvPicPr/>
          <p:nvPr/>
        </p:nvPicPr>
        <p:blipFill>
          <a:blip r:embed="rId3"/>
          <a:stretch/>
        </p:blipFill>
        <p:spPr>
          <a:xfrm>
            <a:off x="6012000" y="3933720"/>
            <a:ext cx="2232000" cy="2637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irco%20-%20Renato%20Carosone%20-The%20Bridge%20Over%20The%20River%20Kwai%20-%20TRECH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Faz novos amigo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00032880"/>
          <p:cNvPicPr/>
          <p:nvPr/>
        </p:nvPicPr>
        <p:blipFill>
          <a:blip r:embed="rId1"/>
          <a:stretch/>
        </p:blipFill>
        <p:spPr>
          <a:xfrm>
            <a:off x="1636560" y="1682640"/>
            <a:ext cx="6031080" cy="460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E Faz Favor de ir prá cozinh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0031525"/>
          <p:cNvPicPr/>
          <p:nvPr/>
        </p:nvPicPr>
        <p:blipFill>
          <a:blip r:embed="rId1"/>
          <a:stretch/>
        </p:blipFill>
        <p:spPr>
          <a:xfrm>
            <a:off x="1670040" y="1425600"/>
            <a:ext cx="5926320" cy="517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99cc00"/>
                </a:solidFill>
                <a:latin typeface="Arial"/>
              </a:rPr>
              <a:t>Não te deixes empurrar </a:t>
            </a: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19024"/>
          <p:cNvPicPr/>
          <p:nvPr/>
        </p:nvPicPr>
        <p:blipFill>
          <a:blip r:embed="rId1"/>
          <a:stretch/>
        </p:blipFill>
        <p:spPr>
          <a:xfrm>
            <a:off x="1332000" y="1557360"/>
            <a:ext cx="639108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3359160" cy="28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Toma banho de espum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00031721"/>
          <p:cNvPicPr/>
          <p:nvPr/>
        </p:nvPicPr>
        <p:blipFill>
          <a:blip r:embed="rId1"/>
          <a:stretch/>
        </p:blipFill>
        <p:spPr>
          <a:xfrm>
            <a:off x="3995640" y="160200"/>
            <a:ext cx="5024520" cy="669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E, especialmente ….. Sê feliz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Image6"/>
          <p:cNvPicPr/>
          <p:nvPr/>
        </p:nvPicPr>
        <p:blipFill>
          <a:blip r:embed="rId1"/>
          <a:stretch/>
        </p:blipFill>
        <p:spPr>
          <a:xfrm>
            <a:off x="1332000" y="1714680"/>
            <a:ext cx="6715080" cy="4738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276720" y="9079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Diaporama PPS réalisé pour </a:t>
            </a:r>
            <a:r>
              <a:rPr b="0" lang="fr-FR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aporamas-a-la-con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3068280"/>
            <a:ext cx="253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ança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00034227"/>
          <p:cNvPicPr/>
          <p:nvPr/>
        </p:nvPicPr>
        <p:blipFill>
          <a:blip r:embed="rId2"/>
          <a:stretch/>
        </p:blipFill>
        <p:spPr>
          <a:xfrm>
            <a:off x="3184560" y="44280"/>
            <a:ext cx="5419800" cy="681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escansa em paz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Image1"/>
          <p:cNvPicPr/>
          <p:nvPr/>
        </p:nvPicPr>
        <p:blipFill>
          <a:blip r:embed="rId1"/>
          <a:stretch/>
        </p:blipFill>
        <p:spPr>
          <a:xfrm>
            <a:off x="785880" y="1455840"/>
            <a:ext cx="7572240" cy="478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Vai Passe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2"/>
          <p:cNvPicPr/>
          <p:nvPr/>
        </p:nvPicPr>
        <p:blipFill>
          <a:blip r:embed="rId1"/>
          <a:stretch/>
        </p:blipFill>
        <p:spPr>
          <a:xfrm>
            <a:off x="1582560" y="1501920"/>
            <a:ext cx="5942160" cy="516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orme com algo que ador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00027214"/>
          <p:cNvPicPr/>
          <p:nvPr/>
        </p:nvPicPr>
        <p:blipFill>
          <a:blip r:embed="rId1"/>
          <a:stretch/>
        </p:blipFill>
        <p:spPr>
          <a:xfrm>
            <a:off x="1547640" y="17733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Beija Muito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4"/>
          <p:cNvPicPr/>
          <p:nvPr/>
        </p:nvPicPr>
        <p:blipFill>
          <a:blip r:embed="rId1"/>
          <a:stretch/>
        </p:blipFill>
        <p:spPr>
          <a:xfrm>
            <a:off x="1403280" y="1555920"/>
            <a:ext cx="6418440" cy="482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Relaxa… na companhia daquele (s) com quem gostas de estar e se possível em contacto com a naturez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5"/>
          <p:cNvPicPr/>
          <p:nvPr/>
        </p:nvPicPr>
        <p:blipFill>
          <a:blip r:embed="rId1"/>
          <a:stretch/>
        </p:blipFill>
        <p:spPr>
          <a:xfrm>
            <a:off x="1528920" y="2421000"/>
            <a:ext cx="608616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Continua… Curioso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31418"/>
          <p:cNvPicPr/>
          <p:nvPr/>
        </p:nvPicPr>
        <p:blipFill>
          <a:blip r:embed="rId1"/>
          <a:stretch/>
        </p:blipFill>
        <p:spPr>
          <a:xfrm>
            <a:off x="1187280" y="1509840"/>
            <a:ext cx="6818400" cy="4943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Dá Boas Risada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Image7"/>
          <p:cNvPicPr/>
          <p:nvPr/>
        </p:nvPicPr>
        <p:blipFill>
          <a:blip r:embed="rId1"/>
          <a:stretch/>
        </p:blipFill>
        <p:spPr>
          <a:xfrm>
            <a:off x="1552680" y="1836720"/>
            <a:ext cx="6038640" cy="440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9:54Z</dcterms:created>
  <dc:creator>Chris pour diaporamas-a-la-con.com</dc:creator>
  <dc:description/>
  <dc:language>en-US</dc:language>
  <cp:lastModifiedBy>Célio Reis</cp:lastModifiedBy>
  <dcterms:modified xsi:type="dcterms:W3CDTF">2011-01-04T21:17:17Z</dcterms:modified>
  <cp:revision>16</cp:revision>
  <dc:subject/>
  <dc:title>En el 2009,  no te tomes  la vida  tan en serio! </dc:title>
</cp:coreProperties>
</file>