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cortazar_autumn_rose.wav" ContentType="audio/x-wav"/>
  <Override PartName="/ppt/media/image2.jpeg" ContentType="image/jpeg"/>
  <Override PartName="/ppt/media/image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EC1-A4C6-47C3-9971-BFE69C2A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694-65F6-407C-8EF6-6768205A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6C1-566C-4B00-B981-533E72E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F5D-C295-43C8-BAA3-8A726297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F33-1592-415B-AA77-7479266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F6F-A389-497E-A3C6-A77D1A3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6E2-83A1-4817-897E-59DD4B3C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E3-E013-4940-B652-20D14B1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4D1-A6CA-4392-B0E3-B311788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C3F-5982-4250-9528-A778674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1CF-F90A-4D0F-AC0C-BB42027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C37-78CD-45F9-9E18-B7851F7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31F4-A2B6-425E-B414-07B03E7E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tazar_autumn_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2492280"/>
            <a:ext cx="346212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 pesc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5229360"/>
            <a:ext cx="302436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echnic"/>
              </a:rPr>
              <a:t>banqueir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echnic"/>
              <a:ea typeface="Techni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4149720"/>
            <a:ext cx="590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o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  <p:sndAc>
      <p:stSnd>
        <p:snd r:embed="rId2" name="cortazar_autumn_r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9120" y="2843280"/>
            <a:ext cx="84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ORAL DA HISTÓRIA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as vidas se desperdiçam buscando alcançar uma felic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e já se tem, mas que muitas vezes não vemo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verdadeira felicidade consiste em apreciar o que te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não em sentirmo-nos mal por aquilo que não t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Se choras por ter perdido o sol, as lágrimas não 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ixarão ver as estrela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FELICIDADE É UM TRAJECTO, NÃO UM DESTI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28440"/>
            <a:ext cx="10082160" cy="756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1242400">
            <a:off x="3214800" y="1467000"/>
            <a:ext cx="5316480" cy="41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migos/as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ssem um dia feli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 uma semana melh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809280" y="6113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9933"/>
                </a:solidFill>
                <a:latin typeface="Arial"/>
              </a:rPr>
              <a:t>Adaptacão de Cristina Sáenz Enrí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584600">
            <a:off x="324000" y="1484280"/>
            <a:ext cx="294300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2400" y="3357720"/>
            <a:ext cx="76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m banqueiro de investimentos americano estava no c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uma povoação das Caraíbas, quando chegou um b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m um único pescad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836640"/>
            <a:ext cx="4476600" cy="1496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5440" y="3111480"/>
            <a:ext cx="627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ntro do barco, havia vários atuns amare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bom tama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elogiou o pescador pela qual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o pescado e perguntou-lh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o tempo gastou a pescá-los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respondeu que pouc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65640" y="620640"/>
            <a:ext cx="687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americano perguntou-lhe logo: “Porque não ga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ais tempo e tira mais pescado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pescador disse que tinha o suficiente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atisfazer as necessidades imediatas da sua famíl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9560" y="4570560"/>
            <a:ext cx="45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lveu o americano: “Mas que f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cê com o resto do seu temp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1720" y="40464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disse: “Depois de pescar, descanso um pouc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o com os meus filhos, durmo a sesta com a minh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u ao povoado à noite, onde tomo vinho e to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uitarra com os meus amig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enho uma vida prazenteira e ocupada"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42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0240" y="3068640"/>
            <a:ext cx="764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 americano replicou: "Sou um especialista em gest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deria ajudá-lo. Você deveria investir mais do seu tempo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sca e adquirir um barco ma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pois, com os ganhos, poderia comprar vários bar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 eventualmente até uma frota de barcos pesqu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685440" cy="779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87760" y="2606760"/>
            <a:ext cx="689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m vez de vender o pescado a um intermediár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fazê-lo directamente a um processador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ventualmente até abrir a sua própria processadora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assim controlar a produç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rocessamento e a distribuição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veria sair deste pequeno povoado e ir par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apital, donde geriria a sua empresa em expansão"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745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0040" y="2986200"/>
            <a:ext cx="7944120" cy="3753000"/>
          </a:xfrm>
          <a:prstGeom prst="rect">
            <a:avLst/>
          </a:prstGeom>
          <a:gradFill rotWithShape="0">
            <a:gsLst>
              <a:gs pos="0">
                <a:srgbClr val="bbe0e3">
                  <a:alpha val="59215"/>
                </a:srgbClr>
              </a:gs>
              <a:gs pos="100000">
                <a:srgbClr val="566768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perguntou: “Mas, quanto tempo demoraria iss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espondeu: “Entre 15 e 20 anos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depois?“, perguntou o pescador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iu-se e disse que essa era a melhor parte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Quando chegar a hora, deveria anunciar uma 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(Oferta Pública de Aquisição) e vender as acções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a empresa ao público. Ficará rico, terá milhões!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Milhões ... E depois?“, tornou o pesc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75080" y="692280"/>
            <a:ext cx="7904520" cy="2533320"/>
          </a:xfrm>
          <a:prstGeom prst="rect">
            <a:avLst/>
          </a:prstGeom>
          <a:gradFill rotWithShape="0">
            <a:gsLst>
              <a:gs pos="0">
                <a:srgbClr val="bbe0e3">
                  <a:alpha val="35294"/>
                </a:srgbClr>
              </a:gs>
              <a:gs pos="100000">
                <a:srgbClr val="566768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z o america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á então retirar-se. Vai para uma povoação da cos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nde pode dormir até tarde, pescar um pouc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ar com os seus filhos, dormir a sesta com a su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r todas as noites ao povoado tomar um vinh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ocar guitarra com os seus amigos"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sponde o pescador: “Por acaso isso não é o que já tenho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8:41Z</dcterms:created>
  <dc:creator>operacao</dc:creator>
  <dc:description/>
  <cp:keywords>amar lo que tenemos</cp:keywords>
  <dc:language>en-US</dc:language>
  <cp:lastModifiedBy>operacao</cp:lastModifiedBy>
  <dcterms:modified xsi:type="dcterms:W3CDTF">2009-01-16T10:02:52Z</dcterms:modified>
  <cp:revision>30</cp:revision>
  <dc:subject>reflexivo</dc:subject>
  <dc:title>Diapositivo 1</dc:title>
</cp:coreProperties>
</file>