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77B-AA8E-4CFB-AB34-B3572383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405-0E32-4669-B867-14D32012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0E9-5118-4C85-8132-D5E4A560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B16-13F4-4FAF-857C-90F73330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D89-AC76-40D4-AA76-18B0EBD8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DE7-8A69-4A25-9D41-D4059A17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7B9-48B1-4B14-82FC-526BA625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E2A-4470-41BE-B268-B4AD8535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606-63BB-4091-8637-F6F03456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4A8-3950-4F3B-8A4F-983884A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0D7-0B83-48E7-A236-2EC0B0F7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1EB-8ECE-44E9-B599-BCDF878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DB71-14CC-4482-86C6-38B90FE255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14400" y="68580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latin typeface="Arial Rounded MT Bold"/>
              </a:rPr>
              <a:t>Era uma vez..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28600" y="2133720"/>
            <a:ext cx="89154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Havia uma vez uma ilha, onde viviam todos os sentimentos e valores do hom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 Bom Humor, a Tristeza, a Sabedoría...  como também todos os demais, inclusive o Am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DF2A-C946-4791-8701-E2CB6CDFD266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r"/>
    <p:sndAc>
      <p:stSnd>
        <p:snd r:embed="rId2" name="1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685800" y="321480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Baskerville"/>
              </a:rPr>
              <a:t>Também envie-o a todos que considera AMIGO. Também se puder, reenvia-me. Se eu a receber, posso estar certo de que meu “círculo” de amizades é formado por verdadeiros amig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57160" y="100008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Envie esta mensagem a seus amigos para que saibam quão importantes eles são para você, e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que você não quer esquecê-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1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6E49-38EF-4C04-BBDA-8829BE85F4CD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13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9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285840" y="2571840"/>
            <a:ext cx="868680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e não envíar a ninguém, quer dizer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você não tem tempo e se esqueceu de teus ami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Pelo menos por enquanto).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71760" y="4929120"/>
            <a:ext cx="6072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JIM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5D98-0CDA-4DA5-8401-9BDDADD0E04C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771640" y="616572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ylove1087@hotmail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457200" y="723960"/>
            <a:ext cx="83818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Um dia anunciou-se aos sentimentos que a ilha iria submergi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ão todos prepararam seus barcos e partiram. Somente o Amor ficou esperando, até o último mom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Quando a ilha estava a ponto de afundar, o Amor decidiu pedir aju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0C69-0B1F-4D2D-B503-DD30D32F5CDA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28600" y="990720"/>
            <a:ext cx="89154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A Riqueza passou perto do Amor em um barco luxuosíssimo e o Amor lhe dis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Riqueza, podes levar-me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ão posso porque tenho muito ouro e prata dentro da barca e não há lugar para ti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8CD5-B735-4CC0-8D66-DF85511A2D15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1066680"/>
            <a:ext cx="91440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ão o Amor decidiu pedir ao Orgulho que estava passando em uma magnífica barc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rgulho te imploro, podes levar-me contigo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Não posso levar-te, Amor" respondeu o Orgulho: “aqui  tudo é perfeito e poderías arruinar minha barca”.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3526-1D62-4336-8D1C-99CE64BF3342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28600" y="1219320"/>
            <a:ext cx="86868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ntão o Amor disse à Tristeza que estava se aproximand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Tristeza te peço, deixe-me ir contigo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Oh Amor" respondeu a Tristeza, “estou tão triste que necessito estar sozinha”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8A1C-0028-42E4-8706-C720E8A4DEBA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9 Marcador de pie de página"/>
          <p:cNvSpPr/>
          <p:nvPr/>
        </p:nvSpPr>
        <p:spPr>
          <a:xfrm>
            <a:off x="142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314316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m seguida o Bom Humor passou em frente ao Amor; mas estava tão contente que não sentiu que o estavam cham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8249-C829-44B3-A431-C9103F909CEC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85840" y="1000080"/>
            <a:ext cx="85341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De repente uma voz dis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"Vem Amor, que te levo comigo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Era um velho quem o havia cham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 Amor se sentiu tão contente e cheio de alegria que se esqueceu de perguntar o nome do velh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Quando chegou à terra firme, o velho se fo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FB0E-A62E-4D09-B8F2-4E9059DBCE9F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304920" y="91440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 Amor se deu conta do quanto lhe devia e perguntou ao Saber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Saber, podes dizer-me quem me ajudou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6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Foi  o Tempo” respondeu o Sa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FB39-24B9-4BB1-B4BB-63B2A817A3C1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28600" y="1295280"/>
            <a:ext cx="89154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 Tempo?" perguntou o Amor a si mesm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Por que será que o Tempo me ajudou?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O Saber cheio de sabedoría respondeu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“</a:t>
            </a:r>
            <a:r>
              <a:rPr b="1" lang="it-IT" sz="3200" spc="-1" strike="noStrike">
                <a:solidFill>
                  <a:srgbClr val="ffffff"/>
                </a:solidFill>
                <a:latin typeface="Baskerville"/>
                <a:ea typeface="Arial Unicode MS"/>
              </a:rPr>
              <a:t>Porque só o Tempo é capaz de compreender o quanto o Amor é importante na vid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8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230D-D9B4-4613-AB91-C6A963D0DFC1}" type="slidenum"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9 Marcador de pie de página"/>
          <p:cNvSpPr/>
          <p:nvPr/>
        </p:nvSpPr>
        <p:spPr>
          <a:xfrm>
            <a:off x="7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 Rounded MT Bold"/>
              </a:rPr>
              <a:t>J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47:50Z</dcterms:created>
  <dc:creator>jimmito</dc:creator>
  <dc:description/>
  <dc:language>en-US</dc:language>
  <cp:lastModifiedBy>Locoselli</cp:lastModifiedBy>
  <dcterms:modified xsi:type="dcterms:W3CDTF">2009-09-17T23:03:33Z</dcterms:modified>
  <cp:revision>28</cp:revision>
  <dc:subject/>
  <dc:title>Presentazione di PowerPoint</dc:title>
</cp:coreProperties>
</file>