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1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CF08-C2D9-4DF0-B9B5-07FDC46C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9101-B414-4B4D-BB9B-6603B16E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C2D2-6281-45A5-B7AC-E2C484CA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5479-BA43-430E-8042-483639F2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1C33-7C9F-4F84-B8E3-FAC212A9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E28F-BD19-450F-90F8-41711959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BADD-CF9D-4062-BA81-2569AAAC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6EDE-BB21-41E8-B570-F14D2E8E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6294-53B8-43DB-A2F1-9A0E23B9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CA7F-905D-4EFB-971C-915D8680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AD2A-C224-4E9D-87C7-6D749180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7EC9-A39C-4214-81E1-ADEC8264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0640-9789-4F27-9BCA-387144B52DF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14400" y="685800"/>
            <a:ext cx="7162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latin typeface="Arial Rounded MT Bold"/>
              </a:rPr>
              <a:t>Era uma vez...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28600" y="2133720"/>
            <a:ext cx="8915400" cy="46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Havia uma vez uma ilha, onde viviam todos os sentimentos e valores do home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o Bom Humor, a Tristeza, a Sabedoría...  como também todos os demais, inclusive o Am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9DB3-41D7-4607-A542-2A5EB7957058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r"/>
    <p:sndAc>
      <p:stSnd>
        <p:snd r:embed="rId2" name="1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685800" y="3214800"/>
            <a:ext cx="8077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Baskerville"/>
              </a:rPr>
              <a:t>Também envie-o a todos que considera AMIGO. Também se puder, reenvia-me. Se eu a receber, posso estar certo de que meu “círculo” de amizades é formado por verdadeiros amigo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857160" y="100008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Envie esta mensagem a seus amigos para que saibam quão importantes eles são para você, e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que você não quer esquecê-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1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DCBD-1B0D-4BE5-87C2-5412621552E7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13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9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6"/>
          <p:cNvSpPr/>
          <p:nvPr/>
        </p:nvSpPr>
        <p:spPr>
          <a:xfrm>
            <a:off x="285840" y="2571840"/>
            <a:ext cx="8686800" cy="157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e não envíar a ninguém, quer dizer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você não tem tempo e se esqueceu de teus ami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(Pelo menos por enquanto).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571760" y="4929120"/>
            <a:ext cx="60721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JIM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6357-00F4-439B-B0F5-5408E73CB7A0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9 Marcador de pie de página"/>
          <p:cNvSpPr/>
          <p:nvPr/>
        </p:nvSpPr>
        <p:spPr>
          <a:xfrm>
            <a:off x="142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771640" y="6165720"/>
            <a:ext cx="44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mylove1087@hotmail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457200" y="723960"/>
            <a:ext cx="8381880" cy="61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Um dia anunciou-se aos sentimentos que a ilha iria submergi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ntão todos prepararam seus barcos e partiram. Somente o Amor ficou esperando, até o último momen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Quando a ilha estava a ponto de afundar, o Amor decidiu pedir ajud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AA8B-AAEA-4E47-8BA5-0EAD80F81C42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28600" y="990720"/>
            <a:ext cx="89154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A Riqueza passou perto do Amor em um barco luxuosíssimo e o Amor lhe diss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 “</a:t>
            </a: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Riqueza, podes levar-me contigo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Não posso porque tenho muito ouro e prata dentro da barca e não há lugar para ti.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18CC-1DF3-4EED-80CC-0A4296481AD4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0" y="1066680"/>
            <a:ext cx="9144000" cy="49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ntão o Amor decidiu pedir ao Orgulho que estava passando em uma magnífica barca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“</a:t>
            </a: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Orgulho te imploro, podes levar-me contigo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Não posso levar-te, Amor" respondeu o Orgulho: “aqui  tudo é perfeito e poderías arruinar minha barca”.</a:t>
            </a: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FBF8-DF27-4055-98D2-D42637A81491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28600" y="1219320"/>
            <a:ext cx="868680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ntão o Amor disse à Tristeza que estava se aproximando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Tristeza te peço, deixe-me ir contigo.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Oh Amor" respondeu a Tristeza, “estou tão triste que necessito estar sozinha”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6C8A-5910-465A-AD67-FA84D660D55A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9 Marcador de pie de página"/>
          <p:cNvSpPr/>
          <p:nvPr/>
        </p:nvSpPr>
        <p:spPr>
          <a:xfrm>
            <a:off x="142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0" y="3143160"/>
            <a:ext cx="7643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m seguida o Bom Humor passou em frente ao Amor; mas estava tão contente que não sentiu que o estavam cham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1D99-F3BC-4A50-8BFF-65F9C6F78096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85840" y="1000080"/>
            <a:ext cx="853416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De repente uma voz diss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Vem Amor, que te levo comigo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ra um velho quem o havia cham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O Amor se sentiu tão contente e cheio de alegria que se esqueceu de perguntar o nome do velh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Quando chegou à terra firme, o velho se fo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4CEA-9731-4B99-995C-CF16C39EE15A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304920" y="914400"/>
            <a:ext cx="84582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O Amor se deu conta do quanto lhe devia e perguntou ao Saber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“</a:t>
            </a: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Saber, podes dizer-me quem me ajudou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“</a:t>
            </a: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Foi  o Tempo” respondeu o Sa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6910-527C-44B8-ABA9-03DB6330E321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28600" y="1295280"/>
            <a:ext cx="89154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“</a:t>
            </a: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O Tempo?" perguntou o Amor a si mesm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“</a:t>
            </a: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Por que será que o Tempo me ajudou?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O Saber cheio de sabedoría respondeu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“</a:t>
            </a: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Porque só o Tempo é capaz de compreender o quanto o Amor é importante na vid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7C9F-1E90-44DF-A0D9-106D723820F1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3:47:50Z</dcterms:created>
  <dc:creator>jimmito</dc:creator>
  <dc:description/>
  <dc:language>en-US</dc:language>
  <cp:lastModifiedBy>Locoselli</cp:lastModifiedBy>
  <dcterms:modified xsi:type="dcterms:W3CDTF">2009-09-17T23:03:33Z</dcterms:modified>
  <cp:revision>28</cp:revision>
  <dc:subject/>
  <dc:title>Presentazione di PowerPoint</dc:title>
</cp:coreProperties>
</file>