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08-Golpe%20de%20Mestre.wav-1.wav-FINAL.wav" ContentType="audio/x-wav"/>
  <Override PartName="/ppt/media/explode.wav" ContentType="audio/x-wav"/>
  <Override PartName="/ppt/media/image1.gif" ContentType="image/gif"/>
  <Override PartName="/ppt/media/MUTTLEY-EDI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20E-5EB0-4FF1-B8EE-CCC49C49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A98-F732-40B2-8F8D-323E7F8F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284-4AC9-43AB-BC68-726B23AD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8D9-4D80-4872-81DE-E6FC22B2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F5C-247E-4CDF-A62C-2AB49848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BC9-A460-4FBC-9096-A29AAE9B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43E-9505-41CF-828E-4FF799D9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63E-90A7-445C-9892-A8ED2301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471-FF9D-4C54-8B8D-A08DF621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ABC-9F53-4C57-BF1D-7C60E71A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BAA-875A-406C-8737-7B6D004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362-27D2-48C3-8E7E-6E02585D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A868-C33F-4647-B1B2-271A67B83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08-Golpe%20de%20Mestre.wav-1.wav-FINA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MUTTLEY-EDIT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81952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O Aniversário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1" name="08-Golpe%20de%20Mestre.wav-1.wav-FINA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68580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  </a:t>
            </a:r>
            <a:r>
              <a:rPr b="1" lang="pt-BR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"Sabe, Dra Promotora...                                    está um dia</a:t>
            </a:r>
            <a:br>
              <a:rPr sz="4000"/>
            </a:br>
            <a:r>
              <a:rPr b="1" lang="pt-BR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lindo lá fora, e já que é o dia do seu aniversário, poderíamos almoçar</a:t>
            </a:r>
            <a:br>
              <a:rPr sz="4000"/>
            </a:br>
            <a:r>
              <a:rPr b="1" lang="pt-BR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juntos, só a senhora e eu,                      o que acha?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6000"/>
            <a:ext cx="8534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Achei a idéia excelente e fomos a um lugar bastante reservado.</a:t>
            </a:r>
            <a:br>
              <a:rPr sz="1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198108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Divertimo-nos muito e,                           no caminho de volta,                       ele sugeri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848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   </a:t>
            </a: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"Dra... com esse dia</a:t>
            </a: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tão lindo, acho que não devemos voltar ao Fórum.                                                       Vamos até o meu</a:t>
            </a: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apartamento, e lá tomaremos um drinque.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1219320"/>
            <a:ext cx="739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Fomos então para o apartamento dele, e, enquanto eu saboreava um Martini,ele diss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143000"/>
            <a:ext cx="8153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"Se não se importa, eu vou até o meu quarto vestir uma roupa mais</a:t>
            </a:r>
            <a:br>
              <a:rPr sz="4000"/>
            </a:b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confortável.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27432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Bookman Old Style"/>
                <a:ea typeface="Arial"/>
              </a:rPr>
              <a:t>"Tudo bem"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, respondi,                     </a:t>
            </a:r>
            <a:r>
              <a:rPr b="1" lang="en-US" sz="4000" spc="-1" strike="noStrike">
                <a:solidFill>
                  <a:srgbClr val="ccccff"/>
                </a:solidFill>
                <a:latin typeface="Bookman Old Style"/>
                <a:ea typeface="Arial"/>
              </a:rPr>
              <a:t>"Fique à vontade.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1600200"/>
            <a:ext cx="7620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Decorridos mais ou menos uns cinco minutos, ele saiu do quarto carregando u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bolo enorme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425520"/>
            <a:ext cx="655344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  </a:t>
            </a: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...seguido de meu marido,                                 meus filhos, amigas e                                       todo o pessoal do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Fórum...                                                         Todos cantando,                                                      “Parabéns Para Você!!!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09680" y="1981080"/>
            <a:ext cx="541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  <a:ea typeface="Arial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Bookman Old Style"/>
                <a:ea typeface="Arial"/>
              </a:rPr>
              <a:t>E...                                        lá estava eu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Bookman Old Style"/>
                <a:ea typeface="Arial"/>
              </a:rPr>
              <a:t>Era meu aniversário de 39 anos e meu humor não estava lá essas coisas.</a:t>
            </a:r>
            <a:br>
              <a:rPr sz="12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1219320"/>
            <a:ext cx="66852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ookman Old Style"/>
                <a:ea typeface="Arial"/>
              </a:rPr>
              <a:t>Sem sutiã, sem calcinha, sentada no sofá da sala !...</a:t>
            </a:r>
            <a:br>
              <a:rPr sz="4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1" name="explod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1295280"/>
            <a:ext cx="6781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ookman Old Style"/>
                <a:ea typeface="Arial"/>
              </a:rPr>
              <a:t>  </a:t>
            </a:r>
            <a:r>
              <a:rPr b="1" lang="en-US" sz="5400" spc="-1" strike="noStrike">
                <a:solidFill>
                  <a:srgbClr val="ffff00"/>
                </a:solidFill>
                <a:latin typeface="Bookman Old Style"/>
                <a:ea typeface="Arial"/>
              </a:rPr>
              <a:t>É por isso que eu sempre digo:                                       </a:t>
            </a:r>
            <a:r>
              <a:rPr b="1" lang="en-US" sz="5400" spc="-1" strike="noStrike">
                <a:solidFill>
                  <a:srgbClr val="ccccff"/>
                </a:solidFill>
                <a:latin typeface="Bookman Old Style"/>
                <a:ea typeface="Arial"/>
              </a:rPr>
              <a:t>"Estagiário só faz merda!..."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1" name="explod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STÃO%20FALANDO%20DE%20VC%20111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MUTTLEY-EDIT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Naquela manhã, ao acordar, dirigi-me à copa para tomar café, na expectativa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de que meu marido dissesse:                   </a:t>
            </a:r>
            <a:r>
              <a:rPr b="1" lang="pt-BR" sz="4000" spc="-1" strike="noStrike">
                <a:solidFill>
                  <a:srgbClr val="ffffff"/>
                </a:solidFill>
                <a:latin typeface="Bookman Old Style"/>
                <a:ea typeface="Arial"/>
              </a:rPr>
              <a:t>"Feliz aniversário, querida!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Mas ele não disse nada...                        Aí pensei:                                                   </a:t>
            </a:r>
            <a:r>
              <a:rPr b="1" lang="pt-BR" sz="4000" spc="-1" strike="noStrike">
                <a:solidFill>
                  <a:srgbClr val="ccccff"/>
                </a:solidFill>
                <a:latin typeface="Bookman Old Style"/>
                <a:ea typeface="Arial"/>
              </a:rPr>
              <a:t>“ Esse é o homem que eu mereço !”</a:t>
            </a:r>
            <a:br>
              <a:rPr sz="1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213372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Mas continuei a sonhar:                               </a:t>
            </a:r>
            <a:r>
              <a:rPr b="1" lang="en-US" sz="4000" spc="-1" strike="noStrike">
                <a:solidFill>
                  <a:srgbClr val="ccccff"/>
                </a:solidFill>
                <a:latin typeface="Bookman Old Style"/>
                <a:ea typeface="Arial"/>
              </a:rPr>
              <a:t>"As crianças certamente lembrarão..."</a:t>
            </a:r>
            <a:br>
              <a:rPr sz="1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286000"/>
            <a:ext cx="830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Quando elas chegaram para o café, não disseram nada também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09480"/>
            <a:ext cx="883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Saí bastante desanimada, mas, me senti um pouco melhor quando entrei no Fórum e meu estagiário disse:                                </a:t>
            </a:r>
            <a:r>
              <a:rPr b="1" lang="en-US" sz="4000" spc="-1" strike="noStrike">
                <a:solidFill>
                  <a:srgbClr val="00cc99"/>
                </a:solidFill>
                <a:latin typeface="Bookman Old Style"/>
                <a:ea typeface="Arial"/>
              </a:rPr>
              <a:t>"Bom dia, Dra...                                     Feliz Aniversário!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24382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  <a:ea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Finalmente alguém havia lembr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1523880"/>
            <a:ext cx="61722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Trabalhei até o  meio-dia, quando 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ookman Old Style"/>
                <a:ea typeface="Arial"/>
              </a:rPr>
              <a:t>estagiário entrou na             minha sala dizendo:</a:t>
            </a:r>
            <a:r>
              <a:rPr b="1" lang="en-US" sz="1200" spc="-1" strike="noStrike">
                <a:solidFill>
                  <a:srgbClr val="ffff00"/>
                </a:solidFill>
                <a:latin typeface="Bookman Old Style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2:22:51Z</dcterms:created>
  <dc:creator>NS</dc:creator>
  <dc:description/>
  <dc:language>en-US</dc:language>
  <cp:lastModifiedBy>NS</cp:lastModifiedBy>
  <dcterms:modified xsi:type="dcterms:W3CDTF">2005-09-28T02:23:29Z</dcterms:modified>
  <cp:revision>2</cp:revision>
  <dc:subject/>
  <dc:title>Apresentação do PowerPoint</dc:title>
</cp:coreProperties>
</file>