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Djavan%20-%20A%20Ilh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javan%20-%20A%20Ilh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3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ff33"/>
                </a:solidFill>
                <a:latin typeface="Comic Sans MS"/>
              </a:rPr>
              <a:t>1.000 Ilhas</a:t>
            </a:r>
            <a:r>
              <a:rPr b="0" lang="pt-BR" sz="3200" spc="-1" strike="noStrike">
                <a:solidFill>
                  <a:srgbClr val="66ff33"/>
                </a:solidFill>
                <a:latin typeface="Comic Sans MS"/>
              </a:rPr>
              <a:t> – </a:t>
            </a:r>
            <a:r>
              <a:rPr b="0" lang="pt-BR" sz="2800" spc="-1" strike="noStrike">
                <a:solidFill>
                  <a:srgbClr val="ff9900"/>
                </a:solidFill>
                <a:latin typeface="Comic Sans MS"/>
              </a:rPr>
              <a:t>O Jardim do Grande Espír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6248520"/>
            <a:ext cx="906768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Música: A Ilha</a:t>
            </a: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               Fotos compiladas por: 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Canta: Djavan</a:t>
            </a: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66ff33"/>
                </a:solidFill>
                <a:latin typeface="Comic Sans MS"/>
              </a:rPr>
              <a:t>       </a:t>
            </a:r>
            <a:r>
              <a:rPr b="0" lang="pt-BR" sz="1000" spc="-1" strike="noStrike">
                <a:solidFill>
                  <a:srgbClr val="ff9900"/>
                </a:solidFill>
                <a:latin typeface="Comic Sans MS"/>
              </a:rPr>
              <a:t>Use o M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Djavan%20-%20A%20Ilh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771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Esta é a menor ponte internacional do mundo: a ilha da esquerda é canadense e a da direita, america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4771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São muitas as mansões construídas em ilhas particulares, como estas que veremos a seguir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A região de 1.000 ilhas faz fronteira entre a província de Ontário, no Canadá e o estado de Nova York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228600" y="620640"/>
            <a:ext cx="8735760" cy="5211360"/>
            <a:chOff x="228600" y="620640"/>
            <a:chExt cx="8735760" cy="52113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228600" y="620640"/>
              <a:ext cx="8735760" cy="52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8591600">
              <a:off x="8096400" y="3058560"/>
              <a:ext cx="446760" cy="163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8436200">
              <a:off x="8015400" y="305568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ff0000"/>
                  </a:solidFill>
                  <a:latin typeface="Arial"/>
                </a:rPr>
                <a:t>1,000 Islan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396120"/>
            <a:ext cx="91440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771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Os índios que viviam nestas terras a chamavam de </a:t>
            </a: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Manatoana</a:t>
            </a:r>
            <a:r>
              <a:rPr b="0" lang="pt-BR" sz="1400" spc="-1" strike="noStrike">
                <a:solidFill>
                  <a:srgbClr val="ff9900"/>
                </a:solidFill>
                <a:latin typeface="Comic Sans MS"/>
              </a:rPr>
              <a:t>: o Jardim do Grande Espíri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4771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Quem não pode ter uma mansão se contenta com uma ilhotinha onde mal cabe uma casinha modesta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74760"/>
            <a:ext cx="9144000" cy="6107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434280"/>
            <a:ext cx="9144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Este castelo era para ser uma prova de amor do ex-dono do </a:t>
            </a:r>
            <a:r>
              <a:rPr b="0" lang="en-US" sz="1400" spc="-1" strike="noStrike">
                <a:solidFill>
                  <a:srgbClr val="66ff33"/>
                </a:solidFill>
                <a:latin typeface="Comic Sans MS"/>
              </a:rPr>
              <a:t>Hotel</a:t>
            </a: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66ff33"/>
                </a:solidFill>
                <a:latin typeface="Comic Sans MS"/>
              </a:rPr>
              <a:t>Waldorf Astoria</a:t>
            </a: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 para sua esposa Loui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74192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400800"/>
            <a:ext cx="91440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Só que quando ela morreu de repente em 1904, o </a:t>
            </a:r>
            <a:r>
              <a:rPr b="0" lang="en-US" sz="1400" spc="-1" strike="noStrike">
                <a:solidFill>
                  <a:srgbClr val="66ff33"/>
                </a:solidFill>
                <a:latin typeface="Comic Sans MS"/>
              </a:rPr>
              <a:t>George C. Boldt</a:t>
            </a: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 parou a construção e nunca mais voltou lá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771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São 80 Km de ilhas no rio São Lourenço, que sai do Lago Ontário para desaguar no Oceano Atlânt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-3240"/>
            <a:ext cx="8229600" cy="6864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43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Por </a:t>
            </a:r>
            <a:r>
              <a:rPr b="0" lang="en-US" sz="1400" spc="-1" strike="noStrike">
                <a:solidFill>
                  <a:srgbClr val="66ff33"/>
                </a:solidFill>
                <a:latin typeface="Comic Sans MS"/>
              </a:rPr>
              <a:t>73 </a:t>
            </a: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anos o castelo ficou inacabado até que em 1977 uma Fundação assumiu o término da obr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396120"/>
            <a:ext cx="91440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434280"/>
            <a:ext cx="9144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São 120 quartos e o prédio em frente ao castelo foi projetado para o Mr. Boldt guardar seus muitos barc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434280"/>
            <a:ext cx="9144000" cy="34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Eis uma vista traseira do prédio que originalmente seria um galpão para as embarcaçõ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586360" y="650088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Comic Sans MS"/>
              </a:rPr>
              <a:t>F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4771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No trecho das 1.000 ilhas, o rio S. Lourenço chega a ter 24 Km de largu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4771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Com </a:t>
            </a:r>
            <a:r>
              <a:rPr b="0" lang="en-US" sz="1400" spc="-1" strike="noStrike">
                <a:solidFill>
                  <a:srgbClr val="66ff33"/>
                </a:solidFill>
                <a:latin typeface="Comic Sans MS"/>
              </a:rPr>
              <a:t>profundidade</a:t>
            </a: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s</a:t>
            </a:r>
            <a:r>
              <a:rPr b="0" lang="en-US" sz="1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de até </a:t>
            </a:r>
            <a:r>
              <a:rPr b="0" lang="en-US" sz="1400" spc="-1" strike="noStrike">
                <a:solidFill>
                  <a:srgbClr val="66ff33"/>
                </a:solidFill>
                <a:latin typeface="Comic Sans MS"/>
              </a:rPr>
              <a:t>60 m</a:t>
            </a: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, o rio permite a navegação entre o Oceano Atlântico e os Grandes Lag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4771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O último censo indicou haver um total de </a:t>
            </a:r>
            <a:r>
              <a:rPr b="0" lang="en-US" sz="1400" spc="-1" strike="noStrike">
                <a:solidFill>
                  <a:srgbClr val="66ff33"/>
                </a:solidFill>
                <a:latin typeface="Comic Sans MS"/>
              </a:rPr>
              <a:t>1</a:t>
            </a: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.</a:t>
            </a:r>
            <a:r>
              <a:rPr b="0" lang="en-US" sz="1400" spc="-1" strike="noStrike">
                <a:solidFill>
                  <a:srgbClr val="66ff33"/>
                </a:solidFill>
                <a:latin typeface="Comic Sans MS"/>
              </a:rPr>
              <a:t>865</a:t>
            </a: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 ilhas neste trecho do 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Para ser considerada ilha é preciso que a terra esteja acima do nível da água todos os dias do 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4771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Além disto ela tem de ter uma área mínima de 1 pé quadrado </a:t>
            </a: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(</a:t>
            </a:r>
            <a:r>
              <a:rPr b="0" lang="en-US" sz="1000" spc="-1" strike="noStrike">
                <a:solidFill>
                  <a:srgbClr val="66ff33"/>
                </a:solidFill>
                <a:latin typeface="Comic Sans MS"/>
              </a:rPr>
              <a:t>900 cm²</a:t>
            </a: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)</a:t>
            </a: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 e possuir pelo menos 1 árv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15:32:54Z</dcterms:created>
  <dc:creator>EB</dc:creator>
  <dc:description/>
  <dc:language>en-US</dc:language>
  <cp:lastModifiedBy>Daniel</cp:lastModifiedBy>
  <dcterms:modified xsi:type="dcterms:W3CDTF">2008-02-01T12:46:20Z</dcterms:modified>
  <cp:revision>57</cp:revision>
  <dc:subject/>
  <dc:title>Álbum de fotografias</dc:title>
</cp:coreProperties>
</file>