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6.jpeg" ContentType="image/jpeg"/>
  <Override PartName="/ppt/media/EL%20PESCADOR.wav" ContentType="audio/x-wav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798-A636-4025-8BEE-A8D70CD8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4C6-6538-4394-9B1B-BD0D08A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D3E-2370-4E66-B075-D2B78567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49E-E5AE-47DB-A4ED-011DE54E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14E-1B60-49A1-ABD5-8356340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797-21E1-43C0-9A1F-30CC5CEF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A4A-003C-4026-BBDD-3FA4332A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30A-271B-4389-970C-A50E3264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392-5924-4DA5-8C75-3BADB8E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8B7-51FB-4811-B3E1-BDAD398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DD4-16C3-412B-8655-0AE9622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715-00FA-412E-A997-DFC75502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C65C-CEF9-43FB-A0E9-DDB32D9177C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L%20PESCADOR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20536800">
            <a:off x="304920" y="1066320"/>
            <a:ext cx="8447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16367" dir="2987497" blurRad="0" rotWithShape="0">
                    <a:srgbClr val="3333cc"/>
                  </a:outerShdw>
                </a:effectLst>
                <a:latin typeface="Impact"/>
              </a:rPr>
              <a:t>Curioso N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16367" dir="2987497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19720" y="3276720"/>
            <a:ext cx="33526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TimpaniHeavy"/>
              </a:rPr>
              <a:t>13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TimpaniHeavy"/>
              <a:ea typeface="TimpaniHeavy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37372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Academy Engraved LET"/>
              </a:rPr>
              <a:t>CLIQUE PARA MU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315200" cy="5462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24000" y="602136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Comic Sans MS"/>
              </a:rPr>
              <a:t>Sofreu um atentado </a:t>
            </a:r>
            <a:r>
              <a:rPr b="1" lang="pl-PL" sz="32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Comic Sans MS"/>
              </a:rPr>
              <a:t>de </a:t>
            </a:r>
            <a:r>
              <a:rPr b="1" lang="pt-PT" sz="3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a</a:t>
            </a:r>
            <a:r>
              <a:rPr b="1" lang="pt-BR" sz="3200" spc="-1" strike="noStrike">
                <a:solidFill>
                  <a:srgbClr val="003399"/>
                </a:solidFill>
                <a:latin typeface="Comic Sans MS"/>
              </a:rPr>
              <a:t>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788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03040"/>
            <a:ext cx="8381880" cy="5537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5105520"/>
            <a:ext cx="861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943600"/>
            <a:ext cx="74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Faleceu na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l-PL" sz="36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1" lang="pt-BR" sz="3600" spc="-1" strike="noStrike">
                <a:solidFill>
                  <a:srgbClr val="ff0000"/>
                </a:solidFill>
                <a:latin typeface="Comic Sans MS"/>
              </a:rPr>
              <a:t>ª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semana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do 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6228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19320" y="230040"/>
            <a:ext cx="7657920" cy="501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66680" y="533412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Quando faleceu ele tinha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85 </a:t>
            </a: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8+5 = </a:t>
            </a:r>
            <a:r>
              <a:rPr b="1" lang="pl-PL" sz="36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861240" cy="487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258920" y="537372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Data</a:t>
            </a:r>
            <a:r>
              <a:rPr b="1" lang="pt-BR" sz="3200" spc="-1" strike="noStrike">
                <a:solidFill>
                  <a:srgbClr val="003399"/>
                </a:solidFill>
                <a:latin typeface="Comic Sans MS"/>
              </a:rPr>
              <a:t> da sua morte</a:t>
            </a: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 02.04.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Comic Sans MS"/>
              </a:rPr>
              <a:t>0+2+0+4+2+0+0+5 = </a:t>
            </a:r>
            <a:r>
              <a:rPr b="1" lang="pl-PL" sz="32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765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1720" y="304920"/>
            <a:ext cx="4124520" cy="617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5003640" y="1341360"/>
            <a:ext cx="3886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A hora da s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m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pt-PT" sz="4000" spc="-1" strike="noStrike">
                <a:solidFill>
                  <a:srgbClr val="003399"/>
                </a:solidFill>
                <a:latin typeface="Comic Sans MS"/>
              </a:rPr>
              <a:t>h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37</a:t>
            </a:r>
            <a:r>
              <a:rPr b="1" lang="pt-PT" sz="4000" spc="-1" strike="noStrike">
                <a:solidFill>
                  <a:srgbClr val="003399"/>
                </a:solidFill>
                <a:latin typeface="Comic Sans MS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2+1+3+7 = </a:t>
            </a: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72464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9280" y="1413000"/>
            <a:ext cx="38102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Ele foi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265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º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PT" sz="4000" spc="-1" strike="noStrike">
                <a:solidFill>
                  <a:srgbClr val="003399"/>
                </a:solidFill>
                <a:latin typeface="Comic Sans MS"/>
              </a:rPr>
              <a:t>P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ap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2+6+5 = </a:t>
            </a: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48320" y="5335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236232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é o número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Mar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i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0040" y="230040"/>
            <a:ext cx="6070680" cy="606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6732720" y="189000"/>
            <a:ext cx="2187360" cy="13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Reenvia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isto</a:t>
            </a:r>
            <a:r>
              <a:rPr b="1" lang="pl-PL" sz="3600" spc="-1" strike="noStrike">
                <a:solidFill>
                  <a:srgbClr val="003399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para 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out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Pesso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saib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Comic Sans MS"/>
              </a:rPr>
              <a:t>dist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60280"/>
            <a:ext cx="7772400" cy="34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Faz um pedido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e verás o que acontecer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p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ensa o que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desejas de verda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267080"/>
            <a:ext cx="7848720" cy="22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Diz qual é o teu ped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antes que a contagem term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04960" y="-6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348080" cy="6248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029200" y="533520"/>
            <a:ext cx="3809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Lembras-te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de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Pessoa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Querida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0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9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8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7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6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5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4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3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2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24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4163760" cy="5761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495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03640" y="476280"/>
            <a:ext cx="3888000" cy="576108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0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221000"/>
            <a:ext cx="77961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Reenvia isto para os teus Amig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por um mo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eles estarão de novo com E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860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232520" cy="5832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6700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43280" y="476280"/>
            <a:ext cx="4332600" cy="5832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925040" cy="6253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228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6760" cy="61423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0364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950000" cy="6400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64000" y="907920"/>
            <a:ext cx="35816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JAN PAWEŁ DRUGI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NA LÍNG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POLON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  </a:t>
            </a:r>
            <a:r>
              <a:rPr b="1" lang="pt-PT" sz="40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1" lang="pt-BR" sz="4000" spc="-1" strike="noStrike">
                <a:solidFill>
                  <a:srgbClr val="ff0000"/>
                </a:solidFill>
                <a:latin typeface="Comic Sans MS"/>
              </a:rPr>
              <a:t>et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970520" cy="624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05520" y="762120"/>
            <a:ext cx="403848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Tornou-se Pap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tendo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58 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anos   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5+8 = </a:t>
            </a: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150840"/>
            <a:ext cx="6400800" cy="4800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380880" y="51814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Seu pontificado durou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9301 d</a:t>
            </a:r>
            <a:r>
              <a:rPr b="1" lang="pt-BR" sz="4000" spc="-1" strike="noStrike">
                <a:solidFill>
                  <a:srgbClr val="003399"/>
                </a:solidFill>
                <a:latin typeface="Comic Sans MS"/>
              </a:rPr>
              <a:t>ias</a:t>
            </a:r>
            <a:r>
              <a:rPr b="1" lang="pl-PL" sz="4000" spc="-1" strike="noStrike">
                <a:solidFill>
                  <a:srgbClr val="003399"/>
                </a:solidFill>
                <a:latin typeface="Comic Sans MS"/>
              </a:rPr>
              <a:t> 9+3+0+1=</a:t>
            </a:r>
            <a:r>
              <a:rPr b="1" lang="pl-PL" sz="40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1:29:45Z</dcterms:created>
  <dc:creator>.</dc:creator>
  <dc:description/>
  <dc:language>en-US</dc:language>
  <cp:lastModifiedBy>Mada</cp:lastModifiedBy>
  <dcterms:modified xsi:type="dcterms:W3CDTF">2010-05-16T13:28:18Z</dcterms:modified>
  <cp:revision>8</cp:revision>
  <dc:subject/>
  <dc:title>Prezentacja programu PowerPoint</dc:title>
</cp:coreProperties>
</file>