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AD31-A403-4593-83F3-649D85631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7745-D844-4FE1-9216-72C65B4B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A2DD-FB1A-4634-917A-FE6550C05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13AF-5F17-4E83-9BE3-94FDB297E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ECE7-F76C-48C4-A9EE-CBF986698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C289-9AEC-469A-9C1D-1D6E5430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3A8DC-6EB2-4407-B6EF-5813FC77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F2FB-A600-43D9-8C54-8AFE0F2D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9B0E-9839-41BD-907D-48FD636F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3AFB-85AC-4C1E-9FAF-6B534242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92D5-CE56-4BD2-8D83-08E47C54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740D-C88F-4666-9EDD-876382DB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5E93-455B-44C9-B920-CFA2A557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C64F4-2416-4FFE-9A9B-FE53FB8B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3A1A-CD64-4F5D-980A-2A07F365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0C21-4E97-49E8-AF48-367B77288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EDAC-378E-430A-99C6-7DFB315B0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A588-9771-4259-9155-74E9F179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BF38-B746-4C13-85DE-EC277346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B64A-E000-4C9C-AE80-59FFEAB0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C5CE-794E-4FE8-867C-3E5BC2D2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C4E9-D387-4166-A943-7D2400ED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AF59-7F65-43F4-A280-38716D8A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DF1B-46AE-4AF6-9480-EBDF87DA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6125-28BD-48B7-A9FA-6A39911A73BB}" type="slidenum">
              <a:rPr b="0" lang="pt-PT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D58A-EDB5-4138-A347-6720C1235CF6}" type="slidenum">
              <a:rPr b="0" lang="pt-PT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990720"/>
            <a:ext cx="89154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GABRIEL GARCÍA MÁRQUEZ</a:t>
            </a:r>
            <a:r>
              <a:rPr b="0" lang="es-ES" sz="32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5181480"/>
            <a:ext cx="701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“</a:t>
            </a:r>
            <a:r>
              <a:rPr b="0" lang="es-ES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12 FRASES PARA VIVER”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124080" y="2133720"/>
            <a:ext cx="2819520" cy="27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117680" y="1523880"/>
            <a:ext cx="87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ffffcc"/>
                </a:solidFill>
                <a:uFillTx/>
                <a:latin typeface="Goudy Stout"/>
              </a:rPr>
              <a:t>9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335268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9625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“</a:t>
            </a: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Quem sabe Deus quer que conheças muita gente errada  antes de conheceres a pessoa certa, para que quando a finalmente conheceres, saibas estar agradecido.“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13840" y="1523880"/>
            <a:ext cx="157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ffffcc"/>
                </a:solidFill>
                <a:uFillTx/>
                <a:latin typeface="Goudy Stout"/>
              </a:rPr>
              <a:t>10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419112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“</a:t>
            </a: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Não chores porque acabou, sorri porque aconteceu.”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737520" y="1523880"/>
            <a:ext cx="157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ffffcc"/>
                </a:solidFill>
                <a:uFillTx/>
                <a:latin typeface="Goudy Stout"/>
              </a:rPr>
              <a:t>11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419112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19112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“</a:t>
            </a: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Haverá sempre quem te desiluda, assim o que tens de fazer é seguir confiando e só ser mais  cuidadoso em quem confias duas vezes .”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342240" y="1523880"/>
            <a:ext cx="157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ffffcc"/>
                </a:solidFill>
                <a:uFillTx/>
                <a:latin typeface="Goudy Stout"/>
              </a:rPr>
              <a:t>12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4191120"/>
            <a:ext cx="838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“</a:t>
            </a: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Não te esforces tanto, as melhores coisas acontecem quando menos as esperas.”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80880" y="1600200"/>
            <a:ext cx="8458200" cy="50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  </a:t>
            </a: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Envia isto a todas as pessoas que por alguma razão são teus amigos, mesmo que não os vejas sempre, mesmo que não fales com eles sempre ... Pois lembra-te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VAG Rounded Th"/>
                <a:ea typeface="Times New Roman"/>
              </a:rPr>
              <a:t>“</a:t>
            </a:r>
            <a:r>
              <a:rPr b="1" lang="es-ES" sz="4400" spc="-1" strike="noStrike">
                <a:solidFill>
                  <a:srgbClr val="ffffcc"/>
                </a:solidFill>
                <a:latin typeface="VAG Rounded Th"/>
              </a:rPr>
              <a:t>Tudo o que acontece, acontece por alguma razão </a:t>
            </a: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!"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809880" y="152388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ffffcc"/>
                </a:solidFill>
                <a:uFillTx/>
                <a:latin typeface="Goudy Stout"/>
              </a:rPr>
              <a:t>1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3962520"/>
            <a:ext cx="87631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“</a:t>
            </a: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Quero-te não por quem és, mas por quem sou                 quando estou contigo.”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86200" y="152388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ffffcc"/>
                </a:solidFill>
                <a:uFillTx/>
                <a:latin typeface="Goudy Stout"/>
              </a:rPr>
              <a:t>2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4191120"/>
            <a:ext cx="73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“</a:t>
            </a: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Ninguém merece as tuas lágrimas , e quem as merecer não te fará chorar.”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962520" y="152388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ffffcc"/>
                </a:solidFill>
                <a:uFillTx/>
                <a:latin typeface="Goudy Stout"/>
              </a:rPr>
              <a:t>3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426708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“</a:t>
            </a: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Só porque alguém não te ama como tu queres, não significa que não te ame com toda a sua alma.”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114800" y="160020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ffffcc"/>
                </a:solidFill>
                <a:uFillTx/>
                <a:latin typeface="Goudy Stout"/>
              </a:rPr>
              <a:t>4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4267080"/>
            <a:ext cx="8077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“</a:t>
            </a: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Um verdadeiro amigo é aquele que pega na tua mão e te toca o coração.”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733920" y="13716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1600200"/>
            <a:ext cx="118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ffffcc"/>
                </a:solidFill>
                <a:uFillTx/>
                <a:latin typeface="Goudy Stout"/>
              </a:rPr>
              <a:t>5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426708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“</a:t>
            </a: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A pior forma de se sentir a falta de uma pessoa é estar sentada ao seu lado e saber que nunca a vais poder ter.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117680" y="1523880"/>
            <a:ext cx="87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ffffcc"/>
                </a:solidFill>
                <a:uFillTx/>
                <a:latin typeface="Goudy Stout"/>
              </a:rPr>
              <a:t>6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4191120"/>
            <a:ext cx="853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“</a:t>
            </a: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Nunca deixes de sorrir, nem sequer quando estás triste porque nunca sabes quem se poderá apaixonar pelo teu sorriso.”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117680" y="1600200"/>
            <a:ext cx="87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ffffcc"/>
                </a:solidFill>
                <a:uFillTx/>
                <a:latin typeface="Goudy Stout"/>
              </a:rPr>
              <a:t>7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95280" y="41911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411480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“</a:t>
            </a: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Podes ser simplesmente uma pessoa para o mundo, mas para alguém o mundo és tu.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193640" y="1523880"/>
            <a:ext cx="87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ffffcc"/>
                </a:solidFill>
                <a:uFillTx/>
                <a:latin typeface="Goudy Stout"/>
              </a:rPr>
              <a:t>8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419112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“</a:t>
            </a:r>
            <a:r>
              <a:rPr b="0" lang="es-ES" sz="3600" spc="-1" strike="noStrike">
                <a:solidFill>
                  <a:srgbClr val="ffffcc"/>
                </a:solidFill>
                <a:latin typeface="Cooper Black"/>
                <a:ea typeface="Times New Roman"/>
              </a:rPr>
              <a:t>Não passes o tempo com alguém que não esteja disposto a passá-lo contigo.”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7T18:10:40Z</dcterms:created>
  <dc:creator>G2001</dc:creator>
  <dc:description>Cualquier duda o comentario al respecto, esta es mi dirección de mail.
atodosandro@tutopia.com</dc:description>
  <dc:language>en-US</dc:language>
  <cp:lastModifiedBy>SMC</cp:lastModifiedBy>
  <dcterms:modified xsi:type="dcterms:W3CDTF">2007-08-01T10:52:27Z</dcterms:modified>
  <cp:revision>17</cp:revision>
  <dc:subject>13 Líneas para vivir.</dc:subject>
  <dc:title>Presentación de PowerPoint</dc:title>
</cp:coreProperties>
</file>