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E38-3BF2-4107-BC94-EED5D077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40D-96E3-482A-A712-B0404AA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8FB-A423-4D46-AE88-C9A26D6F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3ED-739A-43F9-9FCD-50888FEB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C437-E074-4D95-88F2-6FB07E4D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61B8-16B9-438E-8D98-7DE6DBB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3E1-A7BF-4800-9D43-F571CE59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172-5002-41E1-8D5C-797FCF0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58B-76AB-43C9-822A-CA8A1909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CCD-50B5-4373-9ADE-34DA63B4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7F5-DE5F-48A6-84C6-772573E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89C-E342-4832-ABD3-72B33863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057E-F130-4B6B-BC2A-B3A4A16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3FA0-34E3-463E-B8D5-258F576B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A8E-9C11-4E08-A9D8-4CD4417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0682-133E-4E91-B097-22A26193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7492-3254-462E-8C71-375EA9E1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601-5C87-4D4C-9CE2-7E3A0520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8AB-9795-4DC3-B82A-7A0F2BF7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07D-918B-4ED3-9377-5E1538A9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B87-0F2D-4783-9613-84A19D29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212-8E3B-4729-B69D-4E7326F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B7E-9025-48D8-8960-41D7BFB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7AA-E061-42A4-B192-183557B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A71A-9416-4045-8974-A4B23DE00006}" type="slidenum"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CFF3-91CE-4064-B345-D6DFDA8BAE88}" type="slidenum"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89154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ABRIEL GARCÍA MÁRQUEZ</a:t>
            </a:r>
            <a:r>
              <a:rPr b="0" lang="es-ES" sz="32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81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“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12 FRASES PARA VIVER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81952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9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Quem sabe Deus quer que conheças muita gente errada  antes de conheceres a pessoa certa, para que quando a finalmente conheceres, saibas estar agradecido.“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138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0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191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chores porque acabou, sorri porque aconteceu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3752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Haverá sempre quem te desiluda, assim o que tens de fazer é seguir confiando e só ser mais  cuidadoso em quem confias duas vezes .”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422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191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te esforces tanto, as melhores coisas acontecem quando menos as esperas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1600200"/>
            <a:ext cx="845820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  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Envia isto a todas as pessoas que por alguma razão são teus amigos, mesmo que não os vejas sempre, mesmo que não fales com eles sempre ... Pois lembra-t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VAG Rounded Th"/>
                <a:ea typeface="Times New Roman"/>
              </a:rPr>
              <a:t>“</a:t>
            </a:r>
            <a:r>
              <a:rPr b="1" lang="es-ES" sz="4400" spc="-1" strike="noStrike">
                <a:solidFill>
                  <a:srgbClr val="ffffcc"/>
                </a:solidFill>
                <a:latin typeface="VAG Rounded Th"/>
              </a:rPr>
              <a:t>Tudo o que acontece, acontece por alguma razão 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!"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988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962520"/>
            <a:ext cx="8763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Quero-te não por quem és, mas por quem sou                 quando estou contigo.”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1911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inguém merece as tuas lágrimas , e quem as merecer não te fará chorar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62520" y="1523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3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Só porque alguém não te ama como tu queres, não significa que não te ame com toda a sua alma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600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4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2670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Um verdadeiro amigo é aquele que pega na tua mão e te toca o coração.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00200"/>
            <a:ext cx="11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5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267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A pior forma de se sentir a falta de uma pessoa é estar sentada ao seu lado e saber que nunca a vais poder ter.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6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unca deixes de sorrir, nem sequer quando estás triste porque nunca sabes quem se poderá apaixonar pelo teu sorriso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17680" y="16002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7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1148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Podes ser simplesmente uma pessoa para o mundo, mas para alguém o mundo és tu.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364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8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911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passes o tempo com alguém que não esteja disposto a passá-lo contigo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>G2001</dc:creator>
  <dc:description>Cualquier duda o comentario al respecto, esta es mi dirección de mail.
atodosandro@tutopia.com</dc:description>
  <dc:language>en-US</dc:language>
  <cp:lastModifiedBy>SMC</cp:lastModifiedBy>
  <dcterms:modified xsi:type="dcterms:W3CDTF">2007-08-01T10:52:27Z</dcterms:modified>
  <cp:revision>17</cp:revision>
  <dc:subject>13 Líneas para vivir.</dc:subject>
  <dc:title>Presentación de PowerPoint</dc:title>
</cp:coreProperties>
</file>