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ntrumentalPian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6C7-4FA9-440A-816C-2DA4D75B0E9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86F-0796-41D0-9540-9420F70C1D25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CBCA-1393-4357-A377-320C0D6ECFC6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C8D-45C0-45EE-BA23-9FB6B6AB543B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A6C-34B1-4FE1-9BAB-5B8F2B600D15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0BF-BF60-450E-A22F-45945E819360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F112-BA90-419A-8AEB-4C6858336880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F16-A2BB-4F20-B93F-884BA087036B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E786-3388-4F77-A45F-41B140168EEC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CD6-808A-4BA1-8148-95277444BFA9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529-4623-489B-A0C4-E8E0BA819CA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E89E-6D7C-4F03-8141-85512B5DD41B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457-E155-425D-9675-D2CEB7952ADB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3EB-7D43-4BB8-B9E8-232AD69B873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8DD-D288-4EB4-ACDF-9311B1D88FF4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DB5-479F-4986-A79F-C0B56D62B85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9483-8B0F-4DF9-95C2-E6305B79E9E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3FD-27AA-458B-ABA4-813C8039C455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4CB-5C4E-44FD-8E72-91F5CABA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20C-4B38-458C-A08B-26A1B3A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0A0-5279-45CE-B932-7D5D4A8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6CA-F060-43F2-B8C7-D226A249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A3F-6BF0-47CA-8EED-D87E624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6E8-147B-4AB1-8232-A516893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DB4-DB26-4EAD-A66F-1836E0D0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235-9E35-4FC4-B122-2FFCBA1A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9AF-8906-4085-8E80-46C2E500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D56-24BF-41B2-B782-9A698BEA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F56-E3E3-4F5C-B2DA-3264604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57D-8362-4420-A463-DB7C43E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5C8-02C4-4EF8-ABA5-C5F8F6536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trumentalPian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4" descr="LO SIENTES VIDA !!"/>
          <p:cNvPicPr/>
          <p:nvPr/>
        </p:nvPicPr>
        <p:blipFill>
          <a:blip r:embed="rId1"/>
          <a:stretch/>
        </p:blipFill>
        <p:spPr>
          <a:xfrm>
            <a:off x="0" y="83664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4859280" y="2534760"/>
            <a:ext cx="20876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WordArt 46"/>
          <p:cNvSpPr txBox="1"/>
          <p:nvPr/>
        </p:nvSpPr>
        <p:spPr>
          <a:xfrm>
            <a:off x="5003640" y="3284640"/>
            <a:ext cx="39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MUTAN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0000">
    <p:wipe dir="r"/>
    <p:sndAc>
      <p:stSnd>
        <p:snd r:embed="rId2" name="intrumentalPia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chschaute Körper (2)"/>
          <p:cNvPicPr/>
          <p:nvPr/>
        </p:nvPicPr>
        <p:blipFill>
          <a:blip r:embed="rId1"/>
          <a:stretch/>
        </p:blipFill>
        <p:spPr>
          <a:xfrm>
            <a:off x="1909800" y="907920"/>
            <a:ext cx="4967280" cy="3641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es fatos confirmam a grande necessidade de usar nossa consciência para criar os corpos que realmente necessitamo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0" y="534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Todo este perfil bioquímico será drasticamente modificado quando a pessoa se sentir tranquil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urchschaute Körper (1)"/>
          <p:cNvPicPr/>
          <p:nvPr/>
        </p:nvPicPr>
        <p:blipFill>
          <a:blip r:embed="rId1"/>
          <a:srcRect l="7874" t="0" r="0" b="0"/>
          <a:stretch/>
        </p:blipFill>
        <p:spPr>
          <a:xfrm>
            <a:off x="3203640" y="1052640"/>
            <a:ext cx="5940360" cy="4749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-36360" y="2205000"/>
            <a:ext cx="34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akespeare não estava sendo metafórico quando, através de seu personagem Próspero, disse: Somos feitos da mesma matéria que os sonhos.”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urchschaute Körper (7)"/>
          <p:cNvPicPr/>
          <p:nvPr/>
        </p:nvPicPr>
        <p:blipFill>
          <a:blip r:embed="rId1"/>
          <a:stretch/>
        </p:blipFill>
        <p:spPr>
          <a:xfrm>
            <a:off x="0" y="549360"/>
            <a:ext cx="422604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76720" y="285264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 processo de envelhecimento pode ser neutralizado a cada dia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urchschaute Körper (3)"/>
          <p:cNvPicPr/>
          <p:nvPr/>
        </p:nvPicPr>
        <p:blipFill>
          <a:blip r:embed="rId1"/>
          <a:stretch/>
        </p:blipFill>
        <p:spPr>
          <a:xfrm>
            <a:off x="-468360" y="907920"/>
            <a:ext cx="5832360" cy="509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4067280" y="4437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corde-se que ao abrir seu coração e sua mente evitará que algum cirurgião o faça por você! 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Durchschaute Körper (6)"/>
          <p:cNvPicPr/>
          <p:nvPr/>
        </p:nvPicPr>
        <p:blipFill>
          <a:blip r:embed="rId1"/>
          <a:stretch/>
        </p:blipFill>
        <p:spPr>
          <a:xfrm>
            <a:off x="0" y="620640"/>
            <a:ext cx="542916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435640" y="23749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á seu corpo hoje? Então recorde-se do que pensou e sentiu ontem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urchschaute Körper (5)"/>
          <p:cNvPicPr/>
          <p:nvPr/>
        </p:nvPicPr>
        <p:blipFill>
          <a:blip r:embed="rId1"/>
          <a:stretch/>
        </p:blipFill>
        <p:spPr>
          <a:xfrm>
            <a:off x="4500720" y="476280"/>
            <a:ext cx="4444920" cy="56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8360" y="198900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ará seu corpo amanhã? Observe seus pensamentos e emoções hoje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Durchschaute Körper (12)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463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85690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 MEDICINA ESTÁ EM VOCÊ E VOCÊ NÃO A USA.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Book Antiqua"/>
              </a:rPr>
              <a:t>A DOENÇA VEM DE VOCÊ MESMO E VOCÊ NÃO SE DÁ CONTA.”     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Hansrat 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AÚDE PERFEITA” – Deepak Cho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Médico indiano, radicado nos EUA desde a década de 70, com especialização em Endocrinologia nos Estados Unidos. Filósofo de reputação internacional, já escreveu mais de 35 livros, um dos mais respeitados pensadores da atualidad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I38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urchschaute Körper (4)"/>
          <p:cNvPicPr/>
          <p:nvPr/>
        </p:nvPicPr>
        <p:blipFill>
          <a:blip r:embed="rId1"/>
          <a:stretch/>
        </p:blipFill>
        <p:spPr>
          <a:xfrm>
            <a:off x="4641840" y="836640"/>
            <a:ext cx="45021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179280" y="134136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mos as únicas criaturas na superfície da Terra capazes de transformar nossa biologia por meio do que pensamos e sentimo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ssas células estão constantemente observando nossos pensamentos e sendo modificadas por ele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urchschaute Körper (13)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36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0" y="4292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Um ataque de depressão pode arrasar nosso sistema imunológico. Asserenar-se, ao contrário, pode fortificá-lo intensamente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urchschaute Körper (12)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0" y="5332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alegria e a atividade harmoniosa nos mantém saudáveis e prolongam a vid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rchschaute Körper (8)"/>
          <p:cNvPicPr/>
          <p:nvPr/>
        </p:nvPicPr>
        <p:blipFill>
          <a:blip r:embed="rId1"/>
          <a:stretch/>
        </p:blipFill>
        <p:spPr>
          <a:xfrm>
            <a:off x="0" y="404640"/>
            <a:ext cx="428292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284720" y="220500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lembrança de uma situação negativa ou triste libera os mesmos hormônios e substâncias biológicas destrutivas que o stres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urchschaute Körper"/>
          <p:cNvPicPr/>
          <p:nvPr/>
        </p:nvPicPr>
        <p:blipFill>
          <a:blip r:embed="rId1"/>
          <a:stretch/>
        </p:blipFill>
        <p:spPr>
          <a:xfrm>
            <a:off x="1116000" y="830160"/>
            <a:ext cx="7416720" cy="390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465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as células estão constantemente processando todas as suas experiências e metabolizando-as de acordo com seus pontos de vista pessoai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Durchschaute Körper (11)"/>
          <p:cNvPicPr/>
          <p:nvPr/>
        </p:nvPicPr>
        <p:blipFill>
          <a:blip r:embed="rId1"/>
          <a:stretch/>
        </p:blipFill>
        <p:spPr>
          <a:xfrm>
            <a:off x="324000" y="549360"/>
            <a:ext cx="3954240" cy="561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788000" y="1773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ão se pode simplesmente captar dados isolados e confirmá-los com um julgamento. Você se transforma na interpretação quando a internaliz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urchschaute Körper (9)"/>
          <p:cNvPicPr/>
          <p:nvPr/>
        </p:nvPicPr>
        <p:blipFill>
          <a:blip r:embed="rId1"/>
          <a:stretch/>
        </p:blipFill>
        <p:spPr>
          <a:xfrm>
            <a:off x="4586400" y="907920"/>
            <a:ext cx="4162320" cy="507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395280" y="966960"/>
            <a:ext cx="388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Quem está deprimido projeta tristeza em todas as partes do corpo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 produção de neurotransmissores a partir do cérebro se altera, o nível de hormônios varia, o ciclo do sono é interrompido, os receptores neuropeptídicos na superfície externa das células da pele se modificam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urchschaute Körper (10)"/>
          <p:cNvPicPr/>
          <p:nvPr/>
        </p:nvPicPr>
        <p:blipFill>
          <a:blip r:embed="rId1"/>
          <a:stretch/>
        </p:blipFill>
        <p:spPr>
          <a:xfrm>
            <a:off x="0" y="836640"/>
            <a:ext cx="422928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170028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plaquetas sanguíneas se tornam mais viscosas e mais propensas a formar grumos e até as suas lágrimas contém traços químicos diferentes das lágrimas de alegri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1:01:48Z</dcterms:created>
  <dc:creator/>
  <dc:description/>
  <dc:language>en-US</dc:language>
  <cp:lastModifiedBy/>
  <dcterms:modified xsi:type="dcterms:W3CDTF">2010-07-29T13:12:41Z</dcterms:modified>
  <cp:revision>3</cp:revision>
  <dc:subject/>
  <dc:title>Slide 1</dc:title>
</cp:coreProperties>
</file>