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ntrumentalPian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58F6-41CB-4200-B72B-C35684C91581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8A70-EEB9-4729-B3F4-D759A63A86DE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B9BE-5404-40FE-95BD-D53EDF19BC04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BDDA-05E2-4E87-985F-F2B2B03A6CFD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DE83-D4FC-48C6-9708-1BE66BD2DE11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EC5F-2B33-4139-9C1B-FF4407910C7F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D5E9-7688-43F2-A200-8977F2D4A866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0FE9-B71B-412A-9F09-711ACF90923F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54C3-9008-48B8-8417-FBDECC0CBA98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92C0-CAE3-4742-8775-DF4B91A38773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E8D-89C8-435B-9D6E-2FE711838757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5880-BBAA-4681-84F6-A8F3C5338194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58A1-4AAD-48DE-8101-C90C8DEF7817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C45A-2680-4F7F-947F-5DAF6D8807A1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80D0-E8FB-4909-A6C2-D26AD1CC166A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63B5-D3D5-4C1F-BEBE-8729A1BEF484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6201-D4A4-4922-8645-159F8BF81C8A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8799-6EE6-4B3A-9D93-E360703EC2B1}" type="slidenum">
              <a:rPr b="0" lang="es-E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074-32C6-480F-AB8F-BB46B5DE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97D-236D-4587-841F-DA69692E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090-12F0-4C58-ADDE-0ECF2AE9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63B-9804-4722-8B64-4FF53619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78E-7B4A-44D8-A8BC-08BA3B08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AFB-818F-44FC-8078-936FCC6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1D9-CBCE-4148-8262-7FE973C5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8AF-FFC7-45A6-BF3C-9E4BF7FF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794-D2FC-42A7-A54D-FE2FC9E5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0A7-B9A0-4A64-A69F-45F18F5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049-32FA-43DD-B2FC-FCB1459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AE9-503F-4360-A5D8-73333A6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4303-9C9E-497C-B43B-65423C220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trumentalPian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4" descr="LO SIENTES VIDA !!"/>
          <p:cNvPicPr/>
          <p:nvPr/>
        </p:nvPicPr>
        <p:blipFill>
          <a:blip r:embed="rId1"/>
          <a:stretch/>
        </p:blipFill>
        <p:spPr>
          <a:xfrm>
            <a:off x="0" y="836640"/>
            <a:ext cx="525636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5"/>
          <p:cNvSpPr/>
          <p:nvPr/>
        </p:nvSpPr>
        <p:spPr>
          <a:xfrm>
            <a:off x="4859280" y="2534760"/>
            <a:ext cx="20876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MO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WordArt 46"/>
          <p:cNvSpPr txBox="1"/>
          <p:nvPr/>
        </p:nvSpPr>
        <p:spPr>
          <a:xfrm>
            <a:off x="5003640" y="3284640"/>
            <a:ext cx="399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Times New Roman"/>
              </a:rPr>
              <a:t>MUTANT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10000">
    <p:wipe dir="r"/>
    <p:sndAc>
      <p:stSnd>
        <p:snd r:embed="rId2" name="intrumentalPian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urchschaute Körper (2)"/>
          <p:cNvPicPr/>
          <p:nvPr/>
        </p:nvPicPr>
        <p:blipFill>
          <a:blip r:embed="rId1"/>
          <a:stretch/>
        </p:blipFill>
        <p:spPr>
          <a:xfrm>
            <a:off x="1909800" y="907920"/>
            <a:ext cx="4967280" cy="3641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stes fatos confirmam a grande necessidade de usar nossa consciência para criar os corpos que realmente necessitamos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0" y="5343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Todo este perfil bioquímico será drasticamente modificado quando a pessoa se sentir tranquil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urchschaute Körper (1)"/>
          <p:cNvPicPr/>
          <p:nvPr/>
        </p:nvPicPr>
        <p:blipFill>
          <a:blip r:embed="rId1"/>
          <a:srcRect l="7874" t="0" r="0" b="0"/>
          <a:stretch/>
        </p:blipFill>
        <p:spPr>
          <a:xfrm>
            <a:off x="3203640" y="1052640"/>
            <a:ext cx="5940360" cy="4749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7"/>
          <p:cNvSpPr/>
          <p:nvPr/>
        </p:nvSpPr>
        <p:spPr>
          <a:xfrm>
            <a:off x="-36360" y="2205000"/>
            <a:ext cx="34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hakespeare não estava sendo metafórico quando, através de seu personagem Próspero, disse: Somos feitos da mesma matéria que os sonhos.”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Durchschaute Körper (7)"/>
          <p:cNvPicPr/>
          <p:nvPr/>
        </p:nvPicPr>
        <p:blipFill>
          <a:blip r:embed="rId1"/>
          <a:stretch/>
        </p:blipFill>
        <p:spPr>
          <a:xfrm>
            <a:off x="0" y="549360"/>
            <a:ext cx="4226040" cy="5543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076720" y="285264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 processo de envelhecimento pode ser neutralizado a cada dia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Durchschaute Körper (3)"/>
          <p:cNvPicPr/>
          <p:nvPr/>
        </p:nvPicPr>
        <p:blipFill>
          <a:blip r:embed="rId1"/>
          <a:stretch/>
        </p:blipFill>
        <p:spPr>
          <a:xfrm>
            <a:off x="-468360" y="907920"/>
            <a:ext cx="5832360" cy="5094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"/>
          <p:cNvSpPr/>
          <p:nvPr/>
        </p:nvSpPr>
        <p:spPr>
          <a:xfrm>
            <a:off x="4067280" y="4437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corde-se que ao abrir seu coração e sua mente evitará que algum cirurgião o faça por você! 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Durchschaute Körper (6)"/>
          <p:cNvPicPr/>
          <p:nvPr/>
        </p:nvPicPr>
        <p:blipFill>
          <a:blip r:embed="rId1"/>
          <a:stretch/>
        </p:blipFill>
        <p:spPr>
          <a:xfrm>
            <a:off x="0" y="620640"/>
            <a:ext cx="5429160" cy="5545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5435640" y="237492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r saber como está seu corpo hoje? Então recorde-se do que pensou e sentiu ontem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Durchschaute Körper (5)"/>
          <p:cNvPicPr/>
          <p:nvPr/>
        </p:nvPicPr>
        <p:blipFill>
          <a:blip r:embed="rId1"/>
          <a:stretch/>
        </p:blipFill>
        <p:spPr>
          <a:xfrm>
            <a:off x="4500720" y="476280"/>
            <a:ext cx="4444920" cy="5689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468360" y="198900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r saber como estará seu corpo amanhã? Observe seus pensamentos e emoções hoje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4" descr="Durchschaute Körper (12)"/>
          <p:cNvPicPr/>
          <p:nvPr/>
        </p:nvPicPr>
        <p:blipFill>
          <a:blip r:embed="rId1"/>
          <a:stretch/>
        </p:blipFill>
        <p:spPr>
          <a:xfrm>
            <a:off x="468360" y="549360"/>
            <a:ext cx="8351640" cy="4637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4941360"/>
            <a:ext cx="85690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 MEDICINA ESTÁ EM VOCÊ E VOCÊ NÃO A USA.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Book Antiqua"/>
              </a:rPr>
              <a:t>A DOENÇA VEM DE VOCÊ MESMO E VOCÊ NÃO SE DÁ CONTA.”              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Book Antiqua"/>
              </a:rPr>
              <a:t>Hansrat 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SAÚDE PERFEITA” – Deepak Cho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Médico indiano, radicado nos EUA desde a década de 70, com especialização em Endocrinologia nos Estados Unidos. Filósofo de reputação internacional, já escreveu mais de 35 livros, um dos mais respeitados pensadores da atualidad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2" descr="I38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Durchschaute Körper (4)"/>
          <p:cNvPicPr/>
          <p:nvPr/>
        </p:nvPicPr>
        <p:blipFill>
          <a:blip r:embed="rId1"/>
          <a:stretch/>
        </p:blipFill>
        <p:spPr>
          <a:xfrm>
            <a:off x="4641840" y="836640"/>
            <a:ext cx="450216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3"/>
          <p:cNvSpPr/>
          <p:nvPr/>
        </p:nvSpPr>
        <p:spPr>
          <a:xfrm>
            <a:off x="179280" y="134136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omos as únicas criaturas na superfície da Terra capazes de transformar nossa biologia por meio do que pensamos e sentimos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ssas células estão constantemente observando nossos pensamentos e sendo modificadas por eles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Durchschaute Körper (13)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367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0" y="4292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Book Antiqua"/>
              </a:rPr>
              <a:t>Um ataque de depressão pode arrasar nosso sistema imunológico. Asserenar-se, ao contrário, pode fortificá-lo intensamente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Durchschaute Körper (12)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4438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0" y="5332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alegria e a atividade harmoniosa nos mantém saudáveis e prolongam a vid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Durchschaute Körper (8)"/>
          <p:cNvPicPr/>
          <p:nvPr/>
        </p:nvPicPr>
        <p:blipFill>
          <a:blip r:embed="rId1"/>
          <a:stretch/>
        </p:blipFill>
        <p:spPr>
          <a:xfrm>
            <a:off x="0" y="404640"/>
            <a:ext cx="4282920" cy="6048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284720" y="220500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lembrança de uma situação negativa ou triste libera os mesmos hormônios e substâncias biológicas destrutivas que o stress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urchschaute Körper"/>
          <p:cNvPicPr/>
          <p:nvPr/>
        </p:nvPicPr>
        <p:blipFill>
          <a:blip r:embed="rId1"/>
          <a:stretch/>
        </p:blipFill>
        <p:spPr>
          <a:xfrm>
            <a:off x="1116000" y="830160"/>
            <a:ext cx="7416720" cy="3903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465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as células estão constantemente processando todas as suas experiências e metabolizando-as de acordo com seus pontos de vista pessoais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Durchschaute Körper (11)"/>
          <p:cNvPicPr/>
          <p:nvPr/>
        </p:nvPicPr>
        <p:blipFill>
          <a:blip r:embed="rId1"/>
          <a:stretch/>
        </p:blipFill>
        <p:spPr>
          <a:xfrm>
            <a:off x="324000" y="549360"/>
            <a:ext cx="3954240" cy="5616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4788000" y="177336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ão se pode simplesmente captar dados isolados e confirmá-los com um julgamento. Você se transforma na interpretação quando a internaliz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urchschaute Körper (9)"/>
          <p:cNvPicPr/>
          <p:nvPr/>
        </p:nvPicPr>
        <p:blipFill>
          <a:blip r:embed="rId1"/>
          <a:stretch/>
        </p:blipFill>
        <p:spPr>
          <a:xfrm>
            <a:off x="4586400" y="907920"/>
            <a:ext cx="4162320" cy="5075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7"/>
          <p:cNvSpPr/>
          <p:nvPr/>
        </p:nvSpPr>
        <p:spPr>
          <a:xfrm>
            <a:off x="395280" y="966960"/>
            <a:ext cx="388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Quem está deprimido projeta tristeza em todas as partes do corpo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A produção de neurotransmissores a partir do cérebro se altera, o nível de hormônios varia, o ciclo do sono é interrompido, os receptores neuropeptídicos na superfície externa das células da pele se modificam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Durchschaute Körper (10)"/>
          <p:cNvPicPr/>
          <p:nvPr/>
        </p:nvPicPr>
        <p:blipFill>
          <a:blip r:embed="rId1"/>
          <a:stretch/>
        </p:blipFill>
        <p:spPr>
          <a:xfrm>
            <a:off x="0" y="836640"/>
            <a:ext cx="422928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5292720" y="170028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 plaquetas sanguíneas se tornam mais viscosas e mais propensas a formar grumos e até as suas lágrimas contém traços químicos diferentes das lágrimas de alegria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1:01:48Z</dcterms:created>
  <dc:creator/>
  <dc:description/>
  <dc:language>en-US</dc:language>
  <cp:lastModifiedBy/>
  <dcterms:modified xsi:type="dcterms:W3CDTF">2010-07-29T13:12:41Z</dcterms:modified>
  <cp:revision>3</cp:revision>
  <dc:subject/>
  <dc:title>Slide 1</dc:title>
</cp:coreProperties>
</file>