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eline_dion_because_of_you_loved_me%5B1%5D%20peso%20reduzido%5B1%5D.wav" ContentType="audio/x-wav"/>
  <Override PartName="/ppt/media/image9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9529-DF4C-49C7-8312-75E389F8EB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cio com som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282-1917-4BE3-844B-51DC6816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978-A858-413A-87FA-EDE36276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B5D-F6E8-4BAA-9BA7-07458027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4A8-D358-40E6-ABA1-A3337634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0F6-28D5-44DC-BF6F-B6788DE2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2A0-CD76-4F14-822C-4B7F97A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ADE-46C9-4690-9F89-FABE04CC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A84-55F9-4D81-87A9-ABF0E319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C32-2DB3-4446-8B1B-4A18576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5B4-D906-4387-A587-7B996B9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686-D5F5-43A0-B723-CD01E262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8BF-E404-4EAC-B7DD-1B7BB0C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5C40-7BC4-49D0-8794-748BFDD89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eline_dion_because_of_you_loved_me%5B1%5D%20peso%20reduzido%5B1%5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0"/>
            <a:ext cx="7010280" cy="82512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Arial Black"/>
                <a:ea typeface="Tahoma"/>
              </a:rPr>
              <a:t>Hoje recebi flores!...</a:t>
            </a:r>
            <a:r>
              <a:rPr b="1" lang="en-US" sz="4800" spc="-1" strike="noStrike">
                <a:solidFill>
                  <a:srgbClr val="cc3300"/>
                </a:solidFill>
                <a:latin typeface="Arial Black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jurgarden0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47242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ahoma"/>
              </a:rPr>
              <a:t>DENUNCIEM A VIOLÊNCIA... !!!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Arial"/>
              </a:rPr>
              <a:t>Violência contra 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DÊ UM BAST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41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é o meu aniversário ou nenhum outro dia especial; Tivemos a nossa primeira discussão ontem à noite e ele me disse muitas coisas cruéis que me ofenderam de verda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sei que está arrependido e não as disse a sério, porque ele me enviou flores hoje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o nosso aniversário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001" descr=""/>
          <p:cNvPicPr/>
          <p:nvPr/>
        </p:nvPicPr>
        <p:blipFill>
          <a:blip r:embed="rId1"/>
          <a:stretch/>
        </p:blipFill>
        <p:spPr>
          <a:xfrm>
            <a:off x="2114640" y="22860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00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862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ele atirou-me contra a parede e começou a asfixiar-me. Parecia um pesadelo, mas dos pesadelos acordamos e sabemos que não são re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acordei cheia de dores e com golpes em todos lados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eu sei que ele está arrependido, porque me enviou flores h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Dia dos Namorados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003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bateu-me e ameaço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em a maquiagem ou as mangas compri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poderiam ocultar os cortes e golpes que 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casionou dest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pude ir ao empre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porque não queria que percebessem. Mas eu sei que está arrependido porque e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e enviou flores hoje. E não era Dia das Mães ou nenhum outro dia 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004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39816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ele voltou a bater-me, mas desta vez foi muito pior. Se conseguir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deixá-lo, o que é vou fazer? Como poder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eu sozinha manter os meus filhos?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 que acontecerá se faltar o dinhei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Tenho tanto medo dele! Mas dependo tanto dele que tenho medo de o deixar. Mas eu sei que está arrependido, porque ele me enviou flores hoje.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4771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8862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é um dia muito especial: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É o dia do meu funeral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finalmente consegui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Bateu-me até eu morr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962520"/>
            <a:ext cx="754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ao menos eu tivesse tido a coragem e a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força para o deixa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tivesse pedido ajuda profission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ahoma"/>
                <a:ea typeface="Tahoma"/>
              </a:rPr>
              <a:t>Hoje não teria recebido flo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ietaniemi-cemetery06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Tahoma"/>
                <a:ea typeface="Tahoma"/>
              </a:rPr>
              <a:t>Por uma vida sem violência!!!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ahoma"/>
                <a:ea typeface="Tahoma"/>
              </a:rPr>
              <a:t>Partilhem essa mensagem para criar consciênci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enard_06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42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4572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PARA QUE SE TENHA RESPEITO PARA COM A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MULHER, COM AS CRIANÇAS, COM O IDOSO, ENFI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QUERIDOS AMIGOS... QUE SE TENHA RESPEITO CO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O PRÓXIMO, SEJA QUEM FOR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0:21Z</dcterms:created>
  <dc:creator>Falcao</dc:creator>
  <dc:description/>
  <dc:language>en-US</dc:language>
  <cp:lastModifiedBy>jroberto</cp:lastModifiedBy>
  <dcterms:modified xsi:type="dcterms:W3CDTF">2007-09-05T12:30:48Z</dcterms:modified>
  <cp:revision>11</cp:revision>
  <dc:subject/>
  <dc:title>Apresentação do PowerPoint</dc:title>
</cp:coreProperties>
</file>