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erry%20Winter%20-%20Summer%20Holliday%20472%20wave.wav" ContentType="audio/x-wav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F25-0C76-4349-9341-E17C24A5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4C7-0FB2-4D99-9E81-EC683980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603-E32F-41C8-9FD3-8D93D6EC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783-A768-4A3E-B611-9FE073EE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A4D-552E-44E0-9697-D5AC235B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AD6-5694-4F36-9201-5E8F6C5D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930-E025-4471-A53C-36852590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566-124C-411C-8760-AFAE1AC4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167-FB85-4B33-A980-DA82B6AD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B35-F4C5-4280-8860-9101116F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A24-03D4-4FBA-8B2B-71BBB70A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44A-9650-42F1-9ED9-928C7AD4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CDBE-E076-4C34-A30C-CA765BB72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erry%20Winter%20-%20Summer%20Holliday%20472%20wav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99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14842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iquidação na Norueg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83544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2095560" cy="3959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32000" y="328464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 a moda peg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050920" y="4076640"/>
            <a:ext cx="129564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7082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você detesta o empurra-empurra das liquidações  nas grandes cidades da Europa, como Paris, etc...,  o que acha desse “golpe de mestre” de marketing que aconteceu na Noruega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19321200">
            <a:off x="7236000" y="5013000"/>
            <a:ext cx="9522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2276640"/>
            <a:ext cx="6629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Eis o que propôs a </a:t>
            </a:r>
            <a:r>
              <a:rPr b="1" lang="pt-BR" sz="2800" spc="-1" strike="noStrike">
                <a:solidFill>
                  <a:srgbClr val="4d4d4d"/>
                </a:solidFill>
                <a:latin typeface="Arial Unicode MS"/>
                <a:ea typeface="Times New Roman"/>
              </a:rPr>
              <a:t>Decathlon No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    </a:t>
            </a:r>
            <a:r>
              <a:rPr b="1" lang="pt-BR" sz="28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na abertura de uma nova lo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9933ff"/>
                </a:solidFill>
                <a:latin typeface="Arial"/>
                <a:ea typeface="Times New Roman"/>
              </a:rPr>
              <a:t>  </a:t>
            </a:r>
            <a:r>
              <a:rPr b="1" lang="pt-BR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( fielmente traduzido do norueguê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421000"/>
            <a:ext cx="8223120" cy="1981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  <a:ea typeface="Arial"/>
              </a:rPr>
              <a:t>Você pode ser vestido gratuitamente da cabeça aos p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  <a:ea typeface="Arial"/>
              </a:rPr>
              <a:t>Quem chegar primeiro será melhor servido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 Black"/>
                <a:ea typeface="Arial"/>
              </a:rPr>
              <a:t>Uma única condiçã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  <a:ea typeface="Arial"/>
              </a:rPr>
              <a:t>Venha nu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9800" y="2133720"/>
            <a:ext cx="75049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as pessoas você acha que compareceram 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hum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ma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ão, clique para ve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3236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9152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189560" cy="49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3060720" cy="446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2619360" cy="272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92360" y="4076640"/>
            <a:ext cx="1562040" cy="176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22:10:13Z</dcterms:created>
  <dc:creator>My Computer</dc:creator>
  <dc:description/>
  <dc:language>en-US</dc:language>
  <cp:lastModifiedBy>Helena Santos</cp:lastModifiedBy>
  <dcterms:modified xsi:type="dcterms:W3CDTF">2009-05-02T23:23:21Z</dcterms:modified>
  <cp:revision>6</cp:revision>
  <dc:subject/>
  <dc:title>Apresentação do PowerPoint</dc:title>
</cp:coreProperties>
</file>