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Terry%20Winter%20-%20Summer%20Holliday%20472%20wave.wav" ContentType="audio/x-wav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25CF-56E6-4D0E-A568-F32A2878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7A68-E9F1-4E3A-AFB4-5085D5AE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8864-C7AA-4977-8EB2-B8004560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CA3B-E4A6-485B-B5FF-6DB4AB16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C47B-414E-458F-90E0-A8C64FCB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50ED-F7FD-4D43-9705-9AB24B4D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EAD8-EAE5-4B73-BEC1-3D38FEF0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3B84-8727-4D5F-B2B0-8796B083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F2A3-4020-4B28-AECD-2799E0A0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4891-DAAA-467A-8D0D-8252566F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1323-C9B8-4092-A3D9-0EA4D12D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654B-44B4-4E2D-B56D-AF1926AF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88B9-092F-460E-8B49-A405759F8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erry%20Winter%20-%20Summer%20Holliday%20472%20wave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99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19280" y="148428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757500"/>
                    </a:gs>
                    <a:gs pos="50000">
                      <a:srgbClr val="ffff00"/>
                    </a:gs>
                    <a:gs pos="100000">
                      <a:srgbClr val="7575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iquidação na Noruega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757500"/>
                  </a:gs>
                  <a:gs pos="50000">
                    <a:srgbClr val="ffff00"/>
                  </a:gs>
                  <a:gs pos="100000">
                    <a:srgbClr val="7575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27280" y="2708280"/>
            <a:ext cx="3835440" cy="25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508720" y="1484280"/>
            <a:ext cx="2095560" cy="3959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332000" y="3284640"/>
            <a:ext cx="31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 a moda peg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050920" y="4076640"/>
            <a:ext cx="1295640" cy="8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7082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você detesta o empurra-empurra das liquidações  nas grandes cidades da Europa, como Paris, etc...,  o que acha desse “golpe de mestre” de marketing que aconteceu na Noruega 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 rot="19321200">
            <a:off x="7236000" y="5013000"/>
            <a:ext cx="9522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58920" y="2276640"/>
            <a:ext cx="66294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Eis o que propôs a </a:t>
            </a:r>
            <a:r>
              <a:rPr b="1" lang="pt-BR" sz="2800" spc="-1" strike="noStrike">
                <a:solidFill>
                  <a:srgbClr val="4d4d4d"/>
                </a:solidFill>
                <a:latin typeface="Arial Unicode MS"/>
                <a:ea typeface="Times New Roman"/>
              </a:rPr>
              <a:t>Decathlon No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    </a:t>
            </a:r>
            <a:r>
              <a:rPr b="1" lang="pt-BR" sz="28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na abertura de uma nova lo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9933ff"/>
                </a:solidFill>
                <a:latin typeface="Arial"/>
                <a:ea typeface="Times New Roman"/>
              </a:rPr>
              <a:t>  </a:t>
            </a:r>
            <a:r>
              <a:rPr b="1" lang="pt-BR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( fielmente traduzido do norueguês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4675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2421000"/>
            <a:ext cx="8223120" cy="1981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Black"/>
                <a:ea typeface="Arial"/>
              </a:rPr>
              <a:t>Você pode ser vestido gratuitamente da cabeça aos pé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Black"/>
                <a:ea typeface="Arial"/>
              </a:rPr>
              <a:t>Quem chegar primeiro será melhor servido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Black"/>
                <a:ea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 Black"/>
                <a:ea typeface="Arial"/>
              </a:rPr>
              <a:t>Uma única condição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Black"/>
                <a:ea typeface="Arial"/>
              </a:rPr>
              <a:t>Venha nu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29800" y="2133720"/>
            <a:ext cx="75049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ntas pessoas você acha que compareceram 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nhuma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ma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ão, clique para ve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832360" cy="36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69152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189560" cy="491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003640" y="1197000"/>
            <a:ext cx="3060720" cy="4462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258920" y="1052640"/>
            <a:ext cx="2619360" cy="2724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692360" y="4076640"/>
            <a:ext cx="1562040" cy="1762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22:10:13Z</dcterms:created>
  <dc:creator>My Computer</dc:creator>
  <dc:description/>
  <dc:language>en-US</dc:language>
  <cp:lastModifiedBy>Helena Santos</cp:lastModifiedBy>
  <dcterms:modified xsi:type="dcterms:W3CDTF">2009-05-02T23:23:21Z</dcterms:modified>
  <cp:revision>6</cp:revision>
  <dc:subject/>
  <dc:title>Apresentação do PowerPoint</dc:title>
</cp:coreProperties>
</file>