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6DA-7C43-4C02-A9C2-53C2285E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4DE-8BF9-4B48-B9AE-D273C92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29A-B78F-46E3-96DD-45374333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C1A-5A3B-451F-B6A1-B2D0BE5A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EF12-A1F7-4031-B9AE-4EB7C4DE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9003-C634-4CF9-B6BA-1A97DBF6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441D-264B-441F-919D-6A9E8F3D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77D4-4B58-46D5-B3DF-A6338D56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C812-1DFB-40C4-AC03-AB4183A9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7E18-A0D3-4E36-AF38-7AA80C7F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8B9B-FD34-4468-B7E7-050B32AB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684-8C27-43C7-85C7-22EA1E5A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20C-9FCF-4959-9F7C-83C08405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0036-9FE6-4471-9260-97497C22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03EC-A7E1-43A1-AA0E-2245BAD3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EF06-148D-4658-A76F-CDCDC18B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7F59-FA66-4AB7-8152-A5F61934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027-A1B7-402F-A208-65764163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CB1-E849-4565-A7CD-4A553767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C18-F5BC-465B-BAA6-80F29CB0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9CE-5AD6-4C91-9C81-6E5E6723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9BB-DDE4-4D27-B32C-B300D162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615-C979-48C7-909A-E502DA03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044-B490-44D6-98D7-5142A53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035B-6639-4E26-9585-A682BDB39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331C-761F-4527-A724-97CC8E5FC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013120"/>
            <a:ext cx="6046560" cy="1760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EPILAÇÃO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MASCULIN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ito engraçad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chei meio estranho aqueles equipamentos, mas ela estava com um ar de "dona da situação" que deixaria qualquer médico urologist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sentindo-se como residente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Fiquei tranqüilo e autorizei o restante do processo. Pediu para que eu ficasse 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uma posição de 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quase-frango-assado 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e liberasse o aceso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a zona do agriã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gou meus ovinhos como quem pega duas bolinhas de porcelana 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começou a passar cera morna. Achei aquela sensação maravilhosa!!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 Sr. Pinto já estava todo "pimpão" como quem diz: "sou o próximo da fila"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lo início, fiquei imaginando quais seriam as "outras coisas" que viriam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pós estarem completamente besuntados de cera, ela embrulhou ambos n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lástico com tanto cuidado que eu achei que iria levá-los para viagem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quei imaginando onde ela teria aprendido essa técnica de prazer: N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Tailândia, na China ou pela Internet mesm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rém, alguns segundo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depois ela esticou o saquinho para um lado e deu um puxão repentin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odas as novas sensações foram trocadas por um sonoro PUUUUTA QUEEEE 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ARIUUUUUUU quase falado letra por letra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lhei para o plástico para ver se o couro do meu saco não tinha ficado grudad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Estava eu assistindo tv numa tarde de domingo, naquele horário em qu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ão se pode inventar nada o que fazer, pois no outro dia é segunda-feira,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Ela disse que ainda restaram alguns pelinhos, e que precisava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passar de novo. Respondi prontamente: Se depender de mim eles vão ficar aí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para a eternidade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gurei o Dr. Esquerdo e o Dr. Direito em minhas respectivas mãos, com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quem segura os últimos ovos da mais bela ave amazônica em extinção, e fui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a o banheir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ntia o coração bater nos ovos. Abri o chuveiro e fo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primeira vez que eu molho o saco antes de molhar a cabeça. Passei algu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minutos só deixando a água gelada escorrer pelo meu corp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Saí do banho, mas nesses momentos de dor qualquer homem vira um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bebezinho novo: faz merda atrás de merda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guei meu gel pós barba com camomil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"que acalma a pele", enchi as mãos e passei nos ovos. Foi como se tives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assado molho de pimenta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Sentei no bidê na posição de "lava xereca" 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deixei o chuveirinho acalmar os Drs, peguei a toalha de rosto e fiquei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abanando os ovos como quem abana um boxeador no 10° round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lhei par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eu pinto. Ele tão alegrinho minutos atrás, estava tão pequeno que ma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arecia irmão gêmeo de meu umbig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esse momento minha esposa bate na porta do banheiro e perguntou se eu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stava passando bem. Aquela voz antes tão aveludada e sedutora ficou igu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ma gralha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í do banheiro e voltei para o quarto. Ela estava argumentado que os pentelhos tinham saído pelas raízes, que demorariam voltar a nascer. "Pel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pessura da pele do meu saco, aqui não nasce nem penugem, meus ovos  vão ficar que nem os das codornas ", respondi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a pediu para olhar como estavam. Eu falei para olhar com meio metro 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stância e sem tocar em nada e se ficar rindo vai entrar na PORRADA!! Vesti a camiseta e fui dormir (somente de camiseta)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quando minha esposa deitou ao meu lado e ficou brincando com minha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"partes". Após alguns minutos ela veio com a seguinte idéia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aquele momento sexo para mim nem para perpetuar a espécie humana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 outro dia pela manhã fui me arrumar para ir trabalhar. Os ovo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stavam mais calmos, porém mais vermelhos que tomates maduros.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i estranh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ntir o vento bater em lugares nunca antes visitados. Tentei colocar a cueca, mas nada feito. Procurei alguma cueca de veludo e nada. Vesti a calça mais folgada que achei no armário e fui trabalhar sem cueca mesmo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Entrei na minha seção andando igual um cowboy cagado. Falei bom dia para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todos, mas sem olhar nos olhos. E passei o dia inteiro trabalhando em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Comic Sans MS"/>
              </a:rPr>
              <a:t>pé com receio de encostar os tomates maduros em qualquer superfície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Resultado, certas coisas devem ser feitas somente pelas mulheres.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Não adianta tentar misturar os universos masculino e feminino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Vão a merda...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r que nã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pilamos seus ovinhos, assim eu poderia fazer "outras coisas" com ele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quela frase foi igual um sino na minha cabeça. Por alguns segundos fiquei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maginando o que seriam "outras coisas"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spondi que não, que doeri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isa e tal, mas ela veio com argumentos sobre as novas técnicas 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depilação e eu imaginando as "outras coisas" não tive mais como negar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ncordei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Ela me pediu que ficasse pelado enquanto buscaria os equipamento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ecessários para tal feit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Fiquei olhando para TV, porém minha mente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 estava vagando pelas novas sensações que só acordei quando escutei o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beep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Comic Sans MS"/>
              </a:rPr>
              <a:t>do microonda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a voltou ao quarto com um pote de cera, uma espátula e alguns pedaço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 plástico.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21:35:10Z</dcterms:created>
  <dc:creator>Mee</dc:creator>
  <dc:description/>
  <dc:language>en-US</dc:language>
  <cp:lastModifiedBy>JANDERLAN GOMES</cp:lastModifiedBy>
  <dcterms:modified xsi:type="dcterms:W3CDTF">2008-06-16T01:20:13Z</dcterms:modified>
  <cp:revision>6</cp:revision>
  <dc:subject/>
  <dc:title>DEPILAÇÃO MASCULINA</dc:title>
</cp:coreProperties>
</file>