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1BB-E9DA-4816-B75B-1F7BE847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BCC-C3AF-43F5-B14C-01F454AE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0AE-3EF9-4AD5-8118-F9C0D0B0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572-43E4-4D01-8192-E3787D6A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B3AB-6D70-4E4E-9C3B-BD816E6C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8F4D-1407-4BB2-B7C1-A6AF9795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6343-1111-4A8E-97D8-79814A39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77A8-9DB3-45EB-9E20-18042074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7B4D-E57E-46CA-8FE0-A4215B8C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0C84-6C44-43F0-88E5-2BD7738F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0ED8-DBA2-4AC2-9E00-67ACC198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7F2-3F7C-4C0E-8819-9AAF6411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92E3-2394-427D-AEFD-578A8A76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2C65-9BCE-4F1E-B5A2-3D16486A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DDCF-40AB-4290-A8A5-F04C38BF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D047-4A22-45C6-A1E9-FA2D1898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8FA4-4390-4248-B394-B8E4E7A2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F6D-0721-40BE-A28A-8AA2654B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00C-9428-466C-B7BB-D8BF2B82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D3B-DCE7-4941-86E8-C910546F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CDD-C3A5-4B00-BD27-7A487981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E0E-B860-4542-ACEF-2EA605E7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FA6-5D15-4F93-8953-47DE09A6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7B8-CD74-4079-B399-22776466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69E9-31F8-4805-8719-61900D95D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4D2A-1CDF-4E82-ACB1-461D93593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2013120"/>
            <a:ext cx="6046560" cy="1760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EPILAÇÃO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MASCULIN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ito engraçad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chei meio estranho aqueles equipamentos, mas ela estava com um ar de "dona da situação" que deixaria qualquer médico urologist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sentindo-se como residente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Fiquei tranqüilo e autorizei o restante do processo. Pediu para que eu ficasse 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numa posição de 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quase-frango-assado 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e liberasse o aceso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 a zona do agrião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egou meus ovinhos como quem pega duas bolinhas de porcelana 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começou a passar cera morna. Achei aquela sensação maravilhosa!!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 Sr. Pinto já estava todo "pimpão" como quem diz: "sou o próximo da fila"!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elo início, fiquei imaginando quais seriam as "outras coisas" que viriam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pós estarem completamente besuntados de cera, ela embrulhou ambos n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plástico com tanto cuidado que eu achei que iria levá-los para viagem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iquei imaginando onde ela teria aprendido essa técnica de prazer: N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Tailândia, na China ou pela Internet mesmo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orém, alguns segundo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depois ela esticou o saquinho para um lado e deu um puxão repentino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odas as novas sensações foram trocadas por um sonoro PUUUUTA QUEEEE 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PARIUUUUUUU quase falado letra por letra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lhei para o plástico para ver se o couro do meu saco não tinha ficado grudado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Estava eu assistindo tv numa tarde de domingo, naquele horário em que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não se pode inventar nada o que fazer, pois no outro dia é segunda-feira,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Ela disse que ainda restaram alguns pelinhos, e que precisava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 passar de novo. Respondi prontamente: Se depender de mim eles vão ficar aí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para a eternidade!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gurei o Dr. Esquerdo e o Dr. Direito em minhas respectivas mãos, com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quem segura os últimos ovos da mais bela ave amazônica em extinção, e fui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ara o banheiro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ntia o coração bater nos ovos. Abri o chuveiro e foi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primeira vez que eu molho o saco antes de molhar a cabeça. Passei algu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minutos só deixando a água gelada escorrer pelo meu corpo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Saí do banho, mas nesses momentos de dor qualquer homem vira um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 bebezinho novo: faz merda atrás de merda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eguei meu gel pós barba com camomil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"que acalma a pele", enchi as mãos e passei nos ovos. Foi como se tives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passado molho de pimenta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Sentei no bidê na posição de "lava xereca" e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 deixei o chuveirinho acalmar os Drs, peguei a toalha de rosto e fiquei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 abanando os ovos como quem abana um boxeador no 10° round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lhei par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eu pinto. Ele tão alegrinho minutos atrás, estava tão pequeno que mai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parecia irmão gêmeo de meu umbigo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esse momento minha esposa bate na porta do banheiro e perguntou se eu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stava passando bem. Aquela voz antes tão aveludada e sedutora ficou igu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uma gralha 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aí do banheiro e voltei para o quarto. Ela estava argumentado que os pentelhos tinham saído pelas raízes, que demorariam voltar a nascer. "Pel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spessura da pele do meu saco, aqui não nasce nem penugem, meus ovos  vão ficar que nem os das codornas ", respondi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a pediu para olhar como estavam. Eu falei para olhar com meio metro d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istância e sem tocar em nada e se ficar rindo vai entrar na PORRADA!! Vesti a camiseta e fui dormir (somente de camiseta)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quando minha esposa deitou ao meu lado e ficou brincando com minha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"partes". Após alguns minutos ela veio com a seguinte idéia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aquele momento sexo para mim nem para perpetuar a espécie humana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 outro dia pela manhã fui me arrumar para ir trabalhar. Os ovo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stavam mais calmos, porém mais vermelhos que tomates maduros.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i estranho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ntir o vento bater em lugares nunca antes visitados. Tentei colocar a cueca, mas nada feito. Procurei alguma cueca de veludo e nada. Vesti a calça mais folgada que achei no armário e fui trabalhar sem cueca mesmo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omic Sans MS"/>
              </a:rPr>
              <a:t>Entrei na minha seção andando igual um cowboy cagado. Falei bom dia para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omic Sans MS"/>
              </a:rPr>
              <a:t>todos, mas sem olhar nos olhos. E passei o dia inteiro trabalhando em 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omic Sans MS"/>
              </a:rPr>
              <a:t>pé com receio de encostar os tomates maduros em qualquer superfície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Resultado, certas coisas devem ser feitas somente pelas mulheres.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Não adianta tentar misturar os universos masculino e feminino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Vão a merda...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or que nã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epilamos seus ovinhos, assim eu poderia fazer "outras coisas" com eles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quela frase foi igual um sino na minha cabeça. Por alguns segundos fiquei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maginando o que seriam "outras coisas"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spondi que não, que doeri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oisa e tal, mas ela veio com argumentos sobre as novas técnicas d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depilação e eu imaginando as "outras coisas" não tive mais como negar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oncordei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Ela me pediu que ficasse pelado enquanto buscaria os equipamento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ecessários para tal feito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Fiquei olhando para TV, porém minha mente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 estava vagando pelas novas sensações que só acordei quando escutei o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beep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do microondas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a voltou ao quarto com um pote de cera, uma espátula e alguns pedaço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e plástico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21:35:10Z</dcterms:created>
  <dc:creator>Mee</dc:creator>
  <dc:description/>
  <dc:language>en-US</dc:language>
  <cp:lastModifiedBy>JANDERLAN GOMES</cp:lastModifiedBy>
  <dcterms:modified xsi:type="dcterms:W3CDTF">2008-06-16T01:20:13Z</dcterms:modified>
  <cp:revision>6</cp:revision>
  <dc:subject/>
  <dc:title>DEPILAÇÃO MASCULINA</dc:title>
</cp:coreProperties>
</file>