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7.png" ContentType="image/png"/>
  <Override PartName="/ppt/media/Albinoni%20-%20Concerto%20pour%20hautbois%20(Courte).wav" ContentType="audio/x-wav"/>
  <Override PartName="/ppt/media/image4.gif" ContentType="image/gif"/>
  <Override PartName="/ppt/media/image12.jpeg" ContentType="image/jpeg"/>
  <Override PartName="/ppt/media/image10.gif" ContentType="image/gif"/>
  <Override PartName="/ppt/media/image6.png" ContentType="image/png"/>
  <Override PartName="/ppt/media/image8.jpeg" ContentType="image/jpeg"/>
  <Override PartName="/ppt/media/image17.gif" ContentType="image/gif"/>
  <Override PartName="/ppt/media/image3.png" ContentType="image/png"/>
  <Override PartName="/ppt/media/image16.jpeg" ContentType="image/jpeg"/>
  <Override PartName="/ppt/media/image15.jpeg" ContentType="image/jpeg"/>
  <Override PartName="/ppt/media/image18.gif" ContentType="image/gif"/>
  <Override PartName="/ppt/media/image13.jpeg" ContentType="image/jpeg"/>
  <Override PartName="/ppt/media/image19.gif" ContentType="image/gif"/>
  <Override PartName="/ppt/media/image1.png" ContentType="image/png"/>
  <Override PartName="/ppt/media/image2.png" ContentType="image/png"/>
  <Override PartName="/ppt/media/image9.jpeg" ContentType="image/jpeg"/>
  <Override PartName="/ppt/media/image11.jpeg" ContentType="image/jpeg"/>
  <Override PartName="/ppt/media/image14.jpeg" ContentType="image/jpeg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48F2-8BB5-41C5-8297-0556BD0A8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4C77-72D6-4E03-ABD2-3FD511D1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1CCE-2990-40EB-84E7-2FA05E1ED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AEB0-F134-437B-8E68-DB80C3433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3172-1F5D-48E8-83AD-7E991F86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E390-E27A-4621-A7B8-5C6A93A5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DD2C-6875-444C-BA83-D183F020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9F4F-1879-4691-80B8-41B92F1C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42E9-6562-4C3C-BC8B-2E8D0FCB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634C-6804-4891-B058-C4C64363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82B1-5908-44C9-BBA9-25AC1282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12FA-B2E9-4D3A-9582-ABD48CF8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DA42-6FFF-4967-A554-B8B5AAA06A83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audio" Target="../media/Albinoni%20-%20Concerto%20pour%20hautbois%20(Courte)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cantinhodalumad.blogspot.com/2009/03/roupas-e-acessorios.html" TargetMode="External"/><Relationship Id="rId4" Type="http://schemas.openxmlformats.org/officeDocument/2006/relationships/image" Target="../media/image10.gif"/><Relationship Id="rId5" Type="http://schemas.openxmlformats.org/officeDocument/2006/relationships/hyperlink" Target="http://cantinhodalumad.blogspot.com/2009/03/roupas-e-acessorios.html" TargetMode="External"/><Relationship Id="rId6" Type="http://schemas.openxmlformats.org/officeDocument/2006/relationships/image" Target="../media/image10.gif"/><Relationship Id="rId7" Type="http://schemas.openxmlformats.org/officeDocument/2006/relationships/hyperlink" Target="http://www.videosdahora.com.br/Videos-Br/18963/Sandalias-masculinas-caem-no-gosto-dos-homens/" TargetMode="External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137124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7200" spc="-1" strike="noStrike">
                <a:solidFill>
                  <a:srgbClr val="ff3300"/>
                </a:solidFill>
                <a:latin typeface="Times New Roman"/>
              </a:rPr>
              <a:t>As Férias </a:t>
            </a:r>
            <a:br>
              <a:rPr sz="7200"/>
            </a:br>
            <a:r>
              <a:rPr b="1" lang="pt-PT" sz="7200" spc="-1" strike="noStrike">
                <a:solidFill>
                  <a:srgbClr val="ff3300"/>
                </a:solidFill>
                <a:latin typeface="Times New Roman"/>
              </a:rPr>
              <a:t>dos </a:t>
            </a:r>
            <a:br>
              <a:rPr sz="7200"/>
            </a:br>
            <a:r>
              <a:rPr b="1" lang="pt-PT" sz="7200" spc="-1" strike="noStrike">
                <a:solidFill>
                  <a:srgbClr val="ff3300"/>
                </a:solidFill>
                <a:latin typeface="Times New Roman"/>
              </a:rPr>
              <a:t>Padres ...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7" descr="pour etre heureux8"/>
          <p:cNvPicPr/>
          <p:nvPr/>
        </p:nvPicPr>
        <p:blipFill>
          <a:blip r:embed="rId1"/>
          <a:stretch/>
        </p:blipFill>
        <p:spPr>
          <a:xfrm>
            <a:off x="6804000" y="1268280"/>
            <a:ext cx="863640" cy="720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pour etre heureux9"/>
          <p:cNvPicPr/>
          <p:nvPr/>
        </p:nvPicPr>
        <p:blipFill>
          <a:blip r:embed="rId2"/>
          <a:stretch/>
        </p:blipFill>
        <p:spPr>
          <a:xfrm>
            <a:off x="7885080" y="333360"/>
            <a:ext cx="790560" cy="800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moines007"/>
          <p:cNvPicPr/>
          <p:nvPr/>
        </p:nvPicPr>
        <p:blipFill>
          <a:blip r:embed="rId3"/>
          <a:stretch/>
        </p:blipFill>
        <p:spPr>
          <a:xfrm>
            <a:off x="5435640" y="2349360"/>
            <a:ext cx="2012760" cy="4508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moines007"/>
          <p:cNvPicPr/>
          <p:nvPr/>
        </p:nvPicPr>
        <p:blipFill>
          <a:blip r:embed="rId4"/>
          <a:stretch/>
        </p:blipFill>
        <p:spPr>
          <a:xfrm>
            <a:off x="7164360" y="2349360"/>
            <a:ext cx="1979640" cy="4508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soeurs013"/>
          <p:cNvPicPr/>
          <p:nvPr/>
        </p:nvPicPr>
        <p:blipFill>
          <a:blip r:embed="rId5"/>
          <a:stretch/>
        </p:blipFill>
        <p:spPr>
          <a:xfrm>
            <a:off x="-468360" y="1700280"/>
            <a:ext cx="4054680" cy="44370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  <p:sndAc>
      <p:stSnd>
        <p:snd r:embed="rId6" name="Albinoni%20-%20Concerto%20pour%20hautbois%20(Courte)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795 -0.29632 C -0.17639 -0.29516 -0.07466 -0.29516 0.02691 -0.29308 C 0.04444 -0.29261 0.04896 -0.27963 0.05364 -0.26062 C 0.05451 -0.23349 0.05208 -0.2059 0.05607 -0.17923 C 0.05729 -0.17158 0.0684 -0.16277 0.0684 -0.16277 C 0.07778 -0.1004 0.13837 -0.11895 0.17326 -0.11733 C 0.17222 -0.096 0.17812 -0.06029 0.16337 -0.05867 C 0.15382 -0.05751 0.12552 -0.06609 0.11719 -0.06841 C 0.11302 -0.06957 0.10486 -0.07165 0.10486 -0.07165 C 0.08541 -0.08881 0.09444 -0.07907 0.07812 -0.1011 C 0.07413 -0.10666 0.06666 -0.10342 0.06094 -0.10434 C 0.01475 -0.12498 0.05156 -0.1106 -0.05365 -0.11408 C -0.06736 -0.12011 -0.05851 -0.1164 -0.08038 -0.12382 C -0.08542 -0.12544 -0.09514 -0.13031 -0.09514 -0.13031 C -0.13108 -0.12776 -0.13577 -0.13449 -0.15851 -0.11408 C -0.16841 -0.09437 -0.15903 -0.11547 -0.1658 -0.09113 C -0.17275 -0.06609 -0.17795 -0.04267 -0.18038 -0.01624 C -0.18229 0.0037 -0.18004 0.01599 -0.19028 0.02897 C -0.19757 0.05911 -0.20139 0.09343 -0.18281 0.11731 C -0.17726 0.13957 -0.1849 0.11244 -0.17309 0.14003 C -0.17188 0.14305 -0.17222 0.14699 -0.17066 0.14977 C -0.16163 0.16646 -0.14948 0.17064 -0.13663 0.17922 C -0.12674 0.18571 -0.11684 0.19429 -0.10729 0.20194 C -0.10174 0.21307 -0.08837 0.23904 -0.07795 0.24112 C -0.0691 0.24275 -0.06007 0.24321 -0.05122 0.24437 C -0.03768 0.25318 -0.02639 0.26222 -0.01216 0.26709 C 0.00573 0.26106 -0.00643 0.26941 -1.11111E-006 0.23788 C 0.00139 0.23069 0.00555 0.22512 0.00729 0.21817 C 0.00642 0.19545 0.00694 0.17249 0.00486 0.14977 C 0.00382 0.13841 -0.01459 0.12705 -0.01459 0.12705 C -0.02413 0.1078 -0.01337 0.12589 -0.02917 0.11082 C -0.03525 0.10479 -0.0375 0.09899 -0.0415 0.09111 C -0.04236 0.08671 -0.04393 0.08253 -0.04393 0.07813 C -0.04393 0.05749 -0.04358 0.03662 -0.0415 0.01622 C -0.04097 0.01089 -0.03299 0.00069 -0.02917 -6.28797E-006 C -0.01945 -0.00163 -0.00972 -6.28797E-006 -1.11111E-006 -6.28797E-006 E">
                                      <p:cBhvr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149 -0.52446 C 0.17361 -0.52538 0.01423 -0.54092 -0.08542 -0.5277 C -0.09775 -0.47808 -0.06511 -0.4083 -0.09271 -0.37143 C -0.11684 -0.3392 -0.16094 -0.36934 -0.19514 -0.36818 C -0.21216 -0.36053 -0.20816 -0.36818 -0.21216 -0.35195 C -0.20261 -0.20983 -0.08577 -0.31138 0.05364 -0.30952 C 0.07274 -0.30442 0.08298 -0.30071 0.1 -0.29005 C 0.10659 -0.28588 0.11232 -0.27822 0.11944 -0.27683 C 0.13975 -0.27289 0.1309 -0.27544 0.14635 -0.27034 C 0.17066 -0.14027 0.15295 -0.23974 0.14635 0.10735 C 0.14618 0.12011 0.1408 0.13471 0.13403 0.14329 C 0.13073 0.15628 0.12795 0.16161 0.11944 0.16926 C 0.11389 0.19175 0.09913 0.2045 0.08281 0.21169 C 0.05451 0.20404 0.01007 0.19407 -0.01476 0.17251 C -0.02917 0.14352 -0.0217 0.1157 -0.01962 0.07814 C -0.01945 0.07374 -0.01893 0.06887 -0.01719 0.06516 C -0.01146 0.0531 -0.00087 0.04869 1.94444E-006 0.03246 C 0.00069 0.02157 1.94444E-006 0.0109 1.94444E-006 -3.2831E-006 E">
                                      <p:cBhvr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pt-PT" sz="4000" spc="-1" strike="noStrike">
                <a:solidFill>
                  <a:srgbClr val="ff0000"/>
                </a:solidFill>
                <a:latin typeface="Times New Roman"/>
              </a:rPr>
              <a:t>No dia seguinte, dirigiram-se de novo à loja de surfistas e compraram roupas ainda mais berrantes. </a:t>
            </a:r>
            <a:br>
              <a:rPr sz="4000"/>
            </a:br>
            <a:br>
              <a:rPr sz="4000"/>
            </a:br>
            <a:r>
              <a:rPr b="1" lang="pt-PT" sz="4000" spc="-1" strike="noStrike">
                <a:solidFill>
                  <a:srgbClr val="ff0000"/>
                </a:solidFill>
                <a:latin typeface="Times New Roman"/>
              </a:rPr>
              <a:t>Novamente os padres dirigiram-se à praia, para gozar o sol, as vistas e... </a:t>
            </a:r>
            <a:br>
              <a:rPr sz="4000"/>
            </a:br>
            <a:br>
              <a:rPr sz="4000"/>
            </a:br>
            <a:r>
              <a:rPr b="1" lang="pt-PT" sz="4000" spc="-1" strike="noStrike">
                <a:solidFill>
                  <a:srgbClr val="ff0000"/>
                </a:solidFill>
                <a:latin typeface="Times New Roman"/>
              </a:rPr>
              <a:t>Eis que aparece a mesma loira de fazer perder a cabeça a qualquer distraído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32000" y="609120"/>
            <a:ext cx="601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pt-PT" sz="4800" spc="-1" strike="noStrike">
                <a:solidFill>
                  <a:srgbClr val="ff0000"/>
                </a:solidFill>
                <a:latin typeface="Times New Roman"/>
              </a:rPr>
              <a:t>Vinha com uma tanguinha ultra reveladora, </a:t>
            </a:r>
            <a:br>
              <a:rPr sz="4800"/>
            </a:br>
            <a:r>
              <a:rPr b="1" lang="pt-PT" sz="4800" spc="-1" strike="noStrike">
                <a:solidFill>
                  <a:srgbClr val="ff0000"/>
                </a:solidFill>
                <a:latin typeface="Times New Roman"/>
              </a:rPr>
              <a:t>aproximou-se deles </a:t>
            </a:r>
            <a:br>
              <a:rPr sz="4800"/>
            </a:br>
            <a:r>
              <a:rPr b="1" lang="pt-PT" sz="4800" spc="-1" strike="noStrike">
                <a:solidFill>
                  <a:srgbClr val="ff0000"/>
                </a:solidFill>
                <a:latin typeface="Times New Roman"/>
              </a:rPr>
              <a:t>e </a:t>
            </a:r>
            <a:br>
              <a:rPr sz="4800"/>
            </a:br>
            <a:r>
              <a:rPr b="1" lang="pt-PT" sz="4800" spc="-1" strike="noStrike">
                <a:solidFill>
                  <a:srgbClr val="ff0000"/>
                </a:solidFill>
                <a:latin typeface="Times New Roman"/>
              </a:rPr>
              <a:t>cumprimentou-os:</a:t>
            </a:r>
            <a:br>
              <a:rPr sz="4800"/>
            </a:br>
            <a:br>
              <a:rPr sz="4800"/>
            </a:b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C:\Users\Candida Gonçalves\Pictures\Papoula5lva.jpg"/>
          <p:cNvPicPr/>
          <p:nvPr/>
        </p:nvPicPr>
        <p:blipFill>
          <a:blip r:embed="rId1"/>
          <a:stretch/>
        </p:blipFill>
        <p:spPr>
          <a:xfrm>
            <a:off x="468360" y="620640"/>
            <a:ext cx="3024000" cy="59040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779640" y="981000"/>
            <a:ext cx="46782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0000"/>
                </a:solidFill>
                <a:latin typeface="Times New Roman"/>
              </a:rPr>
              <a:t>Bom dia Senhor Padre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0000"/>
                </a:solidFill>
                <a:latin typeface="Times New Roman"/>
              </a:rPr>
              <a:t>Bom dia Senhor Padre. </a:t>
            </a:r>
            <a:br>
              <a:rPr sz="4400"/>
            </a:br>
            <a:r>
              <a:rPr b="1" lang="pt-PT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C:\Users\Candida Gonçalves\Pictures\Papoula5lva.jpg"/>
          <p:cNvPicPr/>
          <p:nvPr/>
        </p:nvPicPr>
        <p:blipFill>
          <a:blip r:embed="rId1"/>
          <a:stretch/>
        </p:blipFill>
        <p:spPr>
          <a:xfrm>
            <a:off x="468360" y="620640"/>
            <a:ext cx="3024000" cy="59040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00"/>
                            </p:stCondLst>
                            <p:childTnLst>
                              <p:par>
                                <p:cTn id="1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4240" y="164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0000"/>
                </a:solidFill>
                <a:latin typeface="Arial"/>
              </a:rPr>
              <a:t>Depois de os cumprimentar continuou o seu caminho. Um dos padres não se conteve e chamou-a: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3715920"/>
            <a:ext cx="77724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c0c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c0c0c"/>
                </a:solidFill>
                <a:latin typeface="Arial"/>
              </a:rPr>
              <a:t>-.</a:t>
            </a:r>
            <a:br>
              <a:rPr sz="3200"/>
            </a:br>
            <a:br>
              <a:rPr sz="3200"/>
            </a:br>
            <a:r>
              <a:rPr b="1" lang="pt-PT" sz="3200" spc="-1" strike="noStrike">
                <a:solidFill>
                  <a:srgbClr val="0070c0"/>
                </a:solidFill>
                <a:latin typeface="Arial"/>
              </a:rPr>
              <a:t>- </a:t>
            </a:r>
            <a:r>
              <a:rPr b="1" lang="pt-PT" sz="4000" spc="-1" strike="noStrike">
                <a:solidFill>
                  <a:srgbClr val="0000ff"/>
                </a:solidFill>
                <a:latin typeface="Arial"/>
              </a:rPr>
              <a:t>Um momento, menin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u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350"/>
                            </p:stCondLst>
                            <p:childTnLst>
                              <p:par>
                                <p:cTn id="1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63cdb"/>
                </a:solidFill>
                <a:latin typeface="Arial"/>
              </a:rPr>
              <a:t>- </a:t>
            </a:r>
            <a:r>
              <a:rPr b="1" lang="pt-PT" sz="4400" spc="-1" strike="noStrike">
                <a:solidFill>
                  <a:srgbClr val="ff00ff"/>
                </a:solidFill>
                <a:latin typeface="Arial"/>
              </a:rPr>
              <a:t>Sim</a:t>
            </a:r>
            <a:r>
              <a:rPr b="0" lang="pt-PT" sz="4400" spc="-1" strike="noStrike">
                <a:solidFill>
                  <a:srgbClr val="0c0c0c"/>
                </a:solidFill>
                <a:latin typeface="Arial"/>
              </a:rPr>
              <a:t>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55640" y="2600280"/>
            <a:ext cx="7702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b0f0"/>
                </a:solidFill>
                <a:latin typeface="Times New Roman"/>
              </a:rPr>
              <a:t> </a:t>
            </a:r>
            <a:r>
              <a:rPr b="1" lang="pt-PT" sz="4000" spc="-1" strike="noStrike">
                <a:solidFill>
                  <a:srgbClr val="00b0f0"/>
                </a:solidFill>
                <a:latin typeface="Times New Roman"/>
              </a:rPr>
              <a:t>  </a:t>
            </a:r>
            <a:r>
              <a:rPr b="1" lang="pt-PT" sz="4000" spc="-1" strike="noStrike">
                <a:solidFill>
                  <a:srgbClr val="00b0f0"/>
                </a:solidFill>
                <a:latin typeface="Times New Roman"/>
              </a:rPr>
              <a:t>Respondeu ela, com um sorriso nos lábios bem definidos e sensuais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5" descr="http://t0.gstatic.com/images?q=tbn:ANd9GcRiQb8580v6-bJkOA251VEnYfxwg8XTnXyul2n4Iiti8VzESMjTK0w0kkLw"/>
          <p:cNvPicPr/>
          <p:nvPr/>
        </p:nvPicPr>
        <p:blipFill>
          <a:blip r:embed="rId1"/>
          <a:stretch/>
        </p:blipFill>
        <p:spPr>
          <a:xfrm>
            <a:off x="324000" y="260280"/>
            <a:ext cx="162864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pt-PT" sz="4400" spc="-1" strike="noStrike">
                <a:solidFill>
                  <a:srgbClr val="00b0f0"/>
                </a:solidFill>
                <a:latin typeface="Times New Roman"/>
              </a:rPr>
              <a:t>- Nós de facto somos padres e temos orgulho em sê-lo, mas como conseguiu descobrir isso?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u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85440" y="692280"/>
            <a:ext cx="806292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00ff"/>
                </a:solidFill>
                <a:latin typeface="Arial"/>
              </a:rPr>
              <a:t>SENHOR PADRE, SOU EU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00ff"/>
                </a:solidFill>
                <a:latin typeface="Arial"/>
              </a:rPr>
              <a:t>a IRMÃ ÂNGELA!! </a:t>
            </a:r>
            <a:br>
              <a:rPr sz="3600"/>
            </a:br>
            <a:r>
              <a:rPr b="1" lang="pt-PT" sz="3600" spc="-1" strike="noStrike">
                <a:solidFill>
                  <a:srgbClr val="333333"/>
                </a:solidFill>
                <a:latin typeface="Arial"/>
              </a:rPr>
              <a:t> </a:t>
            </a:r>
            <a:br>
              <a:rPr sz="3600"/>
            </a:br>
            <a:r>
              <a:rPr b="1" lang="pt-PT" sz="3600" spc="-1" strike="noStrike">
                <a:solidFill>
                  <a:srgbClr val="ff00ff"/>
                </a:solidFill>
                <a:latin typeface="Arial"/>
              </a:rPr>
              <a:t>Também tô de férias 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nm_anifreira003"/>
          <p:cNvPicPr/>
          <p:nvPr/>
        </p:nvPicPr>
        <p:blipFill>
          <a:blip r:embed="rId1"/>
          <a:stretch/>
        </p:blipFill>
        <p:spPr>
          <a:xfrm flipH="1">
            <a:off x="468360" y="3429000"/>
            <a:ext cx="2160720" cy="3139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soeurs010"/>
          <p:cNvPicPr/>
          <p:nvPr/>
        </p:nvPicPr>
        <p:blipFill>
          <a:blip r:embed="rId2"/>
          <a:stretch/>
        </p:blipFill>
        <p:spPr>
          <a:xfrm flipH="1">
            <a:off x="2987640" y="3645000"/>
            <a:ext cx="2016000" cy="2908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nm_anifreira005"/>
          <p:cNvPicPr/>
          <p:nvPr/>
        </p:nvPicPr>
        <p:blipFill>
          <a:blip r:embed="rId3"/>
          <a:stretch/>
        </p:blipFill>
        <p:spPr>
          <a:xfrm>
            <a:off x="6084720" y="3357720"/>
            <a:ext cx="2484720" cy="33321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50"/>
                            </p:stCondLst>
                            <p:childTnLst>
                              <p:par>
                                <p:cTn id="1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6920" y="1447560"/>
            <a:ext cx="439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pt-PT" sz="4400" spc="-1" strike="noStrike">
                <a:solidFill>
                  <a:srgbClr val="ff3300"/>
                </a:solidFill>
                <a:latin typeface="Times New Roman"/>
              </a:rPr>
              <a:t>Dois padres resolveram passar férias numa bela praia.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3" descr="C:\Users\Candida Gonçalves\Pictures\00.gif"/>
          <p:cNvPicPr/>
          <p:nvPr/>
        </p:nvPicPr>
        <p:blipFill>
          <a:blip r:embed="rId1"/>
          <a:stretch/>
        </p:blipFill>
        <p:spPr>
          <a:xfrm>
            <a:off x="324000" y="549360"/>
            <a:ext cx="3609720" cy="59022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79280" y="476280"/>
            <a:ext cx="532944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pt-PT" sz="4400" spc="-1" strike="noStrike">
                <a:solidFill>
                  <a:srgbClr val="ff3300"/>
                </a:solidFill>
                <a:latin typeface="Times New Roman"/>
              </a:rPr>
              <a:t>No entanto, eles decidiram que deveriam ser mesmo férias e portanto nada deveria identificá-los como membros do cler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C:\Users\Candida Gonçalves\Pictures\padre4.png"/>
          <p:cNvPicPr/>
          <p:nvPr/>
        </p:nvPicPr>
        <p:blipFill>
          <a:blip r:embed="rId1"/>
          <a:stretch/>
        </p:blipFill>
        <p:spPr>
          <a:xfrm>
            <a:off x="5148360" y="476280"/>
            <a:ext cx="3744720" cy="59054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60912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pt-PT" sz="4400" spc="-1" strike="noStrike">
                <a:solidFill>
                  <a:srgbClr val="ff3300"/>
                </a:solidFill>
                <a:latin typeface="Times New Roman"/>
              </a:rPr>
              <a:t>Logo que desceram do avião, dirigiram-se a uma loja de surfistas e compraram o último grito em calções, sandálias, óculos de sol, etc..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8" descr="http://t3.gstatic.com/images?q=tbn:ANd9GcSdJsu4HobITqUD4o5E48E_GsVOrWvtm77ovFndUPRhExPZhLkx"/>
          <p:cNvPicPr/>
          <p:nvPr/>
        </p:nvPicPr>
        <p:blipFill>
          <a:blip r:embed="rId1"/>
          <a:stretch/>
        </p:blipFill>
        <p:spPr>
          <a:xfrm>
            <a:off x="7164360" y="404640"/>
            <a:ext cx="1655640" cy="1854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http://t3.gstatic.com/images?q=tbn:ANd9GcT4Vy53D0G5pYdyM58sb11ZJoOXXXf13TgnhyyYOsfzG506vnQrhA"/>
          <p:cNvPicPr/>
          <p:nvPr/>
        </p:nvPicPr>
        <p:blipFill>
          <a:blip r:embed="rId2"/>
          <a:stretch/>
        </p:blipFill>
        <p:spPr>
          <a:xfrm>
            <a:off x="468360" y="4292640"/>
            <a:ext cx="1914480" cy="2381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Gif óculo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2781360"/>
            <a:ext cx="1179360" cy="530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Gif óculo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67640" y="3645000"/>
            <a:ext cx="1179360" cy="530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Aqui assita ao video: Sandalias masculinas caem no gosto dos homen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12000" y="5084640"/>
            <a:ext cx="761760" cy="5716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87280" y="609120"/>
            <a:ext cx="360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pt-PT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pt-PT" sz="4400" spc="-1" strike="noStrike">
                <a:solidFill>
                  <a:srgbClr val="ff3300"/>
                </a:solidFill>
                <a:latin typeface="Times New Roman"/>
              </a:rPr>
              <a:t>Na manhã seguinte, foram até à praia vestidos como </a:t>
            </a:r>
            <a:br>
              <a:rPr sz="4400"/>
            </a:br>
            <a:r>
              <a:rPr b="1" lang="pt-PT" sz="4400" spc="-1" strike="noStrike">
                <a:solidFill>
                  <a:srgbClr val="ff3300"/>
                </a:solidFill>
                <a:latin typeface="Times New Roman"/>
              </a:rPr>
              <a:t>verdadeiros turistas.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C:\Users\Candida Gonçalves\Pictures\sem230_11.jpg"/>
          <p:cNvPicPr/>
          <p:nvPr/>
        </p:nvPicPr>
        <p:blipFill>
          <a:blip r:embed="rId1"/>
          <a:stretch/>
        </p:blipFill>
        <p:spPr>
          <a:xfrm>
            <a:off x="6732720" y="2781360"/>
            <a:ext cx="2160360" cy="3898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Users\Candida Gonçalves\Pictures\sem228_11.jpg"/>
          <p:cNvPicPr/>
          <p:nvPr/>
        </p:nvPicPr>
        <p:blipFill>
          <a:blip r:embed="rId2"/>
          <a:stretch/>
        </p:blipFill>
        <p:spPr>
          <a:xfrm>
            <a:off x="250920" y="1052640"/>
            <a:ext cx="2506680" cy="39240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851280" y="260280"/>
            <a:ext cx="511344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pt-PT" sz="3600" spc="-1" strike="noStrike">
                <a:solidFill>
                  <a:srgbClr val="ff3300"/>
                </a:solidFill>
                <a:latin typeface="Times New Roman"/>
              </a:rPr>
              <a:t>Estavam sentados nas suas cadeiras de praia a beber cerveja, enquanto gozavam o calor do sol, quando uma loira em topless, de fazer qualquer um perder a cabeça, dirigiu-se na direcção de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Topless loira"/>
          <p:cNvPicPr/>
          <p:nvPr/>
        </p:nvPicPr>
        <p:blipFill>
          <a:blip r:embed="rId1"/>
          <a:stretch/>
        </p:blipFill>
        <p:spPr>
          <a:xfrm>
            <a:off x="250920" y="404640"/>
            <a:ext cx="3384360" cy="59626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440" y="620280"/>
            <a:ext cx="806292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pt-PT" sz="4400" spc="-1" strike="noStrike">
                <a:solidFill>
                  <a:srgbClr val="ff0000"/>
                </a:solidFill>
                <a:latin typeface="Times New Roman"/>
              </a:rPr>
              <a:t>Os dois padres não conseguiram evitar segui-la com os olhares.</a:t>
            </a:r>
            <a:br>
              <a:rPr sz="4400"/>
            </a:br>
            <a:br>
              <a:rPr sz="4400"/>
            </a:br>
            <a:r>
              <a:rPr b="1" lang="pt-PT" sz="4400" spc="-1" strike="noStrike">
                <a:solidFill>
                  <a:srgbClr val="ff0000"/>
                </a:solidFill>
                <a:latin typeface="Times New Roman"/>
              </a:rPr>
              <a:t>Quando a jovem passou por eles, sorriu e individualmente cumprimentou-os: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pt-PT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3422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pt-PT" sz="4400" spc="-1" strike="noStrike">
                <a:solidFill>
                  <a:srgbClr val="f63cdb"/>
                </a:solidFill>
                <a:latin typeface="Arial"/>
              </a:rPr>
              <a:t>- </a:t>
            </a:r>
            <a:r>
              <a:rPr b="0" lang="pt-PT" sz="4400" spc="-1" strike="noStrike">
                <a:solidFill>
                  <a:srgbClr val="ff00ff"/>
                </a:solidFill>
                <a:latin typeface="Arial"/>
              </a:rPr>
              <a:t>Bom dia Senhor Padre,</a:t>
            </a:r>
            <a:br>
              <a:rPr sz="4400"/>
            </a:br>
            <a:br>
              <a:rPr sz="4400"/>
            </a:br>
            <a:r>
              <a:rPr b="0" lang="pt-PT" sz="4400" spc="-1" strike="noStrike">
                <a:solidFill>
                  <a:srgbClr val="ff00ff"/>
                </a:solidFill>
                <a:latin typeface="Arial"/>
              </a:rPr>
              <a:t> Bom dia Senhor Padre, com um ligeiro aceno de cabeça e continuando no seu caminho</a:t>
            </a:r>
            <a:r>
              <a:rPr b="0" lang="pt-PT" sz="4400" spc="-1" strike="noStrike">
                <a:solidFill>
                  <a:srgbClr val="0c0c0c"/>
                </a:solidFill>
                <a:latin typeface="Arial"/>
              </a:rPr>
              <a:t>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pt-PT" sz="4800" spc="-1" strike="noStrike">
                <a:solidFill>
                  <a:srgbClr val="ff0000"/>
                </a:solidFill>
                <a:latin typeface="Times New Roman"/>
              </a:rPr>
              <a:t>Os dois padres ficaram perplexos, como era possível que ela os reconhecesse como padres?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2T18:50:22Z</dcterms:created>
  <dc:creator>ITiS</dc:creator>
  <dc:description/>
  <dc:language>en-US</dc:language>
  <cp:lastModifiedBy>Célio Reis</cp:lastModifiedBy>
  <dcterms:modified xsi:type="dcterms:W3CDTF">2011-04-20T01:10:48Z</dcterms:modified>
  <cp:revision>62</cp:revision>
  <dc:subject/>
  <dc:title>Anser du att du har tillräckligt hög lön?</dc:title>
</cp:coreProperties>
</file>