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256-5B23-44ED-8036-2D03B479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525-FCF9-43C7-8A62-3690954F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3EE-1746-4BBB-A72E-DAF22905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C7A-5089-49DB-A070-F9BF958C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36F-9B21-48B6-8F56-4EA8FAA9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E33-545D-41C9-90E9-3B776874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D0B-60D5-4DC9-A67C-AC6C862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45F-DBA2-481C-BD03-7057F6B6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56C-9136-4AA0-A860-31DCD65E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8A7-3EEE-4EF4-A47A-73A692E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263-90FC-42B0-93BD-C7F6955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A8D-9DFF-4D37-8E12-760915C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0DA-597C-4CAE-AED6-425DB8278F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Bell MT"/>
              </a:rPr>
              <a:t>CHOSES QUE L’ON VOIT RAREMENT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-22320"/>
            <a:ext cx="784836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09640" y="0"/>
            <a:ext cx="57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740" t="1120" r="740" b="11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90520" y="0"/>
            <a:ext cx="67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0:00:04Z</dcterms:created>
  <dc:creator>Compañia de Maria</dc:creator>
  <dc:description/>
  <dc:language>en-US</dc:language>
  <cp:lastModifiedBy>carlos manuel dionisio ferreira</cp:lastModifiedBy>
  <dcterms:modified xsi:type="dcterms:W3CDTF">2007-08-17T13:09:01Z</dcterms:modified>
  <cp:revision>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SharedFileIndex">
    <vt:lpwstr/>
  </property>
</Properties>
</file>