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11A-1E01-401E-89E6-310E541A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0E8-485A-4750-ADDD-904BAD9A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1BC-7BC3-4004-99FC-D30BA0C1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1BF-FBEA-4DB9-8D81-2FED3913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41A-EB57-4947-8377-75CC575F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FFC-85CA-4F69-98E4-34C29959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F98-514B-48A5-BEAE-CCDE996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477-D33C-4BC7-B08D-A18AD656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BC1-FE68-4D02-BAF0-141BD839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AE6-287F-45A9-B02D-451E1A1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902-F964-4339-830F-1A9C47E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F90-DA42-487E-B972-16D00BB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19E9-07A8-499C-B890-F9DDE0C1B7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Bell MT"/>
              </a:rPr>
              <a:t>CHOSES QUE L’ON VOIT RAREMENT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-22320"/>
            <a:ext cx="78483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09640" y="0"/>
            <a:ext cx="57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740" t="1120" r="740" b="11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90520" y="0"/>
            <a:ext cx="676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0:00:04Z</dcterms:created>
  <dc:creator>Compañia de Maria</dc:creator>
  <dc:description/>
  <dc:language>en-US</dc:language>
  <cp:lastModifiedBy>carlos manuel dionisio ferreira</cp:lastModifiedBy>
  <dcterms:modified xsi:type="dcterms:W3CDTF">2007-08-17T13:09:01Z</dcterms:modified>
  <cp:revision>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SharedFileIndex">
    <vt:lpwstr/>
  </property>
</Properties>
</file>