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100-D521-4A88-A802-1AB6AD69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C6D-4108-4C93-BDFD-80886DF0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9E3-4495-415F-910A-521BD932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A62-A901-43A4-B56A-22B28AF4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5FA-1A0A-4D9F-9DB8-4C96377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8A2-43E2-44F2-B3D9-0D3336B9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CB1-2D13-432C-8FD7-86E85243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F8C-751D-4B66-9EA1-60276167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783-2E59-4CD6-8309-9BFF6392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608-197F-4241-8B92-4F5CAE10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8D8-4CCF-41A8-AFD9-D1FA07B7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368-E71A-4854-815D-1BDDBD4E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68DE-EEE3-46CF-A9CF-D4EFA6153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595440"/>
            <a:ext cx="9144000" cy="748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50920" y="189000"/>
            <a:ext cx="2666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Dear God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158720" y="489600"/>
            <a:ext cx="405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fr-CA" sz="3200" spc="-1" strike="noStrike">
                <a:solidFill>
                  <a:srgbClr val="ffffff"/>
                </a:solidFill>
                <a:latin typeface="Comic Sans MS"/>
              </a:rPr>
              <a:t>....Ya gotta love kids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920" y="4005360"/>
            <a:ext cx="5038560" cy="29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6360" y="-550800"/>
            <a:ext cx="9180360" cy="7421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6440" y="667440"/>
            <a:ext cx="6531120" cy="53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4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 B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237200" y="1413000"/>
            <a:ext cx="4943160" cy="547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30240" y="2133720"/>
            <a:ext cx="496260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8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36360" y="1741320"/>
            <a:ext cx="501948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6360" y="-635040"/>
            <a:ext cx="9180360" cy="749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36360" y="2784600"/>
            <a:ext cx="501948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36360" y="2133720"/>
            <a:ext cx="5019480" cy="4809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800280"/>
            <a:ext cx="9144000" cy="765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08320" y="2960640"/>
            <a:ext cx="514368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7480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84640" y="2924280"/>
            <a:ext cx="506736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6360" y="-550800"/>
            <a:ext cx="9180360" cy="7421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84720" y="2195640"/>
            <a:ext cx="49435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93080" y="5037120"/>
            <a:ext cx="2050920" cy="1820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91988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Comic Sans MS"/>
              </a:rPr>
              <a:t>This is one of the better e-mails I have received in a long time! I hope this makes its way around the WORLD several times over!!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36400"/>
            <a:ext cx="9180360" cy="7421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6360" y="4361040"/>
            <a:ext cx="5000400" cy="252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36360" y="3408480"/>
            <a:ext cx="5029200" cy="34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8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36360" y="3008160"/>
            <a:ext cx="495288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6360" y="-603360"/>
            <a:ext cx="9180360" cy="749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920" y="2890800"/>
            <a:ext cx="5019840" cy="406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36360" y="4081320"/>
            <a:ext cx="5029200" cy="301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700200"/>
            <a:ext cx="9144000" cy="765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500040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526572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7480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60880" y="2060640"/>
            <a:ext cx="5019480" cy="48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2:16:20Z</dcterms:created>
  <dc:creator>Tardif</dc:creator>
  <dc:description/>
  <dc:language>en-US</dc:language>
  <cp:lastModifiedBy>André Girard User</cp:lastModifiedBy>
  <dcterms:modified xsi:type="dcterms:W3CDTF">2009-03-12T20:07:02Z</dcterms:modified>
  <cp:revision>38</cp:revision>
  <dc:subject/>
  <dc:title>Présentation PowerPoint</dc:title>
</cp:coreProperties>
</file>