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B30-C76C-4332-9816-4202CB8D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D4F-B8BB-431B-9F23-F6A0FDB9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193-6637-436E-AEE6-165AA7AC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338-C982-4F36-9363-B217A8B9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73D-8E37-4FA3-8C21-A0DEEAA4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751-A0C4-4E5C-9C20-BE340C5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CF9-0E36-4430-9F80-614B0B7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8B8-2EF5-4213-8D23-5D75501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314-4CA3-462C-B04B-BD293A0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C87-5899-4CB4-AC19-864C983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BE8-AA55-4BE8-92F9-646519B6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F94-24B9-41B5-8BB2-F5AA109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D8E-4CE2-4D5D-A424-C466A1831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595440"/>
            <a:ext cx="9144000" cy="748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189000"/>
            <a:ext cx="2666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Dear God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158720" y="489600"/>
            <a:ext cx="40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fr-CA" sz="3200" spc="-1" strike="noStrike">
                <a:solidFill>
                  <a:srgbClr val="ffffff"/>
                </a:solidFill>
                <a:latin typeface="Comic Sans MS"/>
              </a:rPr>
              <a:t>....Ya gotta love kids!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920" y="4005360"/>
            <a:ext cx="5038560" cy="2923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-550800"/>
            <a:ext cx="9180360" cy="742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6440" y="667440"/>
            <a:ext cx="6531120" cy="53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4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 B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37200" y="1413000"/>
            <a:ext cx="4943160" cy="547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0240" y="2133720"/>
            <a:ext cx="496260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8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6360" y="1741320"/>
            <a:ext cx="501948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6360" y="-635040"/>
            <a:ext cx="9180360" cy="749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36360" y="2784600"/>
            <a:ext cx="501948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36360" y="2133720"/>
            <a:ext cx="5019480" cy="4809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800280"/>
            <a:ext cx="9144000" cy="765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08320" y="2960640"/>
            <a:ext cx="514368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7480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84640" y="2924280"/>
            <a:ext cx="506736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6360" y="-550800"/>
            <a:ext cx="9180360" cy="7421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4720" y="2195640"/>
            <a:ext cx="49435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93080" y="5037120"/>
            <a:ext cx="2050920" cy="1820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91988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Comic Sans MS"/>
              </a:rPr>
              <a:t>This is one of the better e-mails I have received in a long time! I hope this makes its way around the WORLD several times over!!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36400"/>
            <a:ext cx="9180360" cy="7421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6360" y="4361040"/>
            <a:ext cx="5000400" cy="252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6360" y="3408480"/>
            <a:ext cx="502920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8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36360" y="3008160"/>
            <a:ext cx="495288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6360" y="-603360"/>
            <a:ext cx="9180360" cy="749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920" y="2890800"/>
            <a:ext cx="5019840" cy="406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6360" y="4081320"/>
            <a:ext cx="5029200" cy="301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700200"/>
            <a:ext cx="9144000" cy="765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500040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526572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4492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7480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60880" y="2060640"/>
            <a:ext cx="5019480" cy="48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2:16:20Z</dcterms:created>
  <dc:creator>Tardif</dc:creator>
  <dc:description/>
  <dc:language>en-US</dc:language>
  <cp:lastModifiedBy>André Girard User</cp:lastModifiedBy>
  <dcterms:modified xsi:type="dcterms:W3CDTF">2009-03-12T20:07:02Z</dcterms:modified>
  <cp:revision>38</cp:revision>
  <dc:subject/>
  <dc:title>Présentation PowerPoint</dc:title>
</cp:coreProperties>
</file>