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7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3.xml.rels" ContentType="application/vnd.openxmlformats-package.relationships+xml"/>
  <Override PartName="/ppt/notesSlides/notesSlide3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3.jpeg" ContentType="image/jpeg"/>
  <Override PartName="/ppt/media/image40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37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41.gif" ContentType="image/gif"/>
  <Override PartName="/ppt/media/image8.jpeg" ContentType="image/jpeg"/>
  <Override PartName="/ppt/media/image39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27.jpeg" ContentType="image/jpeg"/>
  <Override PartName="/ppt/media/sound003.wav" ContentType="audio/x-wav"/>
  <Override PartName="/ppt/media/image6.jpeg" ContentType="image/jpeg"/>
  <Override PartName="/ppt/media/image34.jpeg" ContentType="image/jpeg"/>
  <Override PartName="/ppt/media/image28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7.jpeg" ContentType="image/jpeg"/>
  <Override PartName="/ppt/media/image38.jpeg" ContentType="image/jpeg"/>
  <Override PartName="/ppt/media/image3.png" ContentType="image/png"/>
  <Override PartName="/ppt/media/image1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3279A-C8CE-47FB-AC48-948E486C00D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29B78-7D51-479B-8A7C-0D90ABA6895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246B2-67B7-4E5E-A63F-EFB69E3992A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9FED6-B299-4ABB-B3EA-9ABA67BF9DB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6922D-C161-4461-ADD8-E7FB6962DD9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FAA80-AC62-4EE4-B117-D428C9E4710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D0E81-1EEC-42C0-A5E3-4CF146592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DF2A5-E0DD-4486-AA6D-5AF2D7B68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97D33-DC9D-46EF-8A39-5E61EE31E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A136B-9B8F-411A-813F-0D3FC1B88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1C6DB-9F57-415A-BF0F-A2C4950FA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E2336-F1CD-4C08-AD1A-3DEE4DD6A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DBDAC-3BCE-4A1A-95B2-4B210868D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7ACFE-52EF-4A8A-B278-3143E5118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FB231-000D-4F35-B633-C5C1506D0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FFDBB-4A0E-460B-A7BA-EBAFADEB3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6D5C8-0134-4B4D-9AA0-C0F9E9A02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E8FE7-E9AC-4FB4-A33C-B273F0D5C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8F739-B6CE-49CB-8467-A4B8115AEEAF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audio" Target="../media/sound003.wav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header"/>
          <p:cNvPicPr/>
          <p:nvPr/>
        </p:nvPicPr>
        <p:blipFill>
          <a:blip r:embed="rId1"/>
          <a:stretch/>
        </p:blipFill>
        <p:spPr>
          <a:xfrm>
            <a:off x="0" y="-603360"/>
            <a:ext cx="9325080" cy="7461360"/>
          </a:xfrm>
          <a:prstGeom prst="rect">
            <a:avLst/>
          </a:prstGeom>
          <a:ln w="0">
            <a:noFill/>
          </a:ln>
        </p:spPr>
      </p:pic>
      <p:pic>
        <p:nvPicPr>
          <p:cNvPr id="49" name="piano - Clyderman Richard.mp3" descr=""/>
          <p:cNvPicPr/>
          <p:nvPr/>
        </p:nvPicPr>
        <p:blipFill>
          <a:blip r:embed="rId2"/>
          <a:stretch/>
        </p:blipFill>
        <p:spPr>
          <a:xfrm>
            <a:off x="3851280" y="6021360"/>
            <a:ext cx="244440" cy="244440"/>
          </a:xfrm>
          <a:prstGeom prst="rect">
            <a:avLst/>
          </a:prstGeom>
          <a:ln w="0">
            <a:noFill/>
          </a:ln>
        </p:spPr>
      </p:pic>
      <p:pic>
        <p:nvPicPr>
          <p:cNvPr id="50" name="春之声圆舞曲.mp3" descr=""/>
          <p:cNvPicPr/>
          <p:nvPr/>
        </p:nvPicPr>
        <p:blipFill>
          <a:blip r:embed="rId3"/>
          <a:stretch/>
        </p:blipFill>
        <p:spPr>
          <a:xfrm>
            <a:off x="250920" y="630864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2462040" y="1630440"/>
            <a:ext cx="5705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Segoe UI"/>
                <a:ea typeface="Arial"/>
              </a:rPr>
              <a:t>EM 2012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Segoe UI"/>
                <a:ea typeface="Arial"/>
              </a:rPr>
              <a:t>EM 20………..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463840" y="620640"/>
            <a:ext cx="3900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Segoe UI"/>
                <a:ea typeface="Arial"/>
              </a:rPr>
              <a:t>EM 2011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9000">
    <p:zoom dir="out"/>
    <p:sndAc>
      <p:stSnd>
        <p:snd r:embed="rId4" name="sound003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" dur="1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b4d4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Echinocereus reichenbachii"/>
          <p:cNvPicPr/>
          <p:nvPr/>
        </p:nvPicPr>
        <p:blipFill>
          <a:blip r:embed="rId1"/>
          <a:stretch/>
        </p:blipFill>
        <p:spPr>
          <a:xfrm>
            <a:off x="1042920" y="114480"/>
            <a:ext cx="6858000" cy="6743520"/>
          </a:xfrm>
          <a:prstGeom prst="rect">
            <a:avLst/>
          </a:prstGeom>
          <a:ln w="0">
            <a:noFill/>
          </a:ln>
        </p:spPr>
      </p:pic>
      <p:sp>
        <p:nvSpPr>
          <p:cNvPr id="78" name="Text Box 3"/>
          <p:cNvSpPr/>
          <p:nvPr/>
        </p:nvSpPr>
        <p:spPr>
          <a:xfrm>
            <a:off x="1219320" y="632448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Echinocereus reichenbachi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Text Box 4"/>
          <p:cNvSpPr/>
          <p:nvPr/>
        </p:nvSpPr>
        <p:spPr>
          <a:xfrm>
            <a:off x="663480" y="0"/>
            <a:ext cx="7796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Segoe Script"/>
                <a:ea typeface="宋体"/>
              </a:rPr>
              <a:t>Come um pequeno almoço como um rei,</a:t>
            </a:r>
            <a:r>
              <a:rPr b="0" lang="pt-PT" sz="1400" spc="-1" strike="noStrike">
                <a:solidFill>
                  <a:srgbClr val="ffffff"/>
                </a:solidFill>
                <a:latin typeface="Segoe Script"/>
                <a:ea typeface="宋体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250920" y="4359240"/>
            <a:ext cx="3741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Segoe Script"/>
                <a:ea typeface="宋体"/>
              </a:rPr>
              <a:t>almoça como um príncip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Text Box 6"/>
          <p:cNvSpPr/>
          <p:nvPr/>
        </p:nvSpPr>
        <p:spPr>
          <a:xfrm>
            <a:off x="6012000" y="4869000"/>
            <a:ext cx="295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Segoe Script"/>
                <a:ea typeface="宋体"/>
              </a:rPr>
              <a:t>e janta como um pedinte</a:t>
            </a:r>
            <a:r>
              <a:rPr b="1" lang="pt-PT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4000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3" descr="Oroya peruviana"/>
          <p:cNvPicPr/>
          <p:nvPr/>
        </p:nvPicPr>
        <p:blipFill>
          <a:blip r:embed="rId1"/>
          <a:stretch/>
        </p:blipFill>
        <p:spPr>
          <a:xfrm>
            <a:off x="2352600" y="142920"/>
            <a:ext cx="6791400" cy="6715080"/>
          </a:xfrm>
          <a:prstGeom prst="rect">
            <a:avLst/>
          </a:prstGeom>
          <a:ln w="0">
            <a:noFill/>
          </a:ln>
        </p:spPr>
      </p:pic>
      <p:sp>
        <p:nvSpPr>
          <p:cNvPr id="83" name="Text Box 4"/>
          <p:cNvSpPr/>
          <p:nvPr/>
        </p:nvSpPr>
        <p:spPr>
          <a:xfrm>
            <a:off x="762120" y="6469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Oroya peruvian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179280" y="38160"/>
            <a:ext cx="90266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Segoe Script"/>
                <a:ea typeface="宋体"/>
              </a:rPr>
              <a:t>Arranja tempo para meditar e rezar. Isso providencia-nos o nosso “combustível” diário para as nossas muito ocupadas vidas</a:t>
            </a:r>
            <a:r>
              <a:rPr b="1" lang="pt-PT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.</a:t>
            </a:r>
            <a:r>
              <a:rPr b="0" lang="pt-PT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4000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4" descr="Escobaria minima"/>
          <p:cNvPicPr/>
          <p:nvPr/>
        </p:nvPicPr>
        <p:blipFill>
          <a:blip r:embed="rId1"/>
          <a:stretch/>
        </p:blipFill>
        <p:spPr>
          <a:xfrm>
            <a:off x="304920" y="790560"/>
            <a:ext cx="8572320" cy="6067440"/>
          </a:xfrm>
          <a:prstGeom prst="rect">
            <a:avLst/>
          </a:prstGeom>
          <a:ln w="0">
            <a:noFill/>
          </a:ln>
        </p:spPr>
      </p:pic>
      <p:sp>
        <p:nvSpPr>
          <p:cNvPr id="86" name="Text Box 5"/>
          <p:cNvSpPr/>
          <p:nvPr/>
        </p:nvSpPr>
        <p:spPr>
          <a:xfrm>
            <a:off x="380880" y="6392880"/>
            <a:ext cx="20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Escobaria minim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Text Box 6"/>
          <p:cNvSpPr/>
          <p:nvPr/>
        </p:nvSpPr>
        <p:spPr>
          <a:xfrm>
            <a:off x="592200" y="254160"/>
            <a:ext cx="794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Segoe Script"/>
                <a:ea typeface="宋体"/>
              </a:rPr>
              <a:t>Sonha mais enquanto estás acordado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4000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4" descr="Rebutia pallida"/>
          <p:cNvPicPr/>
          <p:nvPr/>
        </p:nvPicPr>
        <p:blipFill>
          <a:blip r:embed="rId1"/>
          <a:stretch/>
        </p:blipFill>
        <p:spPr>
          <a:xfrm>
            <a:off x="990720" y="114480"/>
            <a:ext cx="7448400" cy="6743520"/>
          </a:xfrm>
          <a:prstGeom prst="rect">
            <a:avLst/>
          </a:prstGeom>
          <a:ln w="0">
            <a:noFill/>
          </a:ln>
        </p:spPr>
      </p:pic>
      <p:sp>
        <p:nvSpPr>
          <p:cNvPr id="89" name="Text Box 5"/>
          <p:cNvSpPr/>
          <p:nvPr/>
        </p:nvSpPr>
        <p:spPr>
          <a:xfrm>
            <a:off x="228600" y="6392880"/>
            <a:ext cx="23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Rebutia pallid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Text Box 6"/>
          <p:cNvSpPr/>
          <p:nvPr/>
        </p:nvSpPr>
        <p:spPr>
          <a:xfrm>
            <a:off x="158760" y="115920"/>
            <a:ext cx="8805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Text Box 7"/>
          <p:cNvSpPr/>
          <p:nvPr/>
        </p:nvSpPr>
        <p:spPr>
          <a:xfrm>
            <a:off x="447840" y="0"/>
            <a:ext cx="837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Segoe Script"/>
                <a:ea typeface="宋体"/>
              </a:rPr>
              <a:t>Sorri e ri mai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4000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69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Escobaria wissmannii"/>
          <p:cNvPicPr/>
          <p:nvPr/>
        </p:nvPicPr>
        <p:blipFill>
          <a:blip r:embed="rId1"/>
          <a:stretch/>
        </p:blipFill>
        <p:spPr>
          <a:xfrm>
            <a:off x="571680" y="104760"/>
            <a:ext cx="8572320" cy="6753240"/>
          </a:xfrm>
          <a:prstGeom prst="rect">
            <a:avLst/>
          </a:prstGeom>
          <a:ln w="0">
            <a:noFill/>
          </a:ln>
        </p:spPr>
      </p:pic>
      <p:sp>
        <p:nvSpPr>
          <p:cNvPr id="93" name="Text Box 3"/>
          <p:cNvSpPr/>
          <p:nvPr/>
        </p:nvSpPr>
        <p:spPr>
          <a:xfrm>
            <a:off x="152280" y="525780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Escobaria wissmanni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0" y="115920"/>
            <a:ext cx="9144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 </a:t>
            </a:r>
            <a:r>
              <a:rPr b="1" lang="pt-PT" sz="3200" spc="-1" strike="noStrike">
                <a:solidFill>
                  <a:srgbClr val="ffffff"/>
                </a:solidFill>
                <a:latin typeface="Segoe Script"/>
                <a:ea typeface="宋体"/>
              </a:rPr>
              <a:t>Faz com que, pelo menos, três pessoas sorriam cada dia.</a:t>
            </a:r>
            <a:r>
              <a:rPr b="0" lang="pt-PT" sz="3200" spc="-1" strike="noStrike">
                <a:solidFill>
                  <a:srgbClr val="ffffff"/>
                </a:solidFill>
                <a:latin typeface="Segoe Script"/>
                <a:ea typeface="宋体"/>
              </a:rPr>
              <a:t> 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5000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a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Mammillaria albiflora"/>
          <p:cNvPicPr/>
          <p:nvPr/>
        </p:nvPicPr>
        <p:blipFill>
          <a:blip r:embed="rId1"/>
          <a:stretch/>
        </p:blipFill>
        <p:spPr>
          <a:xfrm>
            <a:off x="609480" y="114480"/>
            <a:ext cx="7896240" cy="6743520"/>
          </a:xfrm>
          <a:prstGeom prst="rect">
            <a:avLst/>
          </a:prstGeom>
          <a:ln w="0">
            <a:noFill/>
          </a:ln>
        </p:spPr>
      </p:pic>
      <p:sp>
        <p:nvSpPr>
          <p:cNvPr id="96" name="Text Box 5"/>
          <p:cNvSpPr/>
          <p:nvPr/>
        </p:nvSpPr>
        <p:spPr>
          <a:xfrm>
            <a:off x="1295280" y="6400800"/>
            <a:ext cx="20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Mammillaria albiflor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Text Box 6"/>
          <p:cNvSpPr/>
          <p:nvPr/>
        </p:nvSpPr>
        <p:spPr>
          <a:xfrm>
            <a:off x="395280" y="0"/>
            <a:ext cx="8389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Segoe Script"/>
                <a:ea typeface="宋体"/>
              </a:rPr>
              <a:t>Não percas teu precioso tempo com mecherico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4000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966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4" descr="Echinocereus klapperi"/>
          <p:cNvPicPr/>
          <p:nvPr/>
        </p:nvPicPr>
        <p:blipFill>
          <a:blip r:embed="rId1"/>
          <a:stretch/>
        </p:blipFill>
        <p:spPr>
          <a:xfrm>
            <a:off x="785880" y="114480"/>
            <a:ext cx="7257960" cy="6743520"/>
          </a:xfrm>
          <a:prstGeom prst="rect">
            <a:avLst/>
          </a:prstGeom>
          <a:ln w="0">
            <a:noFill/>
          </a:ln>
        </p:spPr>
      </p:pic>
      <p:sp>
        <p:nvSpPr>
          <p:cNvPr id="99" name="Text Box 5"/>
          <p:cNvSpPr/>
          <p:nvPr/>
        </p:nvSpPr>
        <p:spPr>
          <a:xfrm>
            <a:off x="1066680" y="631656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Echinocereus klapper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Text Box 6"/>
          <p:cNvSpPr/>
          <p:nvPr/>
        </p:nvSpPr>
        <p:spPr>
          <a:xfrm>
            <a:off x="214200" y="0"/>
            <a:ext cx="8642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Segoe Script"/>
                <a:ea typeface="宋体"/>
              </a:rPr>
              <a:t>Não tenhas pensamentos negativos acerca de coisas que não podes controlar</a:t>
            </a:r>
            <a:r>
              <a:rPr b="1" lang="pt-PT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5796000" y="3786120"/>
            <a:ext cx="32194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Segoe Script"/>
                <a:ea typeface="宋体"/>
              </a:rPr>
              <a:t> </a:t>
            </a:r>
            <a:r>
              <a:rPr b="1" lang="pt-PT" sz="3200" spc="-1" strike="noStrike">
                <a:solidFill>
                  <a:srgbClr val="ffffff"/>
                </a:solidFill>
                <a:latin typeface="Segoe Script"/>
                <a:ea typeface="宋体"/>
              </a:rPr>
              <a:t>Investe a tua energia nos momentos positivos do presente</a:t>
            </a:r>
            <a:r>
              <a:rPr b="1" lang="pt-PT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4000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22b3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3" descr="Echinocereus polyacanthus"/>
          <p:cNvPicPr/>
          <p:nvPr/>
        </p:nvPicPr>
        <p:blipFill>
          <a:blip r:embed="rId1"/>
          <a:stretch/>
        </p:blipFill>
        <p:spPr>
          <a:xfrm>
            <a:off x="1176480" y="61920"/>
            <a:ext cx="6791040" cy="673416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4"/>
          <p:cNvSpPr/>
          <p:nvPr/>
        </p:nvSpPr>
        <p:spPr>
          <a:xfrm>
            <a:off x="1219320" y="6392880"/>
            <a:ext cx="2361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Echinocereus polyacanthu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158760" y="0"/>
            <a:ext cx="8805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Segoe Script"/>
                <a:ea typeface="宋体"/>
              </a:rPr>
              <a:t>Gasta tempo com pessoas com mais de 70 anos &amp; com menos de 6.</a:t>
            </a:r>
            <a:r>
              <a:rPr b="0" lang="pt-PT" sz="3200" spc="-1" strike="noStrike">
                <a:solidFill>
                  <a:srgbClr val="ffffff"/>
                </a:solidFill>
                <a:latin typeface="Segoe Script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4000"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64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Neowerdermannia vorwerkii"/>
          <p:cNvPicPr/>
          <p:nvPr/>
        </p:nvPicPr>
        <p:blipFill>
          <a:blip r:embed="rId1"/>
          <a:stretch/>
        </p:blipFill>
        <p:spPr>
          <a:xfrm>
            <a:off x="2200320" y="114480"/>
            <a:ext cx="6943680" cy="674352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3"/>
          <p:cNvSpPr/>
          <p:nvPr/>
        </p:nvSpPr>
        <p:spPr>
          <a:xfrm>
            <a:off x="0" y="640080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Neowerdermannia vorwerki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324000" y="189000"/>
            <a:ext cx="8254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Segoe Script"/>
                <a:ea typeface="宋体"/>
              </a:rPr>
              <a:t>A vida é muito curta…não a  gastes a odiar alguém</a:t>
            </a:r>
            <a:r>
              <a:rPr b="1" lang="pt-PT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.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5000"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Matucana krahnii"/>
          <p:cNvPicPr/>
          <p:nvPr/>
        </p:nvPicPr>
        <p:blipFill>
          <a:blip r:embed="rId1"/>
          <a:stretch/>
        </p:blipFill>
        <p:spPr>
          <a:xfrm>
            <a:off x="814320" y="57240"/>
            <a:ext cx="7515360" cy="674352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3"/>
          <p:cNvSpPr/>
          <p:nvPr/>
        </p:nvSpPr>
        <p:spPr>
          <a:xfrm>
            <a:off x="685800" y="6469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Matucana krahni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510120" y="254160"/>
            <a:ext cx="561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Segoe Script"/>
                <a:ea typeface="宋体"/>
              </a:rPr>
              <a:t>Não te leves muito a sério.</a:t>
            </a:r>
            <a:r>
              <a:rPr b="0" lang="pt-PT" sz="1400" spc="-1" strike="noStrike">
                <a:solidFill>
                  <a:srgbClr val="ffffff"/>
                </a:solidFill>
                <a:latin typeface="Segoe Script"/>
                <a:ea typeface="宋体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324000" y="1484280"/>
            <a:ext cx="3025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Segoe Script"/>
                <a:ea typeface="宋体"/>
              </a:rPr>
              <a:t>Ninguém mais o faz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4000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d6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3" descr="Cochemiea poselgeri"/>
          <p:cNvPicPr/>
          <p:nvPr/>
        </p:nvPicPr>
        <p:blipFill>
          <a:blip r:embed="rId1"/>
          <a:stretch/>
        </p:blipFill>
        <p:spPr>
          <a:xfrm>
            <a:off x="0" y="1057320"/>
            <a:ext cx="9144000" cy="5800680"/>
          </a:xfrm>
          <a:prstGeom prst="rect">
            <a:avLst/>
          </a:prstGeom>
          <a:ln w="0">
            <a:noFill/>
          </a:ln>
        </p:spPr>
      </p:pic>
      <p:sp>
        <p:nvSpPr>
          <p:cNvPr id="54" name="Text Box 4"/>
          <p:cNvSpPr/>
          <p:nvPr/>
        </p:nvSpPr>
        <p:spPr>
          <a:xfrm>
            <a:off x="152280" y="6400800"/>
            <a:ext cx="23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Cochemiea poselger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1619280" y="404640"/>
            <a:ext cx="58579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ffffff"/>
                </a:solidFill>
                <a:latin typeface="Segoe Script"/>
                <a:ea typeface="宋体"/>
              </a:rPr>
              <a:t>Caminha 0-30 minutos por dia e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ffffff"/>
                </a:solidFill>
                <a:latin typeface="Segoe Script"/>
                <a:ea typeface="宋体"/>
              </a:rPr>
              <a:t>sorri!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4000"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4" descr="Discocactus pugionacanthus"/>
          <p:cNvPicPr/>
          <p:nvPr/>
        </p:nvPicPr>
        <p:blipFill>
          <a:blip r:embed="rId1"/>
          <a:stretch/>
        </p:blipFill>
        <p:spPr>
          <a:xfrm>
            <a:off x="2438280" y="114480"/>
            <a:ext cx="5857920" cy="674352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5"/>
          <p:cNvSpPr/>
          <p:nvPr/>
        </p:nvSpPr>
        <p:spPr>
          <a:xfrm>
            <a:off x="0" y="6392880"/>
            <a:ext cx="243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Discocactus pugionacanthu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Text Box 6"/>
          <p:cNvSpPr/>
          <p:nvPr/>
        </p:nvSpPr>
        <p:spPr>
          <a:xfrm>
            <a:off x="108000" y="0"/>
            <a:ext cx="8232840" cy="19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Segoe Script"/>
                <a:ea typeface="宋体"/>
              </a:rPr>
              <a:t>Esquece factos do passado…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Segoe Script"/>
                <a:ea typeface="宋体"/>
              </a:rPr>
              <a:t>Eles arruinarão tua felicidade do present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5000"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" descr="Astrophytum coahuilense"/>
          <p:cNvPicPr/>
          <p:nvPr/>
        </p:nvPicPr>
        <p:blipFill>
          <a:blip r:embed="rId1"/>
          <a:stretch/>
        </p:blipFill>
        <p:spPr>
          <a:xfrm>
            <a:off x="2514600" y="114480"/>
            <a:ext cx="6305400" cy="674352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3"/>
          <p:cNvSpPr/>
          <p:nvPr/>
        </p:nvSpPr>
        <p:spPr>
          <a:xfrm>
            <a:off x="457200" y="639288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Astrophytum coahuilens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538920" y="-33480"/>
            <a:ext cx="772596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Segoe Script"/>
                <a:ea typeface="宋体"/>
              </a:rPr>
              <a:t>A vida é uma escola…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Segoe Script"/>
                <a:ea typeface="宋体"/>
              </a:rPr>
              <a:t>Estás nela para aprender. Problema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Segoe Script"/>
                <a:ea typeface="宋体"/>
              </a:rPr>
              <a:t>são apenas simples part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Segoe Script"/>
                <a:ea typeface="宋体"/>
              </a:rPr>
              <a:t>do curriculum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Segoe Script"/>
                <a:ea typeface="宋体"/>
              </a:rPr>
              <a:t>que aparece 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Segoe Script"/>
                <a:ea typeface="宋体"/>
              </a:rPr>
              <a:t>desaparece com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Segoe Script"/>
                <a:ea typeface="宋体"/>
              </a:rPr>
              <a:t>uma aula d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Segoe Script"/>
                <a:ea typeface="宋体"/>
              </a:rPr>
              <a:t>Álgebra…Só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Segoe Script"/>
                <a:ea typeface="宋体"/>
              </a:rPr>
              <a:t> </a:t>
            </a:r>
            <a:r>
              <a:rPr b="1" lang="pt-PT" sz="3200" spc="-1" strike="noStrike">
                <a:solidFill>
                  <a:srgbClr val="ffffff"/>
                </a:solidFill>
                <a:latin typeface="Segoe Script"/>
                <a:ea typeface="宋体"/>
              </a:rPr>
              <a:t>as liçõ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Segoe Script"/>
                <a:ea typeface="宋体"/>
              </a:rPr>
              <a:t>que aprend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Segoe Script"/>
                <a:ea typeface="宋体"/>
              </a:rPr>
              <a:t>ficam para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Segoe Script"/>
                <a:ea typeface="宋体"/>
              </a:rPr>
              <a:t>toda a vid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3000"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42e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Echinocereus subinermis"/>
          <p:cNvPicPr/>
          <p:nvPr/>
        </p:nvPicPr>
        <p:blipFill>
          <a:blip r:embed="rId1"/>
          <a:stretch/>
        </p:blipFill>
        <p:spPr>
          <a:xfrm>
            <a:off x="0" y="447840"/>
            <a:ext cx="8953560" cy="641016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3"/>
          <p:cNvSpPr/>
          <p:nvPr/>
        </p:nvSpPr>
        <p:spPr>
          <a:xfrm>
            <a:off x="838080" y="6240600"/>
            <a:ext cx="21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Echinocereus subinermi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-619200" y="111240"/>
            <a:ext cx="10159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Segoe Script"/>
                <a:ea typeface="宋体"/>
              </a:rPr>
              <a:t>Não tens que ganhar todas as discussõe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Segoe Script"/>
                <a:ea typeface="宋体"/>
              </a:rPr>
              <a:t>Concorda ou discorda</a:t>
            </a:r>
            <a:r>
              <a:rPr b="1" lang="pt-PT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5000"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a49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Echinomastus durangensis"/>
          <p:cNvPicPr/>
          <p:nvPr/>
        </p:nvPicPr>
        <p:blipFill>
          <a:blip r:embed="rId1"/>
          <a:stretch/>
        </p:blipFill>
        <p:spPr>
          <a:xfrm>
            <a:off x="380880" y="285840"/>
            <a:ext cx="8763120" cy="657216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5"/>
          <p:cNvSpPr/>
          <p:nvPr/>
        </p:nvSpPr>
        <p:spPr>
          <a:xfrm>
            <a:off x="0" y="6324480"/>
            <a:ext cx="21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Echinomastus durangensi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Text Box 6"/>
          <p:cNvSpPr/>
          <p:nvPr/>
        </p:nvSpPr>
        <p:spPr>
          <a:xfrm>
            <a:off x="0" y="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Segoe Script"/>
                <a:ea typeface="宋体"/>
              </a:rPr>
              <a:t>Não  compares a tua vida com a dos outro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Segoe Script"/>
                <a:ea typeface="宋体"/>
              </a:rPr>
              <a:t> </a:t>
            </a:r>
            <a:r>
              <a:rPr b="1" lang="pt-PT" sz="3200" spc="-1" strike="noStrike">
                <a:solidFill>
                  <a:srgbClr val="ffffff"/>
                </a:solidFill>
                <a:latin typeface="Segoe Script"/>
                <a:ea typeface="宋体"/>
              </a:rPr>
              <a:t>Não conheces os seus dias…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4000"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Ferobergia hybride"/>
          <p:cNvPicPr/>
          <p:nvPr/>
        </p:nvPicPr>
        <p:blipFill>
          <a:blip r:embed="rId1"/>
          <a:stretch/>
        </p:blipFill>
        <p:spPr>
          <a:xfrm>
            <a:off x="1362240" y="114480"/>
            <a:ext cx="7781760" cy="674352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5"/>
          <p:cNvSpPr/>
          <p:nvPr/>
        </p:nvSpPr>
        <p:spPr>
          <a:xfrm>
            <a:off x="0" y="639288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Ferobergia hybri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Text Box 6"/>
          <p:cNvSpPr/>
          <p:nvPr/>
        </p:nvSpPr>
        <p:spPr>
          <a:xfrm>
            <a:off x="376200" y="0"/>
            <a:ext cx="844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Segoe Script"/>
                <a:ea typeface="宋体"/>
              </a:rPr>
              <a:t>Faz as pazes com o passado …assim não estragarás o presente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6000"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Lobivia cinnabarin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3"/>
          <p:cNvSpPr/>
          <p:nvPr/>
        </p:nvSpPr>
        <p:spPr>
          <a:xfrm>
            <a:off x="6248520" y="654516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Lobivia cinnabarin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179280" y="189000"/>
            <a:ext cx="8785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Segoe Script"/>
                <a:ea typeface="宋体"/>
              </a:rPr>
              <a:t>O teu trabalho não tomará conta de ti quando estiveres doente.  Os teus amigos sim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Segoe Script"/>
                <a:ea typeface="宋体"/>
              </a:rPr>
              <a:t>Mantém-te em contacto com eles</a:t>
            </a:r>
            <a:r>
              <a:rPr b="1" lang="pt-PT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.</a:t>
            </a:r>
            <a:r>
              <a:rPr b="0" lang="pt-PT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5000"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03a3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Lobivia peclardiana"/>
          <p:cNvPicPr/>
          <p:nvPr/>
        </p:nvPicPr>
        <p:blipFill>
          <a:blip r:embed="rId1"/>
          <a:stretch/>
        </p:blipFill>
        <p:spPr>
          <a:xfrm>
            <a:off x="762120" y="114480"/>
            <a:ext cx="7629480" cy="674352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3"/>
          <p:cNvSpPr/>
          <p:nvPr/>
        </p:nvSpPr>
        <p:spPr>
          <a:xfrm>
            <a:off x="228600" y="647712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Lobivia peclardian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Text Box 4"/>
          <p:cNvSpPr/>
          <p:nvPr/>
        </p:nvSpPr>
        <p:spPr>
          <a:xfrm>
            <a:off x="376200" y="0"/>
            <a:ext cx="84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Segoe Script"/>
                <a:ea typeface="宋体"/>
              </a:rPr>
              <a:t>Perdoa a todos por tudo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5000"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c565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Mammillaria slevinii"/>
          <p:cNvPicPr/>
          <p:nvPr/>
        </p:nvPicPr>
        <p:blipFill>
          <a:blip r:embed="rId1"/>
          <a:stretch/>
        </p:blipFill>
        <p:spPr>
          <a:xfrm>
            <a:off x="1066680" y="114480"/>
            <a:ext cx="7039080" cy="674352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3"/>
          <p:cNvSpPr/>
          <p:nvPr/>
        </p:nvSpPr>
        <p:spPr>
          <a:xfrm>
            <a:off x="380880" y="6469200"/>
            <a:ext cx="175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Mammillaria slevini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Text Box 4"/>
          <p:cNvSpPr/>
          <p:nvPr/>
        </p:nvSpPr>
        <p:spPr>
          <a:xfrm>
            <a:off x="231840" y="0"/>
            <a:ext cx="8375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Segoe Script"/>
                <a:ea typeface="宋体"/>
              </a:rPr>
              <a:t>O que os outros pensam de ti não é da tua conta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5000"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4" descr="Copiapoa tenuissima"/>
          <p:cNvPicPr/>
          <p:nvPr/>
        </p:nvPicPr>
        <p:blipFill>
          <a:blip r:embed="rId1"/>
          <a:stretch/>
        </p:blipFill>
        <p:spPr>
          <a:xfrm>
            <a:off x="1981080" y="114480"/>
            <a:ext cx="6524640" cy="674352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5"/>
          <p:cNvSpPr/>
          <p:nvPr/>
        </p:nvSpPr>
        <p:spPr>
          <a:xfrm>
            <a:off x="152280" y="6248520"/>
            <a:ext cx="243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Copiapoa tenuissim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Text Box 6"/>
          <p:cNvSpPr/>
          <p:nvPr/>
        </p:nvSpPr>
        <p:spPr>
          <a:xfrm>
            <a:off x="555480" y="182520"/>
            <a:ext cx="7294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Segoe Script"/>
                <a:ea typeface="宋体"/>
              </a:rPr>
              <a:t>Embora a situação seja boa ou má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Segoe Script"/>
                <a:ea typeface="宋体"/>
              </a:rPr>
              <a:t>ela mudará!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5000"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Ortegocactus macdougallii"/>
          <p:cNvPicPr/>
          <p:nvPr/>
        </p:nvPicPr>
        <p:blipFill>
          <a:blip r:embed="rId1"/>
          <a:stretch/>
        </p:blipFill>
        <p:spPr>
          <a:xfrm>
            <a:off x="1763640" y="114480"/>
            <a:ext cx="7380360" cy="674352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3"/>
          <p:cNvSpPr/>
          <p:nvPr/>
        </p:nvSpPr>
        <p:spPr>
          <a:xfrm>
            <a:off x="0" y="6240600"/>
            <a:ext cx="1981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Ortegocactus macdougalli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0" y="260280"/>
            <a:ext cx="65008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Segoe Script"/>
                <a:ea typeface="宋体"/>
              </a:rPr>
              <a:t>Desfaz-te de TUDO qu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Segoe Script"/>
                <a:ea typeface="宋体"/>
              </a:rPr>
              <a:t>Não seja útil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Segoe Script"/>
                <a:ea typeface="宋体"/>
              </a:rPr>
              <a:t>bel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Segoe Script"/>
                <a:ea typeface="宋体"/>
              </a:rPr>
              <a:t>ou alegre.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5000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26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6" descr="Echinocereus pectinatus"/>
          <p:cNvPicPr/>
          <p:nvPr/>
        </p:nvPicPr>
        <p:blipFill>
          <a:blip r:embed="rId1"/>
          <a:stretch/>
        </p:blipFill>
        <p:spPr>
          <a:xfrm>
            <a:off x="0" y="428760"/>
            <a:ext cx="8953560" cy="6429240"/>
          </a:xfrm>
          <a:prstGeom prst="rect">
            <a:avLst/>
          </a:prstGeom>
          <a:ln w="0">
            <a:noFill/>
          </a:ln>
        </p:spPr>
      </p:pic>
      <p:sp>
        <p:nvSpPr>
          <p:cNvPr id="57" name="Text Box 7"/>
          <p:cNvSpPr/>
          <p:nvPr/>
        </p:nvSpPr>
        <p:spPr>
          <a:xfrm>
            <a:off x="304920" y="6324480"/>
            <a:ext cx="19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Echinocereus pectinatu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Text Box 8"/>
          <p:cNvSpPr/>
          <p:nvPr/>
        </p:nvSpPr>
        <p:spPr>
          <a:xfrm>
            <a:off x="1042920" y="38160"/>
            <a:ext cx="7345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Segoe Script"/>
                <a:ea typeface="宋体"/>
              </a:rPr>
              <a:t>Senta-te em silêncio, pelo menos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Segoe Script"/>
                <a:ea typeface="宋体"/>
              </a:rPr>
              <a:t>10 minutos por dia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4000"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455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Parodia spaniosa"/>
          <p:cNvPicPr/>
          <p:nvPr/>
        </p:nvPicPr>
        <p:blipFill>
          <a:blip r:embed="rId1"/>
          <a:stretch/>
        </p:blipFill>
        <p:spPr>
          <a:xfrm>
            <a:off x="1219320" y="114480"/>
            <a:ext cx="7924680" cy="674352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3"/>
          <p:cNvSpPr/>
          <p:nvPr/>
        </p:nvSpPr>
        <p:spPr>
          <a:xfrm>
            <a:off x="228600" y="6392880"/>
            <a:ext cx="175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Parodia spanios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Text Box 4"/>
          <p:cNvSpPr/>
          <p:nvPr/>
        </p:nvSpPr>
        <p:spPr>
          <a:xfrm>
            <a:off x="158760" y="189000"/>
            <a:ext cx="43498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Segoe Script"/>
                <a:ea typeface="宋体"/>
              </a:rPr>
              <a:t>Inveja é uma perda de temp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Segoe Script"/>
                <a:ea typeface="宋体"/>
              </a:rPr>
              <a:t>Já tens tudo o que necessitas</a:t>
            </a:r>
            <a:r>
              <a:rPr b="1" lang="pt-PT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5000"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2" descr="Strombocactus pulcherrimu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3"/>
          <p:cNvSpPr/>
          <p:nvPr/>
        </p:nvSpPr>
        <p:spPr>
          <a:xfrm>
            <a:off x="228600" y="6477120"/>
            <a:ext cx="20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Parodia spanios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Text Box 4"/>
          <p:cNvSpPr/>
          <p:nvPr/>
        </p:nvSpPr>
        <p:spPr>
          <a:xfrm>
            <a:off x="231840" y="115920"/>
            <a:ext cx="424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Segoe Script"/>
                <a:ea typeface="宋体"/>
              </a:rPr>
              <a:t>O melhor está ainda para vir.</a:t>
            </a:r>
            <a:r>
              <a:rPr b="0" lang="pt-PT" sz="1400" spc="-1" strike="noStrike">
                <a:solidFill>
                  <a:srgbClr val="ffffff"/>
                </a:solidFill>
                <a:latin typeface="Segoe Script"/>
                <a:ea typeface="宋体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4000"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  <p:pic>
        <p:nvPicPr>
          <p:cNvPr id="149" name="Picture 9" descr="http://blogimages.bloggen.be/cactussen/123-c789d26835de9486a04e844c78eab23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7"/>
          <p:cNvSpPr/>
          <p:nvPr/>
        </p:nvSpPr>
        <p:spPr>
          <a:xfrm>
            <a:off x="376200" y="115920"/>
            <a:ext cx="8372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Segoe Script"/>
                <a:ea typeface="宋体"/>
              </a:rPr>
              <a:t>Não importa como te sentes, levanta-te, veste-te e aparece.</a:t>
            </a:r>
            <a:r>
              <a:rPr b="0" lang="pt-PT" sz="3200" spc="-1" strike="noStrike">
                <a:solidFill>
                  <a:srgbClr val="ffffff"/>
                </a:solidFill>
                <a:latin typeface="Segoe Script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5000"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5" descr="http://blogimages.bloggen.be/cactussen/128-80d41187d544e909890aa283e65b837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94368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3"/>
          <p:cNvSpPr/>
          <p:nvPr/>
        </p:nvSpPr>
        <p:spPr>
          <a:xfrm>
            <a:off x="519120" y="115920"/>
            <a:ext cx="8085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Segoe Script"/>
                <a:ea typeface="宋体"/>
              </a:rPr>
              <a:t>Não exageres. Mantém os teus limites</a:t>
            </a:r>
            <a:r>
              <a:rPr b="1" lang="pt-PT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5000"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9" descr="http://blogimages.bloggen.be/cactussen/4-fec39180376a2e585d6ba77a848c075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4360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3"/>
          <p:cNvSpPr/>
          <p:nvPr/>
        </p:nvSpPr>
        <p:spPr>
          <a:xfrm>
            <a:off x="4140360" y="115920"/>
            <a:ext cx="43192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Text Box 4"/>
          <p:cNvSpPr/>
          <p:nvPr/>
        </p:nvSpPr>
        <p:spPr>
          <a:xfrm>
            <a:off x="250920" y="0"/>
            <a:ext cx="871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Segoe Script"/>
                <a:ea typeface="宋体"/>
              </a:rPr>
              <a:t>O teu íntimo está feliz a maior parte das vezes. Portanto sê feliz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5000"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9" descr="http://blogimages.bloggen.be/cactussen/226-3fd123d66749aed47864a66230bee7c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8644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3"/>
          <p:cNvSpPr/>
          <p:nvPr/>
        </p:nvSpPr>
        <p:spPr>
          <a:xfrm>
            <a:off x="4716360" y="404640"/>
            <a:ext cx="4570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Segoe Script"/>
                <a:ea typeface="宋体"/>
              </a:rPr>
              <a:t>Faz o que está certo!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5000"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5" descr="http://blogimages.bloggen.be/cactussen/139-5126bfa8c5978396d86bee4fbe22b8f4.JPG"/>
          <p:cNvPicPr/>
          <p:nvPr/>
        </p:nvPicPr>
        <p:blipFill>
          <a:blip r:embed="rId1"/>
          <a:stretch/>
        </p:blipFill>
        <p:spPr>
          <a:xfrm>
            <a:off x="0" y="-100080"/>
            <a:ext cx="9144000" cy="695808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3"/>
          <p:cNvSpPr/>
          <p:nvPr/>
        </p:nvSpPr>
        <p:spPr>
          <a:xfrm>
            <a:off x="1042920" y="38160"/>
            <a:ext cx="6985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Segoe Script"/>
                <a:ea typeface="宋体"/>
              </a:rPr>
              <a:t>Fala muitas vezes com a tua família.</a:t>
            </a:r>
            <a:r>
              <a:rPr b="0" lang="pt-PT" sz="1400" spc="-1" strike="noStrike">
                <a:solidFill>
                  <a:srgbClr val="ffffff"/>
                </a:solidFill>
                <a:latin typeface="Segoe Script"/>
                <a:ea typeface="宋体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5000"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9" descr="http://blogimages.bloggen.be/cactussen/172-31cfca5a481d7a1c8f5efae284226a9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4360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3"/>
          <p:cNvSpPr/>
          <p:nvPr/>
        </p:nvSpPr>
        <p:spPr>
          <a:xfrm>
            <a:off x="3924360" y="38160"/>
            <a:ext cx="504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Segoe Script"/>
                <a:ea typeface="宋体"/>
              </a:rPr>
              <a:t>Cada dia dá alguma coisa boa aos outro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4000">
    <p:wheel spokes="8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  <p:pic>
        <p:nvPicPr>
          <p:cNvPr id="163" name="Picture 9" descr="http://blogimages.bloggen.be/cactussen/229-fc83c2f7eb0633c09dfc9676479cd1d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11"/>
          <p:cNvSpPr/>
          <p:nvPr/>
        </p:nvSpPr>
        <p:spPr>
          <a:xfrm>
            <a:off x="76320" y="-33480"/>
            <a:ext cx="9067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Segoe Script"/>
                <a:ea typeface="宋体"/>
              </a:rPr>
              <a:t>Reenvia para alguém que te seja querid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5" name="图片 6" descr="slide0075_image041.gif"/>
          <p:cNvPicPr/>
          <p:nvPr/>
        </p:nvPicPr>
        <p:blipFill>
          <a:blip r:embed="rId2"/>
          <a:stretch/>
        </p:blipFill>
        <p:spPr>
          <a:xfrm>
            <a:off x="4572000" y="5143680"/>
            <a:ext cx="438120" cy="571320"/>
          </a:xfrm>
          <a:prstGeom prst="rect">
            <a:avLst/>
          </a:prstGeom>
          <a:ln w="0">
            <a:noFill/>
          </a:ln>
        </p:spPr>
      </p:pic>
    </p:spTree>
  </p:cSld>
  <p:transition spd="slow" advTm="16000">
    <p:zoom dir="out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Coryphantha wohlschlageri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60" name="Text Box 5"/>
          <p:cNvSpPr/>
          <p:nvPr/>
        </p:nvSpPr>
        <p:spPr>
          <a:xfrm>
            <a:off x="1676520" y="6316560"/>
            <a:ext cx="24382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Coryphantha wohlschlager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Text Box 6"/>
          <p:cNvSpPr/>
          <p:nvPr/>
        </p:nvSpPr>
        <p:spPr>
          <a:xfrm>
            <a:off x="179280" y="4076640"/>
            <a:ext cx="35308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400" spc="-1" strike="noStrike">
                <a:solidFill>
                  <a:srgbClr val="ffffff"/>
                </a:solidFill>
                <a:latin typeface="Segoe Script"/>
                <a:ea typeface="宋体"/>
              </a:rPr>
              <a:t>Dorme durante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400" spc="-1" strike="noStrike">
                <a:solidFill>
                  <a:srgbClr val="ffffff"/>
                </a:solidFill>
                <a:latin typeface="Segoe Script"/>
                <a:ea typeface="宋体"/>
              </a:rPr>
              <a:t>7 horas…</a:t>
            </a:r>
            <a:r>
              <a:rPr b="0" lang="pt-PT" sz="2000" spc="-1" strike="noStrike">
                <a:solidFill>
                  <a:srgbClr val="ffffff"/>
                </a:solidFill>
                <a:latin typeface="Segoe Script"/>
                <a:ea typeface="宋体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4000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3" descr="Lobivia tiegeliana"/>
          <p:cNvPicPr/>
          <p:nvPr/>
        </p:nvPicPr>
        <p:blipFill>
          <a:blip r:embed="rId1"/>
          <a:stretch/>
        </p:blipFill>
        <p:spPr>
          <a:xfrm>
            <a:off x="0" y="515880"/>
            <a:ext cx="8964720" cy="6342120"/>
          </a:xfrm>
          <a:prstGeom prst="rect">
            <a:avLst/>
          </a:prstGeom>
          <a:ln w="0">
            <a:noFill/>
          </a:ln>
        </p:spPr>
      </p:pic>
      <p:sp>
        <p:nvSpPr>
          <p:cNvPr id="63" name="Text Box 4"/>
          <p:cNvSpPr/>
          <p:nvPr/>
        </p:nvSpPr>
        <p:spPr>
          <a:xfrm>
            <a:off x="7010280" y="6553080"/>
            <a:ext cx="20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Lobivia tiegelian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Text Box 5"/>
          <p:cNvSpPr/>
          <p:nvPr/>
        </p:nvSpPr>
        <p:spPr>
          <a:xfrm>
            <a:off x="158760" y="38160"/>
            <a:ext cx="8516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Segoe Script"/>
                <a:ea typeface="宋体"/>
              </a:rPr>
              <a:t>Vive com os 3 E's : Energia, Entusiasmo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Segoe Script"/>
                <a:ea typeface="宋体"/>
              </a:rPr>
              <a:t>e Empatia</a:t>
            </a:r>
            <a:r>
              <a:rPr b="1" lang="pt-PT" sz="3200" spc="-1" strike="noStrike">
                <a:solidFill>
                  <a:srgbClr val="ffffff"/>
                </a:solidFill>
                <a:latin typeface="Monotype Corsiva"/>
                <a:ea typeface="宋体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4000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3" descr="Astrophytum super kabuto"/>
          <p:cNvPicPr/>
          <p:nvPr/>
        </p:nvPicPr>
        <p:blipFill>
          <a:blip r:embed="rId1"/>
          <a:stretch/>
        </p:blipFill>
        <p:spPr>
          <a:xfrm>
            <a:off x="0" y="428760"/>
            <a:ext cx="8953560" cy="6333840"/>
          </a:xfrm>
          <a:prstGeom prst="rect">
            <a:avLst/>
          </a:prstGeom>
          <a:ln w="0">
            <a:noFill/>
          </a:ln>
        </p:spPr>
      </p:pic>
      <p:sp>
        <p:nvSpPr>
          <p:cNvPr id="66" name="Text Box 4"/>
          <p:cNvSpPr/>
          <p:nvPr/>
        </p:nvSpPr>
        <p:spPr>
          <a:xfrm>
            <a:off x="152280" y="6400800"/>
            <a:ext cx="2210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Astrophytum super kabut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Text Box 5"/>
          <p:cNvSpPr/>
          <p:nvPr/>
        </p:nvSpPr>
        <p:spPr>
          <a:xfrm>
            <a:off x="0" y="182520"/>
            <a:ext cx="4129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ffffff"/>
                </a:solidFill>
                <a:latin typeface="Segoe Script"/>
                <a:ea typeface="宋体"/>
              </a:rPr>
              <a:t>Pratica mais desportos.</a:t>
            </a:r>
            <a:r>
              <a:rPr b="0" lang="pt-PT" sz="1800" spc="-1" strike="noStrike">
                <a:solidFill>
                  <a:srgbClr val="ffffff"/>
                </a:solidFill>
                <a:latin typeface="Segoe Script"/>
                <a:ea typeface="宋体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5000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Rebutia poecilantha"/>
          <p:cNvPicPr/>
          <p:nvPr/>
        </p:nvPicPr>
        <p:blipFill>
          <a:blip r:embed="rId1"/>
          <a:stretch/>
        </p:blipFill>
        <p:spPr>
          <a:xfrm>
            <a:off x="190440" y="523800"/>
            <a:ext cx="8953560" cy="6334200"/>
          </a:xfrm>
          <a:prstGeom prst="rect">
            <a:avLst/>
          </a:prstGeom>
          <a:ln w="0">
            <a:noFill/>
          </a:ln>
        </p:spPr>
      </p:pic>
      <p:sp>
        <p:nvSpPr>
          <p:cNvPr id="69" name="Text Box 3"/>
          <p:cNvSpPr/>
          <p:nvPr/>
        </p:nvSpPr>
        <p:spPr>
          <a:xfrm>
            <a:off x="152280" y="6545160"/>
            <a:ext cx="289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Rebutia poecilanth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592200" y="182520"/>
            <a:ext cx="808344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800" spc="-1" strike="noStrike">
                <a:solidFill>
                  <a:srgbClr val="ffffff"/>
                </a:solidFill>
                <a:latin typeface="Segoe Script"/>
                <a:ea typeface="宋体"/>
              </a:rPr>
              <a:t>Lê mais livros!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ffffff"/>
                </a:solidFill>
                <a:latin typeface="Segoe Script"/>
                <a:ea typeface="宋体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4000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Lobivia robust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Text Box 3"/>
          <p:cNvSpPr/>
          <p:nvPr/>
        </p:nvSpPr>
        <p:spPr>
          <a:xfrm>
            <a:off x="228600" y="6324480"/>
            <a:ext cx="281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Lobivia robust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460800" y="38160"/>
            <a:ext cx="379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Segoe Script"/>
                <a:ea typeface="宋体"/>
              </a:rPr>
              <a:t>Bebe muita água!</a:t>
            </a:r>
            <a:r>
              <a:rPr b="1" lang="pt-PT" sz="1400" spc="-1" strike="noStrike">
                <a:solidFill>
                  <a:srgbClr val="ffffff"/>
                </a:solidFill>
                <a:latin typeface="Segoe Script"/>
                <a:ea typeface="宋体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4000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0b0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4" descr="Discocactus horstii"/>
          <p:cNvPicPr/>
          <p:nvPr/>
        </p:nvPicPr>
        <p:blipFill>
          <a:blip r:embed="rId1"/>
          <a:stretch/>
        </p:blipFill>
        <p:spPr>
          <a:xfrm>
            <a:off x="1542960" y="71280"/>
            <a:ext cx="6058080" cy="6715440"/>
          </a:xfrm>
          <a:prstGeom prst="rect">
            <a:avLst/>
          </a:prstGeom>
          <a:ln w="0">
            <a:noFill/>
          </a:ln>
        </p:spPr>
      </p:pic>
      <p:sp>
        <p:nvSpPr>
          <p:cNvPr id="75" name="Text Box 5"/>
          <p:cNvSpPr/>
          <p:nvPr/>
        </p:nvSpPr>
        <p:spPr>
          <a:xfrm>
            <a:off x="990720" y="624060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Discocactus horsti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Text Box 6"/>
          <p:cNvSpPr/>
          <p:nvPr/>
        </p:nvSpPr>
        <p:spPr>
          <a:xfrm>
            <a:off x="250920" y="0"/>
            <a:ext cx="86421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Segoe Script"/>
                <a:ea typeface="宋体"/>
              </a:rPr>
              <a:t>Come mais alimentos que crescem em árvores e plantas e come menos alimentos que são fabricados em  fábrica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4000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28T20:37:40Z</dcterms:created>
  <dc:creator>filo</dc:creator>
  <dc:description/>
  <dc:language>en-US</dc:language>
  <cp:lastModifiedBy>user</cp:lastModifiedBy>
  <dcterms:modified xsi:type="dcterms:W3CDTF">2011-11-13T18:02:40Z</dcterms:modified>
  <cp:revision>4</cp:revision>
  <dc:subject/>
  <dc:title>Diapositivo 1</dc:title>
</cp:coreProperties>
</file>