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1.gif" ContentType="image/gif"/>
  <Override PartName="/ppt/media/image8.jpeg" ContentType="image/jpeg"/>
  <Override PartName="/ppt/media/image3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sound003.wav" ContentType="audio/x-wav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7306-1078-45C2-A531-365A491499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DED-1605-40DC-AB2B-DB8D26EC83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5202-48E7-4A3B-9E5C-DF29756C9B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6CCB-6056-4797-8586-FB3410381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37B-08E7-4406-B49C-7CBC15D96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101E-8D45-4D0A-987E-84F13FF8D4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DCC-768B-48BB-8E4C-BC9651A0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EC6-3CDE-4E53-B574-0807A24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FEF-5ADB-4C69-8B4D-1FBA17F5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E4E-2C9C-4A4F-8EBB-7AC754FB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B08-589C-4DBA-A3F4-DD164711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4CB-97C1-417A-83F8-1F91DF3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780-AF13-447E-9ABD-4D082F1E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C97-8891-43FA-BF5D-5B767A2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E9F-9F50-494D-A220-26CC5273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545-B656-4753-874D-FDE720A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53C-5811-43A9-B514-D3033C3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F74-25C7-4104-8D4A-9F17FF9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EE7B-DE89-45E6-A57D-39DD930FAC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sound003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eader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7461360"/>
          </a:xfrm>
          <a:prstGeom prst="rect">
            <a:avLst/>
          </a:prstGeom>
          <a:ln w="0">
            <a:noFill/>
          </a:ln>
        </p:spPr>
      </p:pic>
      <p:pic>
        <p:nvPicPr>
          <p:cNvPr id="49" name="piano - Clyderman Richard.mp3" descr=""/>
          <p:cNvPicPr/>
          <p:nvPr/>
        </p:nvPicPr>
        <p:blipFill>
          <a:blip r:embed="rId2"/>
          <a:stretch/>
        </p:blipFill>
        <p:spPr>
          <a:xfrm>
            <a:off x="3851280" y="6021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0" name="春之声圆舞曲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62040" y="1630440"/>
            <a:ext cx="570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egoe UI"/>
                <a:ea typeface="Arial"/>
              </a:rPr>
              <a:t>EM 201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egoe UI"/>
                <a:ea typeface="Arial"/>
              </a:rPr>
              <a:t>EM 20……….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63840" y="620640"/>
            <a:ext cx="39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Segoe UI"/>
                <a:ea typeface="Arial"/>
              </a:rPr>
              <a:t>EM 201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9000">
    <p:zoom dir="out"/>
    <p:sndAc>
      <p:stSnd>
        <p:snd r:embed="rId4" name="sound00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4d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chinocereus reichenbachii"/>
          <p:cNvPicPr/>
          <p:nvPr/>
        </p:nvPicPr>
        <p:blipFill>
          <a:blip r:embed="rId1"/>
          <a:stretch/>
        </p:blipFill>
        <p:spPr>
          <a:xfrm>
            <a:off x="1042920" y="114480"/>
            <a:ext cx="6858000" cy="6743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219320" y="63244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reichenbach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63480" y="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ome um pequeno almoço como um rei,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4359240"/>
            <a:ext cx="374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lmoça como um prínc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01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 janta como um pedint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Oroya peruviana"/>
          <p:cNvPicPr/>
          <p:nvPr/>
        </p:nvPicPr>
        <p:blipFill>
          <a:blip r:embed="rId1"/>
          <a:stretch/>
        </p:blipFill>
        <p:spPr>
          <a:xfrm>
            <a:off x="2352600" y="142920"/>
            <a:ext cx="6791400" cy="6715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oya peruv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38160"/>
            <a:ext cx="902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rranja tempo para meditar e rezar. Isso providencia-nos o nosso “combustível” diário para as nossas muito ocupadas vida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scobaria minima"/>
          <p:cNvPicPr/>
          <p:nvPr/>
        </p:nvPicPr>
        <p:blipFill>
          <a:blip r:embed="rId1"/>
          <a:stretch/>
        </p:blipFill>
        <p:spPr>
          <a:xfrm>
            <a:off x="304920" y="790560"/>
            <a:ext cx="8572320" cy="6067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80880" y="6392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min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92200" y="2541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onha mais enquanto estás acorda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ebutia pallida"/>
          <p:cNvPicPr/>
          <p:nvPr/>
        </p:nvPicPr>
        <p:blipFill>
          <a:blip r:embed="rId1"/>
          <a:stretch/>
        </p:blipFill>
        <p:spPr>
          <a:xfrm>
            <a:off x="990720" y="114480"/>
            <a:ext cx="7448400" cy="674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28600" y="6392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all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58760" y="115920"/>
            <a:ext cx="880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47840" y="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orri e ri m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9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scobaria wissmannii"/>
          <p:cNvPicPr/>
          <p:nvPr/>
        </p:nvPicPr>
        <p:blipFill>
          <a:blip r:embed="rId1"/>
          <a:stretch/>
        </p:blipFill>
        <p:spPr>
          <a:xfrm>
            <a:off x="571680" y="104760"/>
            <a:ext cx="8572320" cy="675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52280" y="5257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scobaria wissman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115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z com que, pelo menos, três pessoas sorriam cada dia.</a:t>
            </a:r>
            <a:r>
              <a:rPr b="0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a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ammillaria albiflora"/>
          <p:cNvPicPr/>
          <p:nvPr/>
        </p:nvPicPr>
        <p:blipFill>
          <a:blip r:embed="rId1"/>
          <a:stretch/>
        </p:blipFill>
        <p:spPr>
          <a:xfrm>
            <a:off x="609480" y="114480"/>
            <a:ext cx="7896240" cy="6743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29528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albiflo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95280" y="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percas teu precioso tempo com mecheric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Echinocereus klapperi"/>
          <p:cNvPicPr/>
          <p:nvPr/>
        </p:nvPicPr>
        <p:blipFill>
          <a:blip r:embed="rId1"/>
          <a:stretch/>
        </p:blipFill>
        <p:spPr>
          <a:xfrm>
            <a:off x="785880" y="114480"/>
            <a:ext cx="7257960" cy="6743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066680" y="63165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klapp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4200" y="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tenhas pensamentos negativos acerca de coisas que não podes controlar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796000" y="3786120"/>
            <a:ext cx="32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Investe a tua energia nos momentos positivos do presente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b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Echinocereus polyacanthus"/>
          <p:cNvPicPr/>
          <p:nvPr/>
        </p:nvPicPr>
        <p:blipFill>
          <a:blip r:embed="rId1"/>
          <a:stretch/>
        </p:blipFill>
        <p:spPr>
          <a:xfrm>
            <a:off x="1176480" y="61920"/>
            <a:ext cx="6791040" cy="673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219320" y="63928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oly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8760" y="0"/>
            <a:ext cx="88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Gasta tempo com pessoas com mais de 70 anos &amp; com menos de 6.</a:t>
            </a:r>
            <a:r>
              <a:rPr b="0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Neowerdermannia vorwerkii"/>
          <p:cNvPicPr/>
          <p:nvPr/>
        </p:nvPicPr>
        <p:blipFill>
          <a:blip r:embed="rId1"/>
          <a:stretch/>
        </p:blipFill>
        <p:spPr>
          <a:xfrm>
            <a:off x="2200320" y="114480"/>
            <a:ext cx="6943680" cy="674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6400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Neowerdermannia vorwerk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4000" y="18900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 vida é muito curta…não a  gastes a odiar alguém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atucana krahnii"/>
          <p:cNvPicPr/>
          <p:nvPr/>
        </p:nvPicPr>
        <p:blipFill>
          <a:blip r:embed="rId1"/>
          <a:stretch/>
        </p:blipFill>
        <p:spPr>
          <a:xfrm>
            <a:off x="814320" y="57240"/>
            <a:ext cx="7515360" cy="6743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5800" y="6469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tucana krah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10120" y="254160"/>
            <a:ext cx="56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te leves muito a sério.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4000" y="1484280"/>
            <a:ext cx="30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inguém mais o fa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ochemiea poselgeri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52280" y="6400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chemiea posel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619280" y="404640"/>
            <a:ext cx="585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Segoe Script"/>
                <a:ea typeface="宋体"/>
              </a:rPr>
              <a:t>Caminha 0-30 minutos por dia 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Segoe Script"/>
                <a:ea typeface="宋体"/>
              </a:rPr>
              <a:t>sorri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iscocactus pugionacanthus"/>
          <p:cNvPicPr/>
          <p:nvPr/>
        </p:nvPicPr>
        <p:blipFill>
          <a:blip r:embed="rId1"/>
          <a:stretch/>
        </p:blipFill>
        <p:spPr>
          <a:xfrm>
            <a:off x="2438280" y="114480"/>
            <a:ext cx="5857920" cy="6743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0" y="63928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pugionacanth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8000" y="0"/>
            <a:ext cx="82328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squece factos do passado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les arruinarão tua felicidade do pre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strophytum coahuilense"/>
          <p:cNvPicPr/>
          <p:nvPr/>
        </p:nvPicPr>
        <p:blipFill>
          <a:blip r:embed="rId1"/>
          <a:stretch/>
        </p:blipFill>
        <p:spPr>
          <a:xfrm>
            <a:off x="2514600" y="114480"/>
            <a:ext cx="6305400" cy="6743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457200" y="6392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coahuil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8920" y="-33480"/>
            <a:ext cx="7725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 vida é uma escola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stás nela para aprender. Problem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ão apenas simples par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do curricul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que aparece 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desaparece c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uma aul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Álgebra…S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as li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que apren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icam pa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toda a v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e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chinocereus subinermis"/>
          <p:cNvPicPr/>
          <p:nvPr/>
        </p:nvPicPr>
        <p:blipFill>
          <a:blip r:embed="rId1"/>
          <a:stretch/>
        </p:blipFill>
        <p:spPr>
          <a:xfrm>
            <a:off x="0" y="447840"/>
            <a:ext cx="8953560" cy="6410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838080" y="624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subinerm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-619200" y="111240"/>
            <a:ext cx="101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tens que ganhar todas as discussõ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oncorda ou discorda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chinomastus durangensis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6324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mastus durangen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 compares a tua vida com a dos ou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conheces os seus dias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Ferobergia hybride"/>
          <p:cNvPicPr/>
          <p:nvPr/>
        </p:nvPicPr>
        <p:blipFill>
          <a:blip r:embed="rId1"/>
          <a:stretch/>
        </p:blipFill>
        <p:spPr>
          <a:xfrm>
            <a:off x="1362240" y="114480"/>
            <a:ext cx="7781760" cy="6743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6392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Ferobergia hybri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6200" y="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z as pazes com o passado …assim não estragarás o pres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obivia cinnabari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248520" y="65451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cinnabari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18900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teu trabalho não tomará conta de ti quando estiveres doente.  Os teus amigos si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Mantém-te em contacto com ele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a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obivia peclardiana"/>
          <p:cNvPicPr/>
          <p:nvPr/>
        </p:nvPicPr>
        <p:blipFill>
          <a:blip r:embed="rId1"/>
          <a:stretch/>
        </p:blipFill>
        <p:spPr>
          <a:xfrm>
            <a:off x="762120" y="114480"/>
            <a:ext cx="7629480" cy="6743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6477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peclard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Perdoa a todos por tu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Mammillaria slevinii"/>
          <p:cNvPicPr/>
          <p:nvPr/>
        </p:nvPicPr>
        <p:blipFill>
          <a:blip r:embed="rId1"/>
          <a:stretch/>
        </p:blipFill>
        <p:spPr>
          <a:xfrm>
            <a:off x="1066680" y="114480"/>
            <a:ext cx="7039080" cy="6743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80880" y="6469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mmillaria slevin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1840" y="0"/>
            <a:ext cx="83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que os outros pensam de ti não é da tua con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opiapoa tenuissima"/>
          <p:cNvPicPr/>
          <p:nvPr/>
        </p:nvPicPr>
        <p:blipFill>
          <a:blip r:embed="rId1"/>
          <a:stretch/>
        </p:blipFill>
        <p:spPr>
          <a:xfrm>
            <a:off x="1981080" y="114480"/>
            <a:ext cx="6524640" cy="6743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522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piapoa tenuissi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55480" y="182520"/>
            <a:ext cx="72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mbora a situação seja boa ou má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la mudará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Ortegocactus macdougallii"/>
          <p:cNvPicPr/>
          <p:nvPr/>
        </p:nvPicPr>
        <p:blipFill>
          <a:blip r:embed="rId1"/>
          <a:stretch/>
        </p:blipFill>
        <p:spPr>
          <a:xfrm>
            <a:off x="1763640" y="114480"/>
            <a:ext cx="7380360" cy="67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0" y="624060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Ortegocactus macdougall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260280"/>
            <a:ext cx="650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Desfaz-te de TUD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seja úti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b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u alegr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26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Echinocereus pectinatus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429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04920" y="632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Echinocereus pectin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042920" y="381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Senta-te em silêncio, pelo meno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10 minutos por d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5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arodia spaniosa"/>
          <p:cNvPicPr/>
          <p:nvPr/>
        </p:nvPicPr>
        <p:blipFill>
          <a:blip r:embed="rId1"/>
          <a:stretch/>
        </p:blipFill>
        <p:spPr>
          <a:xfrm>
            <a:off x="1219320" y="114480"/>
            <a:ext cx="7924680" cy="6743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28600" y="6392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58760" y="189000"/>
            <a:ext cx="434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Inveja é uma perda de t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Já tens tudo o que necessita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Strombocactus pulcherri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28600" y="6477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Parodia spanio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31840" y="1159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melhor está ainda para vir.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49" name="Picture 9" descr="http://blogimages.bloggen.be/cactussen/123-c789d26835de9486a04e844c78eab23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76200" y="115920"/>
            <a:ext cx="837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importa como te sentes, levanta-te, veste-te e aparece.</a:t>
            </a:r>
            <a:r>
              <a:rPr b="0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http://blogimages.bloggen.be/cactussen/128-80d41187d544e909890aa283e65b83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19120" y="115920"/>
            <a:ext cx="80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Não exageres. Mantém os teus limites</a:t>
            </a:r>
            <a:r>
              <a:rPr b="1" lang="pt-PT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http://blogimages.bloggen.be/cactussen/4-fec39180376a2e585d6ba77a848c0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4140360" y="115920"/>
            <a:ext cx="4319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0920" y="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O teu íntimo está feliz a maior parte das vezes. Portanto sê feliz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http://blogimages.bloggen.be/cactussen/226-3fd123d66749aed47864a66230bee7c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4716360" y="404640"/>
            <a:ext cx="45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z o que está certo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http://blogimages.bloggen.be/cactussen/139-5126bfa8c5978396d86bee4fbe22b8f4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042920" y="381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Fala muitas vezes com a tua família.</a:t>
            </a:r>
            <a:r>
              <a:rPr b="0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http://blogimages.bloggen.be/cactussen/172-31cfca5a481d7a1c8f5efae284226a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924360" y="3816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ada dia dá alguma coisa boa aos outr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63" name="Picture 9" descr="http://blogimages.bloggen.be/cactussen/229-fc83c2f7eb0633c09dfc9676479cd1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76320" y="-334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Reenvia para alguém que te seja quer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图片 6" descr="slide0075_image041.gif"/>
          <p:cNvPicPr/>
          <p:nvPr/>
        </p:nvPicPr>
        <p:blipFill>
          <a:blip r:embed="rId2"/>
          <a:stretch/>
        </p:blipFill>
        <p:spPr>
          <a:xfrm>
            <a:off x="4572000" y="5143680"/>
            <a:ext cx="438120" cy="571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oryphantha wohlschlageri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676520" y="6316560"/>
            <a:ext cx="2438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Coryphantha wohlschlager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79280" y="4076640"/>
            <a:ext cx="353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Segoe Script"/>
                <a:ea typeface="宋体"/>
              </a:rPr>
              <a:t>Dorme durant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Segoe Script"/>
                <a:ea typeface="宋体"/>
              </a:rPr>
              <a:t>7 horas…</a:t>
            </a:r>
            <a:r>
              <a:rPr b="0" lang="pt-PT" sz="20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Lobivia tiegeliana"/>
          <p:cNvPicPr/>
          <p:nvPr/>
        </p:nvPicPr>
        <p:blipFill>
          <a:blip r:embed="rId1"/>
          <a:stretch/>
        </p:blipFill>
        <p:spPr>
          <a:xfrm>
            <a:off x="0" y="515880"/>
            <a:ext cx="8964720" cy="634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701028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tiegeli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8760" y="38160"/>
            <a:ext cx="851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Vive com os 3 E's : Energia, Entusiasm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e Empatia</a:t>
            </a:r>
            <a:r>
              <a:rPr b="1" lang="pt-PT" sz="3200" spc="-1" strike="noStrike">
                <a:solidFill>
                  <a:srgbClr val="ffffff"/>
                </a:solidFill>
                <a:latin typeface="Monotype Corsiva"/>
                <a:ea typeface="宋体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Astrophytum super kabuto"/>
          <p:cNvPicPr/>
          <p:nvPr/>
        </p:nvPicPr>
        <p:blipFill>
          <a:blip r:embed="rId1"/>
          <a:stretch/>
        </p:blipFill>
        <p:spPr>
          <a:xfrm>
            <a:off x="0" y="428760"/>
            <a:ext cx="8953560" cy="633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522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Astrophytum super kabu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182520"/>
            <a:ext cx="41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Segoe Script"/>
                <a:ea typeface="宋体"/>
              </a:rPr>
              <a:t>Pratica mais desportos.</a:t>
            </a:r>
            <a:r>
              <a:rPr b="0" lang="pt-PT" sz="18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ebutia poecilantha"/>
          <p:cNvPicPr/>
          <p:nvPr/>
        </p:nvPicPr>
        <p:blipFill>
          <a:blip r:embed="rId1"/>
          <a:stretch/>
        </p:blipFill>
        <p:spPr>
          <a:xfrm>
            <a:off x="190440" y="523800"/>
            <a:ext cx="8953560" cy="6334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2280" y="654516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Rebutia poecilanth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2200" y="182520"/>
            <a:ext cx="8083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ffffff"/>
                </a:solidFill>
                <a:latin typeface="Segoe Script"/>
                <a:ea typeface="宋体"/>
              </a:rPr>
              <a:t>Lê mais livros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Lobivia robus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28600" y="6324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Lobivia robu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0800" y="38160"/>
            <a:ext cx="37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Bebe muita água!</a:t>
            </a:r>
            <a:r>
              <a:rPr b="1" lang="pt-PT" sz="1400" spc="-1" strike="noStrike">
                <a:solidFill>
                  <a:srgbClr val="ffffff"/>
                </a:solidFill>
                <a:latin typeface="Segoe Script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iscocactus horstii"/>
          <p:cNvPicPr/>
          <p:nvPr/>
        </p:nvPicPr>
        <p:blipFill>
          <a:blip r:embed="rId1"/>
          <a:stretch/>
        </p:blipFill>
        <p:spPr>
          <a:xfrm>
            <a:off x="1542960" y="71280"/>
            <a:ext cx="6058080" cy="6715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990720" y="6240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Discocactus horst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50920" y="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Segoe Script"/>
                <a:ea typeface="宋体"/>
              </a:rPr>
              <a:t>Come mais alimentos que crescem em árvores e plantas e come menos alimentos que são fabricados em  fábric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37:40Z</dcterms:created>
  <dc:creator>filo</dc:creator>
  <dc:description/>
  <dc:language>en-US</dc:language>
  <cp:lastModifiedBy>user</cp:lastModifiedBy>
  <dcterms:modified xsi:type="dcterms:W3CDTF">2011-11-13T18:02:40Z</dcterms:modified>
  <cp:revision>4</cp:revision>
  <dc:subject/>
  <dc:title>Diapositivo 1</dc:title>
</cp:coreProperties>
</file>