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216-2D73-485D-8FF8-12C0F5B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044-84AB-4B41-932A-2776213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BF7-EC08-41E3-B0F4-A43A6C62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48D-98A2-412F-A1BE-C2494659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C35-6FD5-4762-A112-60D97F3F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CCC-D0DF-47E8-8D7E-20BF671C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032-1EF2-4E03-8A6D-3CF66D8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F35-2A86-4159-A786-FACAC3CF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96F-1EF4-41F5-8358-C020F564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DA9-08B5-4AA7-94C1-CD18815A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E48-2137-4093-A4BA-9EACEDF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15F-8DF8-4290-B2EA-558BA3C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A3D-92EB-43AD-896D-B06F2CCB198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Família de 17…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filh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תמונה 1" descr="semya_39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3"/>
          <p:cNvSpPr/>
          <p:nvPr/>
        </p:nvSpPr>
        <p:spPr>
          <a:xfrm>
            <a:off x="3920040" y="62866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cozinh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תמונה 1" descr="semya_40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תמונה 1" descr="semya_41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2"/>
          <p:cNvSpPr/>
          <p:nvPr/>
        </p:nvSpPr>
        <p:spPr>
          <a:xfrm>
            <a:off x="3422520" y="6500880"/>
            <a:ext cx="17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tis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תמונה 1" descr="semya_42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2"/>
          <p:cNvSpPr/>
          <p:nvPr/>
        </p:nvSpPr>
        <p:spPr>
          <a:xfrm>
            <a:off x="4287960" y="650088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rin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תמונה 1" descr="semya_43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2"/>
          <p:cNvSpPr/>
          <p:nvPr/>
        </p:nvSpPr>
        <p:spPr>
          <a:xfrm>
            <a:off x="3046320" y="62866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og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תמונה 1" descr="semya_44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תמונה 1" descr="semya_45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2"/>
          <p:cNvSpPr/>
          <p:nvPr/>
        </p:nvSpPr>
        <p:spPr>
          <a:xfrm>
            <a:off x="2744640" y="6357960"/>
            <a:ext cx="40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té há matraquilh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תמונה 1" descr="semya_46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תמונה 1" descr="semya_47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תמונה 1" descr="semya_48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72" name="CaixaDeTexto 2"/>
          <p:cNvSpPr/>
          <p:nvPr/>
        </p:nvSpPr>
        <p:spPr>
          <a:xfrm>
            <a:off x="2892600" y="642924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dormitório dos menin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1" descr="semya_3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2"/>
          <p:cNvSpPr/>
          <p:nvPr/>
        </p:nvSpPr>
        <p:spPr>
          <a:xfrm>
            <a:off x="1714680" y="6357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erlin Sans FB Demi"/>
              </a:rPr>
              <a:t>Confere!  Verifica com os teus próprios olhos</a:t>
            </a:r>
            <a:r>
              <a:rPr b="1" lang="pt-PT" sz="1800" spc="-1" strike="noStrike">
                <a:solidFill>
                  <a:srgbClr val="000000"/>
                </a:solidFill>
                <a:latin typeface="Berlin Sans FB Dem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תמונה 1" descr="semya_49.jpg"/>
          <p:cNvPicPr/>
          <p:nvPr/>
        </p:nvPicPr>
        <p:blipFill>
          <a:blip r:embed="rId1"/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2"/>
          <p:cNvSpPr/>
          <p:nvPr/>
        </p:nvSpPr>
        <p:spPr>
          <a:xfrm>
            <a:off x="-187200" y="2571840"/>
            <a:ext cx="24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om acesso ao sótã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תמונה 1" descr="semya_50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CaixaDeTexto 2"/>
          <p:cNvSpPr/>
          <p:nvPr/>
        </p:nvSpPr>
        <p:spPr>
          <a:xfrm>
            <a:off x="3914640" y="6500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ista 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תמונה 1" descr="semya_5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תמונה 1" descr="semya_52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79" name="CaixaDeTexto 2"/>
          <p:cNvSpPr/>
          <p:nvPr/>
        </p:nvSpPr>
        <p:spPr>
          <a:xfrm>
            <a:off x="3138120" y="635796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ega aqui na crianç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תמונה 1" descr="semya_53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81" name="CaixaDeTexto 2"/>
          <p:cNvSpPr/>
          <p:nvPr/>
        </p:nvSpPr>
        <p:spPr>
          <a:xfrm>
            <a:off x="2981160" y="63579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eixa ver se tens piolh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תמונה 1" descr="semya_54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83" name="CaixaDeTexto 2"/>
          <p:cNvSpPr/>
          <p:nvPr/>
        </p:nvSpPr>
        <p:spPr>
          <a:xfrm>
            <a:off x="3006720" y="621504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“camarata” das menina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תמונה 1" descr="semya_55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CaixaDeTexto 2"/>
          <p:cNvSpPr/>
          <p:nvPr/>
        </p:nvSpPr>
        <p:spPr>
          <a:xfrm>
            <a:off x="247320" y="26431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as 7 irmã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á ajudam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תמונה 1" descr="semya_56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2"/>
          <p:cNvSpPr/>
          <p:nvPr/>
        </p:nvSpPr>
        <p:spPr>
          <a:xfrm>
            <a:off x="2819520" y="650088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Faz-se de tudo um pouc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תמונה 1" descr="semya_5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2"/>
          <p:cNvSpPr/>
          <p:nvPr/>
        </p:nvSpPr>
        <p:spPr>
          <a:xfrm>
            <a:off x="-181080" y="24289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uida-se da cas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תמונה 1" descr="semya_58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תמונה 1" descr="semya_32.jpg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תמונה 1" descr="semya_5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2"/>
          <p:cNvSpPr/>
          <p:nvPr/>
        </p:nvSpPr>
        <p:spPr>
          <a:xfrm>
            <a:off x="3252960" y="642924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ssa-se a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תמונה 1" descr="semya_60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aixaDeTexto 2"/>
          <p:cNvSpPr/>
          <p:nvPr/>
        </p:nvSpPr>
        <p:spPr>
          <a:xfrm>
            <a:off x="413280" y="32148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stud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תמונה 1" descr="semya_61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CaixaDeTexto 2"/>
          <p:cNvSpPr/>
          <p:nvPr/>
        </p:nvSpPr>
        <p:spPr>
          <a:xfrm>
            <a:off x="53640" y="271476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is os heró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a história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תמונה 1" descr="semya_62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תמונה 1" descr="semya_63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2"/>
          <p:cNvSpPr/>
          <p:nvPr/>
        </p:nvSpPr>
        <p:spPr>
          <a:xfrm>
            <a:off x="2143080" y="628668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principal local de trabalh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תמונה 1" descr="semya_6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תמונה 1" descr="semya_65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2"/>
          <p:cNvSpPr/>
          <p:nvPr/>
        </p:nvSpPr>
        <p:spPr>
          <a:xfrm>
            <a:off x="3855960" y="63579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 roupari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תמונה 1" descr="semya_66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CaixaDeTexto 2"/>
          <p:cNvSpPr/>
          <p:nvPr/>
        </p:nvSpPr>
        <p:spPr>
          <a:xfrm>
            <a:off x="293040" y="2857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 escorreg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תמונה 1" descr="semya_67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2"/>
          <p:cNvSpPr/>
          <p:nvPr/>
        </p:nvSpPr>
        <p:spPr>
          <a:xfrm>
            <a:off x="2674440" y="6429240"/>
            <a:ext cx="39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qui… pratica-se desporto radical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תמונה 1" descr="semya_68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תמונה 1" descr="semya_33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483480" y="300024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Cassul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תמונה 1" descr="semya_69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תמונה 1" descr="semya_70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2"/>
          <p:cNvSpPr/>
          <p:nvPr/>
        </p:nvSpPr>
        <p:spPr>
          <a:xfrm>
            <a:off x="0" y="29289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ou fazer xixi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תמונה 1" descr="semya_71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2"/>
          <p:cNvSpPr/>
          <p:nvPr/>
        </p:nvSpPr>
        <p:spPr>
          <a:xfrm>
            <a:off x="2200320" y="635796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Grande?!  São 17, né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תמונה 1" descr="semya_72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תמונה 1" descr="semya_73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תמונה 1" descr="semya_7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2"/>
          <p:cNvSpPr/>
          <p:nvPr/>
        </p:nvSpPr>
        <p:spPr>
          <a:xfrm>
            <a:off x="-135000" y="29289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Na hora da comid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תמונה 1" descr="semya_75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תמונה 1" descr="semya_76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2"/>
          <p:cNvSpPr/>
          <p:nvPr/>
        </p:nvSpPr>
        <p:spPr>
          <a:xfrm>
            <a:off x="124200" y="2714760"/>
            <a:ext cx="222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êem as mã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amo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ar graças a Deu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תמונה 1" descr="semya_77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תמונה 1" descr="semya_78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תמונה 1" descr="semya_34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2"/>
          <p:cNvSpPr/>
          <p:nvPr/>
        </p:nvSpPr>
        <p:spPr>
          <a:xfrm>
            <a:off x="3225960" y="6286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Lava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תמונה 1" descr="semya_79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3" name="CaixaDeTexto 2"/>
          <p:cNvSpPr/>
          <p:nvPr/>
        </p:nvSpPr>
        <p:spPr>
          <a:xfrm>
            <a:off x="3088440" y="6357960"/>
            <a:ext cx="31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E agora… vamos à músic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תמונה 1" descr="semya_8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תמונה 1" descr="semya_81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תמונה 1" descr="semya_82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2"/>
          <p:cNvSpPr/>
          <p:nvPr/>
        </p:nvSpPr>
        <p:spPr>
          <a:xfrm>
            <a:off x="866880" y="642924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Os 17 (continuam todos por cá) e, finalmente, a casita por fora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תמונה 1" descr="semya_83.jpg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2"/>
          <p:cNvSpPr/>
          <p:nvPr/>
        </p:nvSpPr>
        <p:spPr>
          <a:xfrm>
            <a:off x="3354480" y="628668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Brincando ao ar livr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תמונה 1" descr="semya_8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תמונה 1" descr="semya_85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תמונה 1" descr="semya_86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71640" y="5157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7120" y="5214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eeece1"/>
                </a:solidFill>
                <a:latin typeface="Arial"/>
              </a:rPr>
              <a:t>Reparaste que, por toda a casa, não havia televisões</a:t>
            </a:r>
            <a:r>
              <a:rPr b="1" lang="es-VE" sz="2400" spc="-1" strike="noStrike">
                <a:solidFill>
                  <a:srgbClr val="eeece1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"/>
              </a:rPr>
              <a:t>Entendeste, agora, ou queres que te explique</a:t>
            </a:r>
            <a:r>
              <a:rPr b="1" lang="es-VE" sz="2400" spc="-1" strike="noStrike">
                <a:solidFill>
                  <a:srgbClr val="ffffff"/>
                </a:solidFill>
                <a:latin typeface="Arial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תמונה 1" descr="semya_35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2"/>
          <p:cNvSpPr/>
          <p:nvPr/>
        </p:nvSpPr>
        <p:spPr>
          <a:xfrm>
            <a:off x="456840" y="27860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Jog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תמונה 1" descr="semya_36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273400" y="0"/>
            <a:ext cx="4597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311400" y="3000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Verifica-se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תמונה 1" descr="semya_37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0" y="6429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Cada um tem o seu copo privativo, podes conferir!  17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תמונה 1" descr="semya_38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3"/>
          <p:cNvSpPr/>
          <p:nvPr/>
        </p:nvSpPr>
        <p:spPr>
          <a:xfrm>
            <a:off x="571680" y="635796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ara 17 filhos… uma casa grande, né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4:08:31Z</dcterms:created>
  <dc:creator>zarga</dc:creator>
  <dc:description/>
  <dc:language>en-US</dc:language>
  <cp:lastModifiedBy>Lenovo User</cp:lastModifiedBy>
  <dcterms:modified xsi:type="dcterms:W3CDTF">2010-01-31T19:19:49Z</dcterms:modified>
  <cp:revision>17</cp:revision>
  <dc:subject/>
  <dc:title>Familia con 17 hijos</dc:title>
</cp:coreProperties>
</file>