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chicken.wav" ContentType="audio/x-wav"/>
  <Override PartName="/ppt/media/image6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7312-FCB8-4648-A260-99796A90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B47D-03EC-4827-9E36-3049DFB6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4CB7-07E1-40B6-A636-37EB2EB7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3A03-4290-46BB-B3F0-831176E6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150F-1FF0-4065-ACBE-599405F2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F4E-9640-4B49-A483-E88360F1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5F0-CAE9-41E0-A627-66711CA4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B16-D2B5-4A66-B9CB-694B8F20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6FDC-2498-45A4-8008-BE473C78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F401-086D-41EF-A628-0AC3293B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9B3E-F7EA-47D3-A442-80C460B2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B2C7-B49E-463B-BB8C-08294A24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BF33-B102-48C9-8DC8-032DC6A95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chicken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image" Target="../media/image7.gi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114800" y="4952880"/>
            <a:ext cx="1211400" cy="1371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43828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54380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791320" y="4876920"/>
            <a:ext cx="1096920" cy="1463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393840"/>
            <a:ext cx="8893080" cy="3385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Num hospital havia um paciente gravemente enfermo.                     Os familiares estavam reunidos na sala de espera                              quando entrou o médico, cansado e preocupado:</a:t>
            </a:r>
            <a:br>
              <a:rPr sz="2400"/>
            </a:b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-"Sinto ser portador de más notícias", disse,                                      olhando  os rostos preocupados.</a:t>
            </a:r>
            <a:br>
              <a:rPr sz="2400"/>
            </a:b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- A única esperança para seu familiar consiste num transplante de cérebro. É algo experimental , arriscado e                                           economicamente por conta de vocês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”...</a:t>
            </a:r>
            <a:r>
              <a:rPr b="1" lang="ar-SA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6" name="chicke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114800" y="4952880"/>
            <a:ext cx="1211400" cy="137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12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43828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54380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796000" y="4869000"/>
            <a:ext cx="1096920" cy="1463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1447920" y="2971800"/>
            <a:ext cx="1463400" cy="1496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1280" y="333360"/>
            <a:ext cx="7921440" cy="2494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Os  familiares permaneceram sentados escutando as graves notícias, até que um deles perguntou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-”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Mas quanto custa um cérebro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-”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Depende” respondeu o médico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-”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5000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dólares um de homem e 200 um de mulher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114800" y="4952880"/>
            <a:ext cx="121140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212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43828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54380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791320" y="4876920"/>
            <a:ext cx="1096920" cy="1463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635280" y="2852640"/>
            <a:ext cx="1463760" cy="1497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6804000" y="1557360"/>
            <a:ext cx="1096920" cy="1428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476280"/>
            <a:ext cx="8569080" cy="1381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Se fez um grande silêncio na sala, alguns homens tentavam não rir, até que um não conteve a curiosidade e perguntou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-”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Doutor, a que se deve a diferença de preço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114800" y="4952880"/>
            <a:ext cx="121140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6212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43828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754380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5791320" y="4876920"/>
            <a:ext cx="1096920" cy="1463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826920" y="2997360"/>
            <a:ext cx="1463760" cy="1496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7380360" y="3141720"/>
            <a:ext cx="1096920" cy="1428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4000" y="476280"/>
            <a:ext cx="8353440" cy="2113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O médico sorriu diante da pergunta tão INOCENTE e contestou:</a:t>
            </a:r>
            <a:br>
              <a:rPr sz="2400"/>
            </a:b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-“É só uma polític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lógica de preços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Tivemos  que abaixar os preços dos cérebros femininos visto que eles eram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3048120"/>
            <a:ext cx="5234040" cy="1191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OS ÚNICOS QUE VINHAM USADOS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!!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9640" y="549360"/>
            <a:ext cx="7991640" cy="4703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Comic Sans MS"/>
              </a:rPr>
              <a:t>ENVIE ESTE E-MAIL À UMA MULHER INTELIGENTE QUE NECESSITE UMA BOA RISADA E AOS HOMENS QUE VOCÊ ACHA QUE PODEM SUPORTAR SABER DISTO</a:t>
            </a:r>
            <a:r>
              <a:rPr b="1" lang="es-ES" sz="2400" spc="-1" strike="noStrike">
                <a:solidFill>
                  <a:srgbClr val="ff99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Cumprimentos a todos os homens que sorriram quando chegaram ao meio da história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E beijos a todas as mulheres que sorriram no final</a:t>
            </a:r>
            <a:r>
              <a:rPr b="1" lang="es-ES" sz="2400" spc="-1" strike="noStrike">
                <a:solidFill>
                  <a:srgbClr val="ff9933"/>
                </a:solidFill>
                <a:latin typeface="Times New Roman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768840" y="22654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16000" y="5749920"/>
            <a:ext cx="3024360" cy="631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292720" y="5734080"/>
            <a:ext cx="3095640" cy="631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114800" y="4952880"/>
            <a:ext cx="1211400" cy="1371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43828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543800" y="48769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5791320" y="4876920"/>
            <a:ext cx="1096920" cy="1463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447920" y="2971800"/>
            <a:ext cx="1463400" cy="1496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553080" y="3200400"/>
            <a:ext cx="1096920" cy="1428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3809880" y="1066680"/>
            <a:ext cx="1646280" cy="1863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2286000" y="1371600"/>
            <a:ext cx="846000" cy="1360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6172200" y="1371600"/>
            <a:ext cx="914400" cy="142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116000" y="476280"/>
            <a:ext cx="6934320" cy="532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Arial Black"/>
              </a:rPr>
              <a:t>QUE VOCÊ TENHA UM DIA MARAVILHOS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>
    <p:randomBa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11:48:31Z</dcterms:created>
  <dc:creator>Room2</dc:creator>
  <dc:description/>
  <dc:language>en-US</dc:language>
  <cp:lastModifiedBy>CVRD</cp:lastModifiedBy>
  <dcterms:modified xsi:type="dcterms:W3CDTF">2006-05-08T11:40:20Z</dcterms:modified>
  <cp:revision>18</cp:revision>
  <dc:subject/>
  <dc:title>BUEN PRECIO</dc:title>
</cp:coreProperties>
</file>