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20A-C655-46D0-AD2A-399643D3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487-ACC0-4056-8550-B146817E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8B3-56F4-4723-B302-BA50C9B6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D0F-A680-4EB4-80DB-0E89A5BD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794-A92B-447F-9C36-8A72F7FA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68E-113E-467A-9811-9A9FD1FB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069-13DF-4839-9398-2275A8C5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728-681E-4F87-9882-7CC469FE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88D-0B47-469F-8A3B-49DDF676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015-A3C2-466E-BEE3-A6FA6640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1918-C90A-4E21-B5F9-9704FD14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D9B-0EF0-46B9-8753-F32EB4C7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7955-5CF3-4440-9251-29047A27A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SN00283A0000%5B1%5D.wav" TargetMode="External"/><Relationship Id="rId2" Type="http://schemas.microsoft.com/office/2007/relationships/media" Target="file:///tmp/home/.config/libreoffice/4/user/gallery/MSSN00283A0000%5B1%5D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ães matam crocodilo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na Flórida . . 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332000" y="2133720"/>
            <a:ext cx="6264360" cy="16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, Hi, H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869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creditaste mesmo, né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92360" y="450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53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 0.00439 C -0.25243 -0.02081 -0.24774 -0.04485 -0.23819 -0.04485 C -0.22743 -0.04485 -0.22378 -0.02081 -0.22031 0.00439 C -0.21545 0.03237 -0.21197 0.06035 -0.2 0.06035 C -0.18923 0.06035 -0.18576 0.03237 -0.18107 0.00439 C -0.17881 -0.02081 -0.17413 -0.04485 -0.16336 -0.04485 C -0.15381 -0.04485 -0.14913 -0.02081 -0.14531 0.00439 C -0.14184 0.03237 -0.13715 0.06035 -0.12638 0.06035 C -0.11562 0.06035 -0.10729 0.00439 -0.10729 0.00463 C -0.10381 -0.02081 -0.10017 -0.04485 -0.08958 -0.04485 C -0.07881 -0.04485 -0.07517 -0.02081 -0.0717 0.00439 C -0.06684 0.03237 -0.06336 0.06035 -0.05138 0.06035 C -0.04062 0.06035 -0.03715 0.03237 -0.03368 0.00439 C -0.02899 -0.02081 -0.02552 -0.04485 -0.01475 -0.04485 C -0.0052 -0.04485 -0.00052 -0.02081 0.0033 0.00439 C 0.00678 0.03237 0.01146 0.06035 0.02223 0.06035 C 0.03299 0.06035 0.03646 0.03237 0.04132 0.00439 E">
                                      <p:cBhvr>
                                        <p:cTn id="22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36"/>
                            </p:stCondLst>
                            <p:childTnLst>
                              <p:par>
                                <p:cTn id="24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32 0.00439 C 0.04462 -0.02081 0.04914 -0.04485 0.05834 -0.04485 C 0.06858 -0.04485 0.07223 -0.02081 0.07553 0.00439 C 0.08004 0.03237 0.08351 0.06035 0.09497 0.06035 C 0.10521 0.06035 0.10869 0.03237 0.1132 0.00439 C 0.11528 -0.02081 0.11997 -0.04485 0.13021 -0.04485 C 0.13941 -0.04485 0.14393 -0.02081 0.1474 0.00439 C 0.15087 0.03237 0.15539 0.06035 0.16563 0.06035 C 0.17605 0.06035 0.18403 0.00439 0.18403 0.00463 C 0.18733 -0.02081 0.1908 -0.04485 0.20105 -0.04485 C 0.21129 -0.04485 0.21494 -0.02081 0.21823 0.00439 C 0.22275 0.03237 0.22622 0.06035 0.23768 0.06035 C 0.24792 0.06035 0.25139 0.03237 0.25469 0.00439 C 0.25921 -0.02081 0.26268 -0.04485 0.27292 -0.04485 C 0.28212 -0.04485 0.28664 -0.02081 0.29011 0.00439 C 0.29358 0.03237 0.29809 0.06035 0.30834 0.06035 C 0.31875 0.06035 0.32205 0.03237 0.32674 0.00439 E">
                                      <p:cBhvr>
                                        <p:cTn id="25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536"/>
                            </p:stCondLst>
                            <p:childTnLst>
                              <p:par>
                                <p:cTn id="27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674 0.00439 C 0.32969 -0.02081 0.33386 -0.04485 0.34219 -0.04485 C 0.35157 -0.04485 0.35487 -0.02081 0.35782 0.00439 C 0.36198 0.03237 0.36511 0.06035 0.37553 0.06035 C 0.3849 0.06035 0.38803 0.03237 0.39219 0.00439 C 0.3941 -0.02081 0.39827 -0.04485 0.40764 -0.04485 C 0.41598 -0.04485 0.42014 -0.02081 0.42344 0.00439 C 0.42639 0.03237 0.43056 0.06035 0.43994 0.06035 C 0.44931 0.06035 0.4566 0.00439 0.4566 0.00463 C 0.45973 -0.02081 0.46285 -0.04485 0.47205 -0.04485 C 0.48143 -0.04485 0.48473 -0.02081 0.48785 0.00439 C 0.49202 0.03237 0.49497 0.06035 0.50556 0.06035 C 0.51494 0.06035 0.51789 0.03237 0.52101 0.00439 C 0.52518 -0.02081 0.5283 -0.04485 0.53768 -0.04485 C 0.54601 -0.04485 0.55018 -0.02081 0.5533 0.00439 C 0.55643 0.03237 0.56059 0.06035 0.56997 0.06035 C 0.57934 0.06035 0.58247 0.03237 0.58664 0.00439 E">
                                      <p:cBhvr>
                                        <p:cTn id="28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536"/>
                            </p:stCondLst>
                            <p:childTnLst>
                              <p:par>
                                <p:cTn id="30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664 0.00439 C 0.58959 -0.02081 0.5941 -0.04485 0.60278 -0.04485 C 0.61285 -0.04485 0.61615 -0.02081 0.61945 0.00439 C 0.62396 0.03237 0.62709 0.06035 0.6382 0.06035 C 0.64827 0.06035 0.65139 0.03237 0.65591 0.00439 C 0.65782 -0.02081 0.66233 -0.04485 0.6724 -0.04485 C 0.68108 -0.04485 0.68559 -0.02081 0.68907 0.00439 C 0.69219 0.03237 0.69653 0.06035 0.7066 0.06035 C 0.7165 0.06035 0.72414 0.00439 0.72414 0.00463 C 0.72761 -0.02081 0.73091 -0.04485 0.74063 -0.04485 C 0.75053 -0.04485 0.754 -0.02081 0.7573 0.00439 C 0.76181 0.03237 0.76494 0.06035 0.77605 0.06035 C 0.78612 0.06035 0.78924 0.03237 0.79254 0.00439 C 0.79705 -0.02081 0.80018 -0.04485 0.81025 -0.04485 C 0.81893 -0.04485 0.82344 -0.02081 0.82691 0.00439 C 0.83004 0.03237 0.83455 0.06035 0.84462 0.06035 C 0.85434 0.06035 0.85782 0.03237 0.86233 0.00439 E">
                                      <p:cBhvr>
                                        <p:cTn id="31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8000" y="314172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RESSIONANT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239436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do um dos maiores predadores do mundo, o crocodilo leva fama de destruidor, mas de uma forma inexplicável foi morto por cães famintos e sedentos de san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184464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a foto foi tirada no pântano da FLÓRIDA por pesquis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orme explicou um dos professores, esses cães estavam sem comer há mais de 3 dias e o encontro foi inevitá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242100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a raça de cão está sendo criada em laboratório a fim de eliminar a grande quantidade de crocodilos que ameaçam a população da regi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25257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, a natureza é cruel mas há também beleza nessa crueld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56536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crocodilo, como um dos últimos predadores, pode ser vitima da Estratégia do trabalho de equipe que é possível devido à mentalidade e estrutura social dos cani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2708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lique mais uma vez para ver a fo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6560" y="4797360"/>
            <a:ext cx="67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imagem contém cenas de grande violê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nto aqui fica o aviso: pense duas vezes antes de continu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croc.jpg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2:40:40Z</dcterms:created>
  <dc:creator>Ilufa</dc:creator>
  <dc:description/>
  <dc:language>en-US</dc:language>
  <cp:lastModifiedBy>Ilufa</cp:lastModifiedBy>
  <dcterms:modified xsi:type="dcterms:W3CDTF">2006-09-06T12:40:59Z</dcterms:modified>
  <cp:revision>9</cp:revision>
  <dc:subject/>
  <dc:title>Cães matam crocodilo na Flórida . . . </dc:title>
</cp:coreProperties>
</file>